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9E4-2446-434E-A244-62280281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C5C-3771-422C-BF27-9384CCAC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674-B3FF-4607-A86B-DB968E33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0BA-B236-4E15-AC0E-F0AF584E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D38-203A-462E-8585-FDD9E766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28BD-97A8-4D7B-9657-6B0464E1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F49-827F-43A8-95BF-E11BC89D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5EA-22E8-4219-8867-1791CFD4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492-2493-4080-A17D-FDE755C8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A6C-8889-48B8-8DB6-F758048A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4AF-63A7-46F3-BC3A-97266174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66F-E598-4A04-866F-055E7511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531F9-90DC-4E5E-8D32-619A7DEB38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8ACDF-91F0-4737-BDAB-1D68352A7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4" descr="huincha_superior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n 4" descr="huincha_superior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64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464847"/>
                </a:solidFill>
                <a:latin typeface="Century Gothic"/>
              </a:rPr>
              <a:t>Criterios Calificación Informe Final IN69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1" lang="es-ES" sz="3200" spc="-1" strike="noStrike">
                <a:solidFill>
                  <a:srgbClr val="464847"/>
                </a:solidFill>
                <a:latin typeface="Century Gothic"/>
              </a:rPr>
              <a:t>Agosto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64847"/>
                </a:solidFill>
                <a:latin typeface="Century Gothic"/>
              </a:rPr>
              <a:t>William Bae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n 4" descr="huincha_superior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solidFill>
            <a:srgbClr val="bfbfb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Criterios Básicos y Adi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8" descr=""/>
          <p:cNvPicPr/>
          <p:nvPr/>
        </p:nvPicPr>
        <p:blipFill>
          <a:blip r:embed="rId1"/>
          <a:stretch/>
        </p:blipFill>
        <p:spPr>
          <a:xfrm>
            <a:off x="144360" y="1390680"/>
            <a:ext cx="87724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solidFill>
            <a:srgbClr val="bfbfb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Criterios Básicos y Adi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87724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solidFill>
            <a:srgbClr val="bfbfb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Mis comentarios usu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Rectángulo"/>
          <p:cNvSpPr/>
          <p:nvPr/>
        </p:nvSpPr>
        <p:spPr>
          <a:xfrm>
            <a:off x="357120" y="1562040"/>
            <a:ext cx="8501040" cy="4653000"/>
          </a:xfrm>
          <a:prstGeom prst="rect">
            <a:avLst/>
          </a:prstGeom>
          <a:solidFill>
            <a:srgbClr val="f2dcdb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¿Cuál es la necesi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¿Qué? ¿Por qué? ¿Para qué? ¿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Motivación débil: colocar las cosas en persp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Marco conceptual in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Coherencia del objetivo general con el resto del in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Metodología inadec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Falta de aproximación científica en la estrategia empí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Errores tipográficos en tablas y gráficos o son poco inf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Carta Gantt poco detal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Uso inadecuado de bibli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Subutilización de Anex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64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464847"/>
                </a:solidFill>
                <a:latin typeface="Century Gothic"/>
              </a:rPr>
              <a:t>Criterios Calificación Informe Final IN69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1" lang="es-ES" sz="3200" spc="-1" strike="noStrike">
                <a:solidFill>
                  <a:srgbClr val="464847"/>
                </a:solidFill>
                <a:latin typeface="Century Gothic"/>
              </a:rPr>
              <a:t>Agosto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64847"/>
                </a:solidFill>
                <a:latin typeface="Century Gothic"/>
              </a:rPr>
              <a:t>William Bae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n 4" descr="huincha_superior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9:27:00Z</dcterms:created>
  <dc:creator>William Baeza</dc:creator>
  <dc:description/>
  <dc:language>en-US</dc:language>
  <cp:lastModifiedBy>Willy</cp:lastModifiedBy>
  <dcterms:modified xsi:type="dcterms:W3CDTF">2010-09-01T03:49:17Z</dcterms:modified>
  <cp:revision>1684</cp:revision>
  <dc:subject/>
  <dc:title>Presentación 1</dc:title>
</cp:coreProperties>
</file>