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D6C-8126-42A7-A26F-4CDAAA4E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D84-9D79-453F-B3BA-F88ACC49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38E-756A-4AAD-837F-276AC80E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09F-6715-46D9-97A7-B2548C3D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893-C985-476C-98A3-A7365EA7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96B-0C4D-4813-B978-25B970CA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D24-6688-47B8-A102-40A31718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C92-DE5A-456E-9388-D0255560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EA7-1662-4BB4-84AA-379A605E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71F-FF36-4637-88C7-4DB63855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043-692B-4D22-9AC0-4A7823A9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308-0674-4A71-8622-D2CCD855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F35AC-7468-45C3-8C82-4A8B0AD9B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49BC6-82B1-450C-8376-902DA85F4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8" descr=""/>
          <p:cNvPicPr/>
          <p:nvPr/>
        </p:nvPicPr>
        <p:blipFill>
          <a:blip r:embed="rId1"/>
          <a:stretch/>
        </p:blipFill>
        <p:spPr>
          <a:xfrm>
            <a:off x="144360" y="1390680"/>
            <a:ext cx="87724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87724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Mis comentarios usu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Rectángulo"/>
          <p:cNvSpPr/>
          <p:nvPr/>
        </p:nvSpPr>
        <p:spPr>
          <a:xfrm>
            <a:off x="357120" y="1562040"/>
            <a:ext cx="8501040" cy="4653000"/>
          </a:xfrm>
          <a:prstGeom prst="rect">
            <a:avLst/>
          </a:prstGeom>
          <a:solidFill>
            <a:srgbClr val="f2dcd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Cuál es la necesi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Qué? ¿Por qué? ¿Para qué? 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otivación débil: colocar las cosas en persp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arco conceptual in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oherencia del objetivo general con el resto del in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etodología in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Falta de aproximación científica en la estrateg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Errores tipográficos en tablas y gráficos o son poco in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arta Gantt poco deta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Uso inadecuado de bibli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Subutilización de Anex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9:27:00Z</dcterms:created>
  <dc:creator>William Baeza</dc:creator>
  <dc:description/>
  <dc:language>en-US</dc:language>
  <cp:lastModifiedBy>Willy</cp:lastModifiedBy>
  <dcterms:modified xsi:type="dcterms:W3CDTF">2010-09-01T03:49:17Z</dcterms:modified>
  <cp:revision>1684</cp:revision>
  <dc:subject/>
  <dc:title>Presentación 1</dc:title>
</cp:coreProperties>
</file>