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449-8086-4175-AD1E-832D5BD7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BA0-06F0-4D7F-82F1-429305C4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BA8-65FF-4AEB-9C59-A29F1123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86A-2C81-402B-9883-920F3E2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41A-2A01-4C1C-BF32-82720274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DAA-5AF8-4A5A-8C37-D58C022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0B0-8111-48CB-AA5C-03265BE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067-880C-42CC-81CC-879978A4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6EA-20D2-40CA-AC99-A6C36F9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4F2-12F5-47F2-8C66-628E254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38D-B16B-4493-8FC1-14DC59A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A2E-1F45-419A-914E-878D005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B2638-EC88-4A9F-9255-B02CD969C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984D0-DC81-4F2B-978C-BA841B9BA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8" descr=""/>
          <p:cNvPicPr/>
          <p:nvPr/>
        </p:nvPicPr>
        <p:blipFill>
          <a:blip r:embed="rId1"/>
          <a:stretch/>
        </p:blipFill>
        <p:spPr>
          <a:xfrm>
            <a:off x="144360" y="1390680"/>
            <a:ext cx="8772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72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Mis comentarios us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Rectángulo"/>
          <p:cNvSpPr/>
          <p:nvPr/>
        </p:nvSpPr>
        <p:spPr>
          <a:xfrm>
            <a:off x="357120" y="1562040"/>
            <a:ext cx="8501040" cy="4653000"/>
          </a:xfrm>
          <a:prstGeom prst="rect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Cuál es la neces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Qué? ¿Por qué? ¿Para qué? 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otivación débil: colocar las cosas en 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arco conceptual in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oherencia del objetivo general con el resto del in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etodología in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Falta de aproximación científica en la estrateg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Errores tipográficos en tablas y gráficos o son poco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arta Gantt poco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Uso inadecuado de 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Subutilización de Ane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7:00Z</dcterms:created>
  <dc:creator>William Baeza</dc:creator>
  <dc:description/>
  <dc:language>en-US</dc:language>
  <cp:lastModifiedBy>Willy</cp:lastModifiedBy>
  <dcterms:modified xsi:type="dcterms:W3CDTF">2010-09-01T03:49:17Z</dcterms:modified>
  <cp:revision>1684</cp:revision>
  <dc:subject/>
  <dc:title>Presentación 1</dc:title>
</cp:coreProperties>
</file>