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83F-4AC3-460E-B5CE-5C06B5DB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3AB-B273-49A2-BDB7-F9BAB677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B8A8-A298-49FE-ABA5-B8E53013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712-007E-4F28-A95D-7D9198B0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D6B0-0BDC-4444-91E1-CCD5723A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FF0B-A998-43ED-8729-B6B752EC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CF9B-259A-43E9-AD8F-5B336FD7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4BB2-23DA-413F-A1BE-B726001C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0AF4-26F0-4283-BE1E-E639A25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ABB2-1B12-4C6B-932C-C857CB97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08AD-6088-42C2-B1F0-3FE8197A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7D2-A6DD-4628-8C68-E0C88B02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3271-4CF8-4328-A20C-21AFE04A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C4BF-CA36-49B8-B39E-09D4B548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71E6-E727-4826-8519-6FD2A0E9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053F-C036-444F-B1B8-9D85ADD1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9727-0BA3-4F3F-A4D5-A5736E2B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3EB-F432-4261-BCA2-186E0791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B65-BAE8-4439-B57D-972312CF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985-1DF6-4F08-80CF-06A8B034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3993-E360-4552-A905-05434F47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7482-91AC-4BEB-A395-BDDCF22A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3F9-69C7-4380-A74E-FDC60A4F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3C6-1AAB-47DF-BD50-0FA6E796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75E4-A939-4713-A5EB-A7385532DA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2755-3D83-4914-9668-C308DDED50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inostro@dii.uchile.c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mideplan.cl/" TargetMode="External"/><Relationship Id="rId3" Type="http://schemas.openxmlformats.org/officeDocument/2006/relationships/hyperlink" Target="http://www.congreso.cl/" TargetMode="External"/><Relationship Id="rId4" Type="http://schemas.openxmlformats.org/officeDocument/2006/relationships/hyperlink" Target="http://www.segpres.cl/" TargetMode="External"/><Relationship Id="rId5" Type="http://schemas.openxmlformats.org/officeDocument/2006/relationships/hyperlink" Target="http://www.reformadelestado.cl/" TargetMode="External"/><Relationship Id="rId6" Type="http://schemas.openxmlformats.org/officeDocument/2006/relationships/hyperlink" Target="http://www.bcn.cl/" TargetMode="External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376360" cy="1295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8920" y="3500280"/>
            <a:ext cx="7634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Clase 3: “Macrosistemas, Estructuras y Funciones del Estado”.</a:t>
            </a:r>
            <a:br>
              <a:rPr sz="4000"/>
            </a:br>
            <a:r>
              <a:rPr b="1" lang="es-CL" sz="2200" spc="-1" strike="noStrike">
                <a:solidFill>
                  <a:srgbClr val="006666"/>
                </a:solidFill>
                <a:latin typeface="Arial"/>
              </a:rPr>
              <a:t>Curso: Introducción a los Sistemas Públicos.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José Inostroza L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jinostro@dii.uchile.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2320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16000" y="404640"/>
            <a:ext cx="2089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831708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GRESO: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os cámaras qu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concurren”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 a la formación de las leyes (El Presidentes es “colegislador”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prueba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upues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n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al Gobiern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Diputados: Determinan si han a lugar o no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“acusaciones constitucionales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Senado: Resolver acusaciones constitucional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3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6000" y="182736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ODER JUDICI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ff9900"/>
                </a:solidFill>
                <a:latin typeface="Verdana"/>
              </a:rPr>
              <a:t>Conocer y resolver asuntos civiles y criminales</a:t>
            </a: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 y ejecutar lo juzg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Los miembros de la Corte Suprema (21) son electos por el Presidente, en base a nómina que propone Corte y con acuerdo del Senad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089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77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INISTERIO PÚBLIC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Dirige la investigación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de los hechos constitutivos de del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impartir ordenes a Carabineros/Investiga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resenta los casos antes los tribunal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236000" y="260280"/>
            <a:ext cx="1368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TRIBUNAL CONSTITUCIONAL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revisa constitucionalidad de las leyes orgánica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BANCO CENTR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Política monet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Autónom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089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CONTRALORIA GENERAL DE LA REPUBLIC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jerce control de la legalidad de los acto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Fiscaliz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los ingresos e inversión del Fisco, municipi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leva la contabilidad del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Toma de razón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ex ante) de los actos de la administración (más de 200 mil al año!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l Contralor lo designa el Presidente con acuerdo del Senado (inamovible hasta los 75 añ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44000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380360" y="189000"/>
            <a:ext cx="136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8894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Diseñadores de Política (Ministerios: sectoriales-funciones transversale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jecutores de Políticas (Servicios Público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3. Poder Ejecutiv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2232000"/>
            <a:ext cx="82440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iscalizadoras (Superintendencias, SAG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mpresarial (BancoEstado, ENAP, Metro, Codelc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Fomento (CORFO, CONICYT, INDAP…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3. Poder Ejecutivo: Funciones Transversa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640" y="1856880"/>
            <a:ext cx="8518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lanificación (SEGPRES-DIPRES-MIDE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Presupuestación (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Legisl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ntrol de Gestión y Evaluación (SEGPRES-DIP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Auditoria (CAIG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Compras Públicas (ChileCompra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-Transparencia, Acceso de la Información</a:t>
            </a: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bjetivos y Alca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3280" y="1773000"/>
            <a:ext cx="828036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ntregar un mapa conceptual, genérico, sobre qué es y cómo se organiza el Estado en sus aspectos element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No se entrará en detalles y se simplificará deliberadamente algunas defin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alumno tendrá las referencias suficientes para entrar en la conversación del resto del cur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El enfoque principal es “normativo” (qué dice la norma; deber ser), pero se harán observaciones crít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04000" y="189000"/>
            <a:ext cx="1863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cursos Human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080" y="1916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tatuto Administrativo (Carrera, ingreso, ascenso, evaluació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Sistema de Alta Dirección Públic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Carr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Planta de la exclusiva Confianz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Contrat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Honorario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Escala Remuneracional (E.U.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019160" cy="1076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5572080"/>
            <a:ext cx="6476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scentralizació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Intendencia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s Regional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ernacion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Municip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Organismos Desconcentrados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(SEREMIS, Direcciones Regionales, Servicios de Salu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-36360" y="189000"/>
            <a:ext cx="8893080" cy="537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19520" y="459720"/>
            <a:ext cx="7906680" cy="6016320"/>
            <a:chOff x="1019520" y="459720"/>
            <a:chExt cx="7906680" cy="6016320"/>
          </a:xfrm>
        </p:grpSpPr>
        <p:grpSp>
          <p:nvGrpSpPr>
            <p:cNvPr id="150" name=""/>
            <p:cNvGrpSpPr/>
            <p:nvPr/>
          </p:nvGrpSpPr>
          <p:grpSpPr>
            <a:xfrm>
              <a:off x="1019520" y="459720"/>
              <a:ext cx="7906680" cy="4829760"/>
              <a:chOff x="1019520" y="459720"/>
              <a:chExt cx="7906680" cy="4829760"/>
            </a:xfrm>
          </p:grpSpPr>
          <p:sp>
            <p:nvSpPr>
              <p:cNvPr id="151" name=""/>
              <p:cNvSpPr/>
              <p:nvPr/>
            </p:nvSpPr>
            <p:spPr>
              <a:xfrm>
                <a:off x="1680840" y="878760"/>
                <a:ext cx="6506280" cy="4129560"/>
              </a:xfrm>
              <a:prstGeom prst="ellipse">
                <a:avLst/>
              </a:prstGeom>
              <a:noFill/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48680" y="2755800"/>
                <a:ext cx="881280" cy="7509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Serv.     Adm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9440" y="2923560"/>
                <a:ext cx="824760" cy="656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COR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7080" y="2078640"/>
                <a:ext cx="1212480" cy="84492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Ejecutivo del GORE </a:t>
                </a: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(Intendente)</a:t>
                </a:r>
                <a:r>
                  <a:rPr b="1" lang="en-US" sz="900" spc="-1" strike="noStrike">
                    <a:solidFill>
                      <a:srgbClr val="800000"/>
                    </a:solidFill>
                    <a:latin typeface="Arial"/>
                  </a:rPr>
                  <a:t>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50360" y="1254600"/>
                <a:ext cx="1433520" cy="750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DIPRES/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UBDER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5280" y="3224880"/>
                <a:ext cx="1510920" cy="7268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INISTERIOS SECTORI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4080" y="1732680"/>
                <a:ext cx="1439280" cy="733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ORGANS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EJECUTOR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19520" y="3506760"/>
                <a:ext cx="154368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ECTOR EMPRESARIA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18061800">
                <a:off x="5399280" y="2616480"/>
                <a:ext cx="456840" cy="384120"/>
              </a:xfrm>
              <a:custGeom>
                <a:avLst/>
                <a:gdLst>
                  <a:gd name="textAreaLeft" fmla="*/ 195840 w 456840"/>
                  <a:gd name="textAreaRight" fmla="*/ 402120 w 456840"/>
                  <a:gd name="textAreaTop" fmla="*/ 212040 h 384120"/>
                  <a:gd name="textAreaBottom" fmla="*/ 338400 h 384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9257" y="9340"/>
                    </a:lnTo>
                    <a:lnTo>
                      <a:pt x="9257" y="11928"/>
                    </a:lnTo>
                    <a:lnTo>
                      <a:pt x="11928" y="11928"/>
                    </a:lnTo>
                    <a:lnTo>
                      <a:pt x="11928" y="9257"/>
                    </a:lnTo>
                    <a:lnTo>
                      <a:pt x="9340" y="9257"/>
                    </a:lnTo>
                    <a:lnTo>
                      <a:pt x="15470" y="0"/>
                    </a:lnTo>
                    <a:lnTo>
                      <a:pt x="21600" y="9257"/>
                    </a:lnTo>
                    <a:lnTo>
                      <a:pt x="19012" y="9257"/>
                    </a:lnTo>
                    <a:lnTo>
                      <a:pt x="19012" y="19012"/>
                    </a:lnTo>
                    <a:lnTo>
                      <a:pt x="9257" y="19012"/>
                    </a:lnTo>
                    <a:lnTo>
                      <a:pt x="9257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0800000">
                <a:off x="3958560" y="2237400"/>
                <a:ext cx="402840" cy="456840"/>
              </a:xfrm>
              <a:custGeom>
                <a:avLst/>
                <a:gdLst>
                  <a:gd name="textAreaLeft" fmla="*/ 115560 w 402840"/>
                  <a:gd name="textAreaRight" fmla="*/ 345240 w 402840"/>
                  <a:gd name="textAreaTop" fmla="*/ 263160 h 456840"/>
                  <a:gd name="textAreaBottom" fmla="*/ 391320 h 45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61600">
                <a:off x="4550400" y="3184200"/>
                <a:ext cx="281880" cy="402480"/>
              </a:xfrm>
              <a:custGeom>
                <a:avLst/>
                <a:gdLst>
                  <a:gd name="textAreaLeft" fmla="*/ 81000 w 281880"/>
                  <a:gd name="textAreaRight" fmla="*/ 241560 w 281880"/>
                  <a:gd name="textAreaTop" fmla="*/ 231840 h 402480"/>
                  <a:gd name="textAreaBottom" fmla="*/ 344880 h 40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470"/>
                    </a:moveTo>
                    <a:lnTo>
                      <a:pt x="6200" y="9340"/>
                    </a:lnTo>
                    <a:lnTo>
                      <a:pt x="6200" y="12440"/>
                    </a:lnTo>
                    <a:lnTo>
                      <a:pt x="12440" y="12440"/>
                    </a:lnTo>
                    <a:lnTo>
                      <a:pt x="12440" y="6200"/>
                    </a:lnTo>
                    <a:lnTo>
                      <a:pt x="9340" y="6200"/>
                    </a:lnTo>
                    <a:lnTo>
                      <a:pt x="15470" y="0"/>
                    </a:lnTo>
                    <a:lnTo>
                      <a:pt x="21600" y="6200"/>
                    </a:lnTo>
                    <a:lnTo>
                      <a:pt x="18500" y="6200"/>
                    </a:lnTo>
                    <a:lnTo>
                      <a:pt x="18500" y="18500"/>
                    </a:lnTo>
                    <a:lnTo>
                      <a:pt x="6200" y="18500"/>
                    </a:lnTo>
                    <a:lnTo>
                      <a:pt x="62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8440" y="4539240"/>
                <a:ext cx="1211760" cy="7502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FUERZAS POLITICA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556080" y="1910880"/>
                <a:ext cx="2535840" cy="1971000"/>
              </a:xfrm>
              <a:prstGeom prst="ellipse">
                <a:avLst/>
              </a:prstGeom>
              <a:noFill/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8920" y="459720"/>
                <a:ext cx="1211760" cy="749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SOCIEDAD CIVI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863000">
                <a:off x="2732040" y="1884960"/>
                <a:ext cx="938880" cy="288720"/>
              </a:xfrm>
              <a:prstGeom prst="leftRightArrow">
                <a:avLst>
                  <a:gd name="adj1" fmla="val 50000"/>
                  <a:gd name="adj2" fmla="val 64736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0178000">
                <a:off x="2541600" y="3300840"/>
                <a:ext cx="991800" cy="302040"/>
              </a:xfrm>
              <a:prstGeom prst="leftRightArrow">
                <a:avLst>
                  <a:gd name="adj1" fmla="val 50000"/>
                  <a:gd name="adj2" fmla="val 65369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00000">
                <a:off x="4740480" y="3975480"/>
                <a:ext cx="495000" cy="444240"/>
              </a:xfrm>
              <a:prstGeom prst="leftRightArrow">
                <a:avLst>
                  <a:gd name="adj1" fmla="val 50000"/>
                  <a:gd name="adj2" fmla="val 22182"/>
                </a:avLst>
              </a:prstGeom>
              <a:solidFill>
                <a:srgbClr val="ffffff"/>
              </a:solidFill>
              <a:ln w="1260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942000">
                <a:off x="5838840" y="3179880"/>
                <a:ext cx="1609560" cy="397080"/>
              </a:xfrm>
              <a:prstGeom prst="leftRightArrow">
                <a:avLst>
                  <a:gd name="adj1" fmla="val 50000"/>
                  <a:gd name="adj2" fmla="val 80694"/>
                </a:avLst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021200">
                <a:off x="4388040" y="1361520"/>
                <a:ext cx="563760" cy="348120"/>
              </a:xfrm>
              <a:prstGeom prst="leftRightArrow">
                <a:avLst>
                  <a:gd name="adj1" fmla="val 50000"/>
                  <a:gd name="adj2" fmla="val 32239"/>
                </a:avLst>
              </a:prstGeom>
              <a:solidFill>
                <a:srgbClr val="ffffff"/>
              </a:solidFill>
              <a:ln w="19080">
                <a:solidFill>
                  <a:srgbClr val="99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20896800">
                <a:off x="5971320" y="2287440"/>
                <a:ext cx="1073880" cy="280440"/>
              </a:xfrm>
              <a:prstGeom prst="leftRightArrow">
                <a:avLst>
                  <a:gd name="adj1" fmla="val 50000"/>
                  <a:gd name="adj2" fmla="val 76231"/>
                </a:avLst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17040" y="3506760"/>
                <a:ext cx="882360" cy="28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0000"/>
                    </a:solidFill>
                    <a:latin typeface="Arial"/>
                  </a:rPr>
                  <a:t>G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6728600">
                <a:off x="1594800" y="2653200"/>
                <a:ext cx="281880" cy="110160"/>
              </a:xfrm>
              <a:prstGeom prst="rightArrow">
                <a:avLst>
                  <a:gd name="adj1" fmla="val 50000"/>
                  <a:gd name="adj2" fmla="val 6397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20266800">
                <a:off x="3287520" y="1094760"/>
                <a:ext cx="330120" cy="93960"/>
              </a:xfrm>
              <a:prstGeom prst="rightArrow">
                <a:avLst>
                  <a:gd name="adj1" fmla="val 50000"/>
                  <a:gd name="adj2" fmla="val 87835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2423600">
                <a:off x="3224160" y="4726080"/>
                <a:ext cx="330840" cy="94320"/>
              </a:xfrm>
              <a:prstGeom prst="rightArrow">
                <a:avLst>
                  <a:gd name="adj1" fmla="val 50000"/>
                  <a:gd name="adj2" fmla="val 87691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099400">
                <a:off x="7991280" y="255996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8536800">
                <a:off x="6863400" y="444564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13000">
                <a:off x="5435640" y="866160"/>
                <a:ext cx="330120" cy="93600"/>
              </a:xfrm>
              <a:prstGeom prst="rightArrow">
                <a:avLst>
                  <a:gd name="adj1" fmla="val 50000"/>
                  <a:gd name="adj2" fmla="val 88173"/>
                </a:avLst>
              </a:prstGeom>
              <a:solidFill>
                <a:srgbClr val="000000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2249600">
                <a:off x="4216680" y="3788280"/>
                <a:ext cx="330840" cy="93240"/>
              </a:xfrm>
              <a:prstGeom prst="rightArrow">
                <a:avLst>
                  <a:gd name="adj1" fmla="val 50000"/>
                  <a:gd name="adj2" fmla="val 887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7244600">
                <a:off x="3470400" y="2559600"/>
                <a:ext cx="281160" cy="110160"/>
              </a:xfrm>
              <a:prstGeom prst="rightArrow">
                <a:avLst>
                  <a:gd name="adj1" fmla="val 50000"/>
                  <a:gd name="adj2" fmla="val 63807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4920000">
                <a:off x="5910840" y="2841840"/>
                <a:ext cx="281880" cy="109440"/>
              </a:xfrm>
              <a:prstGeom prst="rightArrow">
                <a:avLst>
                  <a:gd name="adj1" fmla="val 50000"/>
                  <a:gd name="adj2" fmla="val 64391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90200">
                <a:off x="4768920" y="1910880"/>
                <a:ext cx="330480" cy="94320"/>
              </a:xfrm>
              <a:prstGeom prst="rightArrow">
                <a:avLst>
                  <a:gd name="adj1" fmla="val 50000"/>
                  <a:gd name="adj2" fmla="val 87595"/>
                </a:avLst>
              </a:prstGeom>
              <a:solidFill>
                <a:srgbClr val="000000"/>
              </a:solidFill>
              <a:ln w="572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107040" y="3037680"/>
                <a:ext cx="939600" cy="571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      </a:t>
                </a:r>
                <a:r>
                  <a:rPr b="1" lang="en-US" sz="700" spc="-1" strike="noStrike">
                    <a:solidFill>
                      <a:srgbClr val="800000"/>
                    </a:solidFill>
                    <a:latin typeface="Arial"/>
                  </a:rPr>
                  <a:t>SEREMI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07040" y="752400"/>
                <a:ext cx="1342440" cy="9374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5240" rIns="7524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800000"/>
                    </a:solidFill>
                    <a:latin typeface="Arial"/>
                  </a:rPr>
                  <a:t>MUNICIPIO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8916800">
                <a:off x="5436000" y="1728360"/>
                <a:ext cx="805320" cy="280440"/>
              </a:xfrm>
              <a:prstGeom prst="leftRightArrow">
                <a:avLst>
                  <a:gd name="adj1" fmla="val 50000"/>
                  <a:gd name="adj2" fmla="val 57167"/>
                </a:avLst>
              </a:prstGeom>
              <a:solidFill>
                <a:srgbClr val="ffffff"/>
              </a:solidFill>
              <a:ln w="7632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029320" y="5084640"/>
              <a:ext cx="6617880" cy="1391400"/>
              <a:chOff x="2029320" y="5084640"/>
              <a:chExt cx="6617880" cy="1391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029320" y="5084640"/>
                <a:ext cx="22824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GOBERNABILIDA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51000" y="5157720"/>
                <a:ext cx="2896200" cy="671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Arial"/>
                  </a:rPr>
                  <a:t>DESARROLLO ECON., SOCIAL Y CUL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0800000">
                <a:off x="3890520" y="5373720"/>
                <a:ext cx="128448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10846800">
                <a:off x="4829760" y="5373720"/>
                <a:ext cx="1266120" cy="1093680"/>
              </a:xfrm>
              <a:prstGeom prst="uturnArrow">
                <a:avLst/>
              </a:prstGeom>
              <a:solidFill>
                <a:srgbClr val="ffffff"/>
              </a:solidFill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1720" y="5300640"/>
                <a:ext cx="1439280" cy="0"/>
              </a:xfrm>
              <a:prstGeom prst="line">
                <a:avLst/>
              </a:prstGeom>
              <a:ln w="57240">
                <a:solidFill>
                  <a:srgbClr val="99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6089400" y="3212640"/>
              <a:ext cx="0" cy="36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6480" y="3500280"/>
              <a:ext cx="1353600" cy="358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GABIN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800000"/>
                  </a:solidFill>
                  <a:latin typeface="Arial"/>
                </a:rPr>
                <a:t>REG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-612720" y="0"/>
            <a:ext cx="1065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7774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ógicas históricas dominantes de organización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weberi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 y emergentes (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Nueva gerencia pública, participación ciudadana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as regulaciones se justifican para resguardar al Estado de las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capturas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políticas, gremiales, empresariales…); promueven el interés general y permanente….pero puede generar costos de transacción, administrativos importantes, e incentivos perversos en algunos ca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hile ha derivado a un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presidencialismo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con restricciones de </a:t>
            </a:r>
            <a:r>
              <a:rPr b="1" lang="es-CL" sz="2100" spc="-1" strike="noStrike">
                <a:solidFill>
                  <a:srgbClr val="ff9900"/>
                </a:solidFill>
                <a:latin typeface="Verdana"/>
              </a:rPr>
              <a:t>organismos autónom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6666"/>
                </a:solidFill>
                <a:latin typeface="Arial"/>
              </a:rPr>
              <a:t>Fuentes/Referencias útiles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82736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Constitución  Polít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Ley de Bases de la Administra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Estatuto Administra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Texto Reforma del Estado 1990-200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3333cc"/>
                </a:solidFill>
                <a:latin typeface="Verdana"/>
              </a:rPr>
              <a:t>Territorial Review 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(OCDE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dipres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mucho documentos; presupuest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mideplan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congres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segpres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www.reformadelestado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www.bcn.cl</a:t>
            </a:r>
            <a:r>
              <a:rPr b="1" lang="es-CL" sz="2100" spc="-1" strike="noStrike">
                <a:solidFill>
                  <a:srgbClr val="3333cc"/>
                </a:solidFill>
                <a:latin typeface="Verdana"/>
              </a:rPr>
              <a:t> (ley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084720" y="3933720"/>
            <a:ext cx="2772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Tem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Grandes Definiciones: Rol, Restricciones, Princip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Macroestructura: Ejecutivo, Legislativo, Judicial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oder Ejecutiv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scentraliz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360" y="256500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63640" y="1827360"/>
            <a:ext cx="691992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l fin del Estado es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promover el bien común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para lo cual debe contribuir a crear condiciones sociales”… que permitan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“la mayor realización espiritual y material posible”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(art 1 Constitución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3333cc"/>
                </a:solidFill>
                <a:uFillTx/>
                <a:latin typeface="Verdana"/>
              </a:rPr>
              <a:t>Es deber del Estado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:  resguardar seguridad nacional, dar protección a la población y a la familia, promover la integración armónica de todos los sectores;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asegurar derecho de las personas a participar con igualdad de oportunidades en la vida nacional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  (art 1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1763640" cy="2305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7287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l Estado es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Unitario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a administración será funcional y territorialmente </a:t>
            </a: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descentralizada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(art. 3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Los órganos del Estado debe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meter su acción a la Constitución y las normas dictadas conforme a ellas (art. 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actuar válida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previa investidura regular de sus integrantes, dentro de sus competencias y en la forma que prescriba la ley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Evitar  atribuirse, ni aun a pretexto de circunstancias extraordinarias, otra autoridad que la expresamente conferida en virtud de la Constitución (art. 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9900"/>
                </a:solidFill>
                <a:latin typeface="Verdana"/>
              </a:rPr>
              <a:t>Responder civilmente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de sus a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2589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6666"/>
                </a:solidFill>
                <a:latin typeface="Arial"/>
              </a:rPr>
              <a:t>1. ROLES, RESTRICCIONES Y PRINCIPIOS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71228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DERECHOS CONTITUCIONALES. </a:t>
            </a:r>
            <a:r>
              <a:rPr b="1" lang="es-CL" sz="1900" spc="-1" strike="noStrike">
                <a:solidFill>
                  <a:srgbClr val="3333cc"/>
                </a:solidFill>
                <a:latin typeface="Verdana"/>
              </a:rPr>
              <a:t>El Estado debe respetar derechos de las personas (art. 19)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Igualdad ante la ley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vida privad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concienci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personal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otección a la salu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ducación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libertad de enseñanza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presentar peticiones a la autoridad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seguridad social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desarrollar actividad económica *el Estado requiere Ley especial y siguen las reglas comunes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no discriminación arbitraria, y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EL </a:t>
            </a:r>
            <a:r>
              <a:rPr b="1" lang="es-CL" sz="1700" spc="-1" strike="noStrike">
                <a:solidFill>
                  <a:srgbClr val="ff9900"/>
                </a:solidFill>
                <a:latin typeface="Verdana"/>
              </a:rPr>
              <a:t>DERECHO DE PROPIEDAD</a:t>
            </a:r>
            <a:r>
              <a:rPr b="1" lang="es-CL" sz="1700" spc="-1" strike="noStrike">
                <a:solidFill>
                  <a:srgbClr val="3333cc"/>
                </a:solidFill>
                <a:latin typeface="Verdana"/>
              </a:rPr>
              <a:t> (expropiación, indemnización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3333cc"/>
                </a:solidFill>
                <a:latin typeface="Verdana"/>
              </a:rPr>
              <a:t>Si no se respetan… </a:t>
            </a:r>
            <a:r>
              <a:rPr b="1" lang="es-CL" sz="1900" spc="-1" strike="noStrike">
                <a:solidFill>
                  <a:srgbClr val="ff9900"/>
                </a:solidFill>
                <a:latin typeface="Verdana"/>
              </a:rPr>
              <a:t>RECURSO DE PROTEC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2421000"/>
            <a:ext cx="28432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2. Macro Estructur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3333cc"/>
                </a:solidFill>
                <a:latin typeface="Verdana"/>
              </a:rPr>
              <a:t>GOBIERNO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El Presidente es a quien le corresponde el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gobierno y la administración del Estado”.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Una Ley garantizará la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organización básica del Estado”,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y </a:t>
            </a:r>
            <a:r>
              <a:rPr b="1" lang="es-CL" sz="2500" spc="-1" strike="noStrike">
                <a:solidFill>
                  <a:srgbClr val="ff9900"/>
                </a:solidFill>
                <a:latin typeface="Verdana"/>
              </a:rPr>
              <a:t>“la carrera funcionaria”</a:t>
            </a:r>
            <a:r>
              <a:rPr b="1" lang="es-CL" sz="2500" spc="-1" strike="noStrike">
                <a:solidFill>
                  <a:srgbClr val="3333cc"/>
                </a:solidFill>
                <a:latin typeface="Verdana"/>
              </a:rPr>
              <a:t> con igualdad de acceso”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13827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5:09:26Z</dcterms:created>
  <dc:creator>Jinostroza</dc:creator>
  <dc:description/>
  <dc:language>en-US</dc:language>
  <cp:lastModifiedBy>Jinostroza</cp:lastModifiedBy>
  <dcterms:modified xsi:type="dcterms:W3CDTF">2009-08-14T01:17:09Z</dcterms:modified>
  <cp:revision>9</cp:revision>
  <dc:subject/>
  <dc:title>Macrosistemas, Estructuras del y Funciones del Estado.</dc:title>
</cp:coreProperties>
</file>