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3BAA-BD48-4359-8041-8AA7C57F5C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3546-A0F5-4319-92D2-1F880DEB41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CAA0-1FE0-4767-8627-3F4850FD3D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5C7A-CA3D-4AFC-B19E-EF7C4D2CC6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E009-4930-406C-A171-C546747A74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A78C-6976-4FA0-98A1-FDBB58FCFC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7E14-395B-4486-9C35-38E44A2E90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D2BD-6478-407F-8B15-CBC291465C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A99F-39E2-40CC-AB5A-ACA0220A96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A9F1-E4CD-4759-B5DB-D236CADD73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32D4-A463-4B95-B39E-3AD03C7AAF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9104-D061-49FE-A139-F3EF892503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2C8A-0C33-41BD-9DE7-12B7D72141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2547-52F2-40A2-9E7C-EE048E3A61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49DE-E211-4DD1-B563-43EE81E3B4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E86C-29D2-49BC-9912-529A8FCAF1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E62-8351-471A-AC7E-8A49ED77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E8B-9A42-4367-981D-7FF3724D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982-6797-4A6B-8AF2-1BF47AC4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3D2-B8C2-414C-BE4F-E3A325CF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8A0F-29B5-4CCC-93C7-49540E99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8B27-AB83-434F-9414-4C95BAEA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9BAB-79EF-4CEC-B574-3DFF5BCE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7BFA-93B5-4432-9FB4-2C74989E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75C5-CB47-4A7F-AA0E-7F9B80D8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28E0-E9C2-48FB-90D7-5C2E2BD5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269B-D9F0-4DC6-A9EF-DD262983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1CB-5350-497F-9AB0-76E56DBA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7DD1-4D3E-45BB-9A68-AB3FA4A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5D0C-8F2E-4549-A871-F36D368C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82CB-F404-48F2-9F9D-50E0C1EC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CBD9-CE86-47EB-B3C3-2E17983F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BA73-B38D-42EA-AF01-3421461F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D87A-CA51-447A-AFC9-1B28FDE2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80B8-FC78-4EB9-A764-0AD40469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F50C-2210-4B40-9B4B-C57CF717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016BC-AB3B-4606-B6BA-C7A98BA9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724A-2C6F-43E8-B125-5BCD3BB7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A5F-0F87-4E47-9993-20C08A62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B57D0-CB1C-402C-80C0-E1CC80B3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8516-9DD5-4B5D-95C1-0E200752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506A6-3253-4C3D-A6CA-76672F7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64613-83E7-4FA0-ABA8-B557F74A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A38C-D3DA-4682-B22E-91661D98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56F9-D567-4A6E-AB65-803E0E62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40B9-8088-48C3-A0D6-C8ADB0B9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CB75D-5DEF-4785-B635-388B8EED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05A6-F804-4D18-872F-87BD6945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C673-A2A5-4001-9ECE-FB37EAE5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A63-BBBE-41A2-AC42-A27942B8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B059C-2042-4803-8024-3003936C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8F95-23C3-4A2E-8849-E24F2EEE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F1D2-E33A-4B2A-A417-2DC3EEA6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0FA75-E683-4A02-B735-AB7E2DA4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F0148-DB3C-4502-B5F2-68890BA9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44C52-53E7-4894-A914-11348968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48F3-8F7F-4C8E-B338-BFA33AE2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AAA9E-18C7-4ED8-81E0-3E00AC0B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AACF2-7195-4953-8B7A-A02EA4EB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D84DD-704D-4975-AD45-13BD7C28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971-18CD-4B15-ACC3-BCE51ADD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CC123-777A-4805-B958-C14AA9A5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003F0-5A70-4415-BB58-3A6F91F4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DB28F-4C18-4F26-8FA8-F2E0306E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24E03-8AFE-4FA3-BDC1-9D731E85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C4628-80A6-4758-A8B7-F97E17D6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9671D-8D03-4991-8C68-DC07C5EB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D6D94-6C99-4AEA-8E36-7F55BE74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A81BC-F267-4BA5-80E3-6AED9B4F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278E2-28C4-402E-93A1-B227A02D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18C5-59A7-4D0B-B0D0-20C276D1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386-6108-43A7-92AE-2839BD4C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8D7C3-9634-4387-93DF-F0C9851E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C0342-B2CE-4928-AE05-C13EF228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81E77-B5D5-4894-AF17-5579ABCE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2D2F6-BC66-4D9C-9111-C7A02FA7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BFCA5-D718-476B-BE2B-01B359DF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68DDB-D224-49E4-B2FB-B7DBD45F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5BCC6-8633-4B7E-BD06-A24043BF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AC63D-6096-40B3-B54E-C4D8CA17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13B94-6C34-4506-BF49-EE3929C5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394B7-0294-479E-B8E4-9B53E824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C51-6CEE-4F25-87A9-AA4D4088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A923A-407B-4788-A33D-BE0E7B5B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3CFA2-5B23-47D2-AD63-0B21FE7F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69DE6-3EE3-4592-BB75-68C48780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6A3C7-ED5D-41AE-A01F-CE218078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0E6EB-FF93-468B-8DB9-27077CE0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BEEA3-A89C-4E34-A155-7E91888C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9C16E-2F7B-4DBB-B74F-86498205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74588-6975-4478-95A4-69262B2A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67417-A1A6-4EBF-928F-F505AAC6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13F60-117E-4EE1-A70B-87796B0F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B84-3E40-4E57-9016-1797837B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F2D1C-973B-4B9B-825D-923CCBF4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947DD-D36E-42A8-81E8-8EAE16BF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AD1C3-ED13-4EF3-8738-7C846D40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B4124-0678-4492-B83D-878E978C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AB2FA-D5F5-4F3E-B34E-096CDAE8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D94-9E59-4CFD-A16E-8B44C9A3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3F16-949B-4621-8ED5-260FF95A39B8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1017720" y="1566720"/>
            <a:ext cx="250560" cy="249480"/>
            <a:chOff x="1017720" y="1566720"/>
            <a:chExt cx="250560" cy="24948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1017720" y="1566720"/>
              <a:ext cx="25056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57320" y="1604880"/>
              <a:ext cx="166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285920" y="1494000"/>
            <a:ext cx="71280" cy="712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F3B9-DE54-4780-A198-0C2A52070E20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536920" y="0"/>
            <a:ext cx="7619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540160" y="0"/>
            <a:ext cx="8388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408400" y="3121200"/>
            <a:ext cx="249120" cy="250560"/>
            <a:chOff x="2408400" y="3121200"/>
            <a:chExt cx="249120" cy="2505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408400" y="3121200"/>
              <a:ext cx="2491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448000" y="3162240"/>
              <a:ext cx="164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674800" y="3051000"/>
            <a:ext cx="71640" cy="716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D75C-BB52-4C89-A4D0-DFEA0807FF68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6F26-7358-4E4F-8A98-32CCF65BD3C1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127160" y="0"/>
            <a:ext cx="9032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875E-C25D-4B61-BF2D-D2DB309F3BD0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29C4-3223-4566-B397-ED13730C578E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731880" y="1085760"/>
            <a:ext cx="5308560" cy="5315040"/>
            <a:chOff x="731880" y="1085760"/>
            <a:chExt cx="5308560" cy="531504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731880" y="1085760"/>
              <a:ext cx="5308560" cy="53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46000" y="1185840"/>
              <a:ext cx="50799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304920" bIns="50760" anchor="t">
              <a:noAutofit/>
            </a:bodyPr>
            <a:p>
              <a:pPr>
                <a:lnSpc>
                  <a:spcPts val="3336"/>
                </a:lnSpc>
                <a:spcBef>
                  <a:spcPts val="6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441000" y="1060200"/>
            <a:ext cx="762120" cy="226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559120" y="1041120"/>
            <a:ext cx="722160" cy="226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E45B-58A5-452E-AA16-68AC999BC578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3840" y="738360"/>
            <a:ext cx="8866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e 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ción a los Sistemas Público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erencias y Similitudes entre la Gestión Pública y Privada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il de los Gerentes Públicos </a:t>
            </a:r>
            <a:br>
              <a:rPr sz="2800"/>
            </a:br>
            <a:br>
              <a:rPr sz="44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71200" y="5689440"/>
            <a:ext cx="6613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 - Septiembre - 2009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18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l trabajo del Directivo (privado) según Mintzber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0" y="1327320"/>
          <a:ext cx="10159920" cy="621000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ivo planificador reflexivo y sis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or reacciones a los estímulos, su trabajo lo condiciona para preferir la actuación inmediata a la dife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ás tiempo para planificar y delegar y menos a ver a sus clientes y a emprender negoci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tiempo para actividades habituales y rituales, ceremonias, negociaciones y transmisión de la información a la organ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l Alto ejecutivo necesita información global, que es la que mejor puede proporcionar un sistema oficial de información de la dir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a comunicación verbal: llamadas telefónicas, reuniones, en vez de documentos, rumo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eradores de comun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20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dirección de empresas es ya, o le falta poco para ser, una ciencia y una profe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hay muchos procedimientos sistemáticos o analíticamente determin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“criterio e intuició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evedad en el trabajo, fragmentación y comunicación 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tributos y Perfil del Alto Directivo Públic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isión Estratégic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detectar y comprender las señales sociales, económicas, tecnológicas, culturales, de política pública y políticas del entorno local y global e incorporarlas de manera coherente a la estrategia institucional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stión y Logr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orientarse al logro de los objetivos, seleccionando y formando personas, delegando, generando directrices, planificando, diseñando, analizando información, movilizando recursos organizacionales, controlando la gestión, sopesando riesgos e integrando las actividades de manera de lograr la eficacia, eficiencia y calidad en el cumplimiento de la misión y funciones de la organización.</a:t>
            </a:r>
            <a:br>
              <a:rPr sz="2700"/>
            </a:b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47680" y="1422360"/>
            <a:ext cx="968544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lación con el Entorno y Articulación de red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a los actores involucrados (stakeholders) y generar las alianzas estratégicas necesarias para agregar valor a su gestión y/o para lograr nuevos resultados interinstitucionales, así como gestionar las variables y relaciones del entorno que le proporcionan legitimidad en sus funciones. Capacidad para comunicar oportuna y efectivamente lo necesario para facilitar su gestión institucional y afrontar, de ser necesario, situaciones crític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nejo de crisis y contingencia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y administrar situaciones de presión, contingencia y conflictos y, al mismo tiempo, crear soluciones estratégicas, oportunas y adecuadas al marco institucional públic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7680" y="1422000"/>
            <a:ext cx="9685440" cy="81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generar compromiso de los funcionarios/as y el respaldo de las autoridades superiores para el logro de los desafíos de la Institución. Capacidad para asegurar una adecuada conducción de personas, desarrollar el talento, lograr y mantener un clima organizacional armónico y desafiante.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novación y Flexibilidad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transformar en oportunidades las limitaciones y complejidades del contexto e incorporar en los planes, procedimientos y metodologías, nuevas prácticas tomando riesgos calculados que permitan generar soluciones, promover procesos de cambio e incrementar resultad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ocimientos Técnico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seer los conocimientos y/o experiencias específicas, que se requieran para el ejercicio de la función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uentes Bibliográfic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560" y="1822320"/>
            <a:ext cx="9674280" cy="66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ww. serviciocivil.c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es Años del Sistema de Alta Dirección Pública en Chile: Balance y Perspectivas”. Waissbluth M., Costa R. (2007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 Trabajo del Directivo”. Mintzberg H. En: “Liderazgo” Harvard Business Review (2004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¿De Burócratas a Gerentes?. Las ciencias de la gestión aplicadas a la administración del Estado”. Losada C., BID, (1999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ituciones Públicas y Sociales de Excelencia. Waissbluth basado en “Good to Great”. Collins J. (2005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Visiones del 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nte los años han existido distintas apreciaciones sobre las diferencias y similitudes desde que s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iplinas totalmente diferent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que 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stión pública es sólo una aplicación más ineficiente de la priva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e pueden destacar ciertas diferencias transversa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9480" indent="-514440">
              <a:lnSpc>
                <a:spcPct val="80000"/>
              </a:lnSpc>
              <a:spcBef>
                <a:spcPts val="663"/>
              </a:spcBef>
              <a:buClr>
                <a:srgbClr val="feb80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itución del mercado por el proceso político como asignador de recurs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ones públicas tienen el carácter de poderes públic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ta naturaleza de la creación de valor por parte del sector públic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tad de medir el valor cre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Elementos para el deba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n resumen, podemos encontrar implicancias relevantes de estas características a la gestión institucional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hareholders v/s stakeholder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Hay una mayor exposición mediática de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xiste una mayor relevancia de la ética en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l tamaño y las restricciones son más que una variable cuantitativa para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Instituciones Excelentes según Jim Colli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La distinción no es entre “negocio” o “social” sino entre excelente, méramente bueno o mediocre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Diferencias entre mediocre y excelente: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aber calibrar el éxito sin métricas de negoci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grar resultados en una estructura de poder difu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ubir a la gente correcta al carro dentro de las restricc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struir un “motor de recursos” sustentable en un ambiente sin fines de lucr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rear un círculo virtuoso de sustentabilidad construyendo mar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en un Estado en R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 MT"/>
              </a:rPr>
              <a:t>¿Cómo es posible visualizar el rol y las características de la gestión pública en un Estado flexible y en red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1760" y="304560"/>
            <a:ext cx="97045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Rol crítico de la Gerencia Públ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8000" y="1809360"/>
            <a:ext cx="891864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ólo legislar ni dar más dinero =&gt; Gestión instituc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emprendedores =&gt; Ventajas de Oportunidad =&gt; Complicidades transvers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ublic Management, transformación de instituciones, alianzas estratégicas con gremios, TICs, avanzar a pesar de las restric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erenciar el rol de diseño de política (cargo político de confianza) con el de implementación (directivo de confianza pero concursado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érito por sobre compromisos polític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293840" y="1230480"/>
            <a:ext cx="7643880" cy="6008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399960" y="457200"/>
            <a:ext cx="966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952640"/>
            <a:ext cx="10159920" cy="4600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Salario Directivos Públicos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Edacunaf</cp:lastModifiedBy>
  <dcterms:modified xsi:type="dcterms:W3CDTF">2009-09-14T22:45:03Z</dcterms:modified>
  <cp:revision>16</cp:revision>
  <dc:subject/>
  <dc:title>PowerPoint Presentation</dc:title>
</cp:coreProperties>
</file>