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1EE8-3F48-4E26-9F0F-0AFF88D8E4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8518-6200-40F3-8543-55674B9DB25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9241-944C-432C-AF50-A9BC85A5651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D9AD-71E5-4013-BC8A-B132E0F7893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53C9-9F87-412D-BAB0-CE160AD4E0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A76A-ABA7-42F0-A010-EEBC945F370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3417-317C-43E2-B50C-CC06BE1766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A466-B03D-4436-985B-EFE6DB23C7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BCBD-D741-402B-8828-8033CFAD355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7F0A-F27C-482C-AB79-B24F27AB01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CEAE-67FD-4EDD-B177-BE1EF0EF840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964E-FAF3-4D07-9B62-986C5DE592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73B7-FDA2-4FEB-9E8C-3914B0B70E5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E1FB-1B6E-4EDC-B250-BEF44063E2C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ED65-07EB-46BB-B270-E548617919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23AA-9360-4093-BBBB-B4785A5B684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9EC2-21A7-4C2E-AC20-2D68CE91729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BEA9-BF5C-4D9A-98F2-636E382B245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D0A074-7E9F-4AF1-A88D-4FDDB8A0B8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2"/>
          <p:cNvSpPr>
            <a:spLocks noGrp="1"/>
          </p:cNvSpPr>
          <p:nvPr>
            <p:ph/>
          </p:nvPr>
        </p:nvSpPr>
        <p:spPr>
          <a:xfrm>
            <a:off x="0" y="126792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E27A3C5-DB7C-49BA-99F7-6A1289E4A2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FF5D1F69-CD4A-409A-97DB-69D0B8CEB8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2"/>
          <p:cNvSpPr>
            <a:spLocks noGrp="1"/>
          </p:cNvSpPr>
          <p:nvPr>
            <p:ph/>
          </p:nvPr>
        </p:nvSpPr>
        <p:spPr>
          <a:xfrm>
            <a:off x="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0312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624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0312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624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223B58C8-5421-4D8E-BEBF-DC04B65FD5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2"/>
          <p:cNvSpPr>
            <a:spLocks noGrp="1"/>
          </p:cNvSpPr>
          <p:nvPr>
            <p:ph type="subTitle"/>
          </p:nvPr>
        </p:nvSpPr>
        <p:spPr>
          <a:xfrm>
            <a:off x="0" y="1267920"/>
            <a:ext cx="8964720" cy="496908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8660B-3306-4D09-81E8-36190B6B22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2"/>
          <p:cNvSpPr>
            <a:spLocks noGrp="1"/>
          </p:cNvSpPr>
          <p:nvPr>
            <p:ph/>
          </p:nvPr>
        </p:nvSpPr>
        <p:spPr>
          <a:xfrm>
            <a:off x="0" y="1267920"/>
            <a:ext cx="896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B9660-21D7-4E3E-9105-855CBA3D3D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7467224-E0C8-4D28-B079-AC127ACBAF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sldNum" idx="1"/>
          </p:nvPr>
        </p:nvSpPr>
        <p:spPr/>
        <p:txBody>
          <a:bodyPr/>
          <a:p>
            <a:fld id="{B21F955D-D5D3-41CA-8AAF-5C1003850C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33866F03-B735-4216-856B-98CA4C1637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659FD0C-5253-4D2F-992F-DE1444B7D0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D7B6F10-1492-4D50-B020-F4501BAEE8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7578825-8082-46B1-81B9-4D0000533D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0" y="1267920"/>
            <a:ext cx="8964720" cy="496908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0F2D-4DB9-47D6-ADE9-3A3DE392BD7B}"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Notas Control de Lectura 1</a:t>
            </a:r>
            <a:endParaRPr b="1" lang="en-US" sz="3200" spc="-1" strike="noStrike">
              <a:solidFill>
                <a:srgbClr val="333399"/>
              </a:solidFill>
              <a:latin typeface="Arial"/>
            </a:endParaRPr>
          </a:p>
        </p:txBody>
      </p:sp>
      <p:graphicFrame>
        <p:nvGraphicFramePr>
          <p:cNvPr id="47" name=""/>
          <p:cNvGraphicFramePr/>
          <p:nvPr/>
        </p:nvGraphicFramePr>
        <p:xfrm>
          <a:off x="0" y="1643040"/>
          <a:ext cx="9144000" cy="2225520"/>
        </p:xfrm>
        <a:graphic>
          <a:graphicData uri="http://schemas.openxmlformats.org/drawingml/2006/table">
            <a:tbl>
              <a:tblPr/>
              <a:tblGrid>
                <a:gridCol w="3143160"/>
                <a:gridCol w="2571840"/>
                <a:gridCol w="3429000"/>
              </a:tblGrid>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otas Control de Lectura 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661 (Malla Antigu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4821 (Malla Nuev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medi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viación Estándar</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íni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xi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48"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5285-1E0A-44E3-9A87-020BED972CA7}"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49" name="7 CuadroTexto"/>
          <p:cNvSpPr/>
          <p:nvPr/>
        </p:nvSpPr>
        <p:spPr>
          <a:xfrm>
            <a:off x="0" y="4357800"/>
            <a:ext cx="421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tas del CTP1 estarán el mar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B0E0-3558-4BC0-BC91-6BA152410DFF}"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2. Estado transparente, cercano y participativo</a:t>
            </a:r>
            <a:endParaRPr b="1" lang="en-US" sz="3200" spc="-1" strike="noStrike">
              <a:solidFill>
                <a:srgbClr val="333399"/>
              </a:solidFill>
              <a:latin typeface="Arial"/>
            </a:endParaRPr>
          </a:p>
        </p:txBody>
      </p:sp>
      <p:sp>
        <p:nvSpPr>
          <p:cNvPr id="82" name="PlaceHolder 2"/>
          <p:cNvSpPr>
            <a:spLocks noGrp="1"/>
          </p:cNvSpPr>
          <p:nvPr>
            <p:ph/>
          </p:nvPr>
        </p:nvSpPr>
        <p:spPr>
          <a:xfrm>
            <a:off x="250560" y="1267920"/>
            <a:ext cx="871380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ey de Transparencia.</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cto y plazo para adherir a estándares e institucionalidades de OECD.</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participación ciudadana y la exigibilidad del ciudadano deben contar con mecanismos e instancias concretas y sistemát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enta pública real y no ritual en todos los servicios, consultorios, escuelas, congruente con los convenios de desempeñ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valuaciones de impacto autónomas y públ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tomar con fuerza la agenda de gobierno electrónic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a red sólida  de instituciones públicas y privadas “defensoras del ciudadano”.</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DB7D-E76E-443C-9D50-2976D0FBD266}"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3. Descentralización gradual, efectiva y consensuada</a:t>
            </a:r>
            <a:endParaRPr b="1" lang="en-US" sz="3200" spc="-1" strike="noStrike">
              <a:solidFill>
                <a:srgbClr val="333399"/>
              </a:solidFill>
              <a:latin typeface="Arial"/>
            </a:endParaRPr>
          </a:p>
        </p:txBody>
      </p:sp>
      <p:sp>
        <p:nvSpPr>
          <p:cNvPr id="85" name="PlaceHolder 2"/>
          <p:cNvSpPr>
            <a:spLocks noGrp="1"/>
          </p:cNvSpPr>
          <p:nvPr>
            <p:ph/>
          </p:nvPr>
        </p:nvSpPr>
        <p:spPr>
          <a:xfrm>
            <a:off x="250560" y="980640"/>
            <a:ext cx="8893080" cy="4969080"/>
          </a:xfrm>
          <a:prstGeom prst="rect">
            <a:avLst/>
          </a:prstGeom>
          <a:noFill/>
          <a:ln w="0">
            <a:noFill/>
          </a:ln>
        </p:spPr>
        <p:txBody>
          <a:bodyPr anchor="t">
            <a:normAutofit fontScale="88000"/>
          </a:bodyPr>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un modelo consensuado respecto a qué debe ser atribución central, qué regional y qué municipal.</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incentivos políticos reales para consensuar el modelo en la Ruta 68. Es una demanda que corre por la Ruta 5, poco escuchada.</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y un círculo vicioso de desconfianzas, carencias de recursos y capacidades, y complejidad de desafíos.</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claves:</a:t>
            </a:r>
            <a:endParaRPr b="0" lang="en-US" sz="24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egislación del 121 Constitucion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tregar atribuciones gradual y heterogéneamente, previa certificación por medio de un sistema sólido y “accountable”</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entivos para la generación de masas críticas de profesionales a nivel regional y loc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cursabilidad efectiva de cargos municipales y regionale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Juntar recursos de regiones y municipios en lugar de dividirlo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obiernos regionales ven temas de dimensión regional y territorial, los gobiernos locales temas locales. Obvio pero no tan obvio. Menos peso relativo a regiones que a municipios.</a:t>
            </a:r>
            <a:endParaRPr b="0" lang="en-US" sz="2000" spc="-1" strike="noStrike">
              <a:solidFill>
                <a:srgbClr val="000000"/>
              </a:solidFill>
              <a:latin typeface="Arial"/>
            </a:endParaRPr>
          </a:p>
          <a:p>
            <a:pPr marL="301680" indent="0">
              <a:lnSpc>
                <a:spcPct val="8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D172-F02F-40F5-BFBC-51CA67D9B2AC}"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4. Estado visionario y prospectivo</a:t>
            </a:r>
            <a:endParaRPr b="1" lang="en-US" sz="3200" spc="-1" strike="noStrike">
              <a:solidFill>
                <a:srgbClr val="333399"/>
              </a:solidFill>
              <a:latin typeface="Arial"/>
            </a:endParaRPr>
          </a:p>
        </p:txBody>
      </p:sp>
      <p:sp>
        <p:nvSpPr>
          <p:cNvPr id="88" name="PlaceHolder 2"/>
          <p:cNvSpPr>
            <a:spLocks noGrp="1"/>
          </p:cNvSpPr>
          <p:nvPr>
            <p:ph/>
          </p:nvPr>
        </p:nvSpPr>
        <p:spPr>
          <a:xfrm>
            <a:off x="0" y="1052640"/>
            <a:ext cx="8964720" cy="496872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algún momento, a partir de 1985, las palabras “planificación” y “prospectiva” pasaron a convertirse en una obscenidad. Hacienda, el administrador de la caja anual, adquiere un rol todopoderoso e incontrapesado, e incursiona en el largo plazo en sus momentos de oci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uién está pensando, con visión intersectorial, en los impactos de largo plazo de la eventual disminución de la población? ¿Del costo de la energía? ¿De la desertificación del territorio? ¿De la competitividad a 20 años? ¿La vocación marítima? ¿Los problemas y soluciones ambientales? ¿La evaluación y seguimiento de reformas, programas y leye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íses como Australia, Irlanda, Japón, etc., lo hacen. Ya es hora de una Agencia de Calidad de las Políticas Públicas, autónoma, porque son problemas de estado y no de gobier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5B10-7D1D-4A9F-8CA4-E20F71F25102}"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5. Estado integrador, flexible y en red</a:t>
            </a:r>
            <a:endParaRPr b="1" lang="en-US" sz="3200" spc="-1" strike="noStrike">
              <a:solidFill>
                <a:srgbClr val="333399"/>
              </a:solidFill>
              <a:latin typeface="Arial"/>
            </a:endParaRPr>
          </a:p>
        </p:txBody>
      </p:sp>
      <p:sp>
        <p:nvSpPr>
          <p:cNvPr id="91" name="PlaceHolder 2"/>
          <p:cNvSpPr>
            <a:spLocks noGrp="1"/>
          </p:cNvSpPr>
          <p:nvPr>
            <p:ph/>
          </p:nvPr>
        </p:nvSpPr>
        <p:spPr>
          <a:xfrm>
            <a:off x="-360" y="1267920"/>
            <a:ext cx="8893080" cy="496908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igideces institucionales anacrónicas, propias de la concepción del estado como “máquina administrativ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rigideces constitucionales de la “ley de plantas” como el ejemplo extrem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monocanalidad de atención al ciudadano: cada programa es una ventanilla. Atención digna, personalizada y multicanal.</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hiperfragmentación y descoordinación de programa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tado en red en lugar de estado de ventanill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estructuraciones institucionales imprescindibles: MIDEPLAN, MINEDUC, MINAGRI, MINECON, MOP.....</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signación de responsabilidades políticas claras a problemas transversales. (Ej. Agenda Digital). Los problemas no se resuelven creando una subsecretaría para cada t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3E98-75A6-466F-97D4-D3546972BAF3}"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3"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6. Estado con directivos y funcionarios de calidad, en entidades crecientemente autogestionadas.</a:t>
            </a:r>
            <a:endParaRPr b="1" lang="en-US" sz="2800" spc="-1" strike="noStrike">
              <a:solidFill>
                <a:srgbClr val="333399"/>
              </a:solidFill>
              <a:latin typeface="Arial"/>
            </a:endParaRPr>
          </a:p>
        </p:txBody>
      </p:sp>
      <p:sp>
        <p:nvSpPr>
          <p:cNvPr id="94" name="PlaceHolder 2"/>
          <p:cNvSpPr>
            <a:spLocks noGrp="1"/>
          </p:cNvSpPr>
          <p:nvPr>
            <p:ph/>
          </p:nvPr>
        </p:nvSpPr>
        <p:spPr>
          <a:xfrm>
            <a:off x="0" y="1125360"/>
            <a:ext cx="9144000" cy="4824720"/>
          </a:xfrm>
          <a:prstGeom prst="rect">
            <a:avLst/>
          </a:prstGeom>
          <a:noFill/>
          <a:ln w="0">
            <a:noFill/>
          </a:ln>
        </p:spPr>
        <p:txBody>
          <a:bodyPr anchor="t">
            <a:normAutofit fontScale="92000"/>
          </a:bodyPr>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mpliación y aceleración del sistema de alta dirección y extensión ad hoc al mundo municipal. El grave problema salarial es político, no financier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Certificar y generar mayor grado de autogestión contra un contrato de desempeño serio. El modelo de los hospitales autogestionados pudiera ser la gran reforma que está pasando desapercibida. </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madre de todas las batallas..... a nivel funcionario hay un “paquete interactivo” de severos problemas: inevaluabilidad e inamovilidad </a:t>
            </a:r>
            <a:r>
              <a:rPr b="1" i="1" lang="es-CL" sz="2200" spc="-1" strike="noStrike">
                <a:solidFill>
                  <a:srgbClr val="000000"/>
                </a:solidFill>
                <a:latin typeface="Arial"/>
              </a:rPr>
              <a:t>de facto</a:t>
            </a:r>
            <a:r>
              <a:rPr b="1" lang="es-CL" sz="2200" spc="-1" strike="noStrike">
                <a:solidFill>
                  <a:srgbClr val="000000"/>
                </a:solidFill>
                <a:latin typeface="Arial"/>
              </a:rPr>
              <a:t>, carencia de movilidad horizontal, 3er nivel “capturado”, mal clima, acompañado de situaciones laborales profundamente injustas y legítimas reivindicaciones.</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ébil gerencia de RRHH del Estado. Public Services Commission de Canadá como ejempl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O gran acuerdo nacional (difícil) o “partir el pastel de a poco”, en cuyo caso la reforma educativa es el primer experimento a gran escala. La LOCE obviamente no va a cambiar mucho. ¿Escuelas autogestionadas?</a:t>
            </a:r>
            <a:endParaRPr b="0" lang="en-US" sz="2200" spc="-1" strike="noStrike">
              <a:solidFill>
                <a:srgbClr val="000000"/>
              </a:solidFill>
              <a:latin typeface="Arial"/>
            </a:endParaRPr>
          </a:p>
          <a:p>
            <a:pPr marL="315360" indent="0">
              <a:lnSpc>
                <a:spcPct val="8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D690-301B-461E-A1CE-D37D6C6B3AD2}"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Viabilidad política e itinerario de las reformas</a:t>
            </a:r>
            <a:endParaRPr b="1" lang="en-US" sz="3200" spc="-1" strike="noStrike">
              <a:solidFill>
                <a:srgbClr val="333399"/>
              </a:solidFill>
              <a:latin typeface="Arial"/>
            </a:endParaRPr>
          </a:p>
        </p:txBody>
      </p:sp>
      <p:sp>
        <p:nvSpPr>
          <p:cNvPr id="97" name="PlaceHolder 2"/>
          <p:cNvSpPr>
            <a:spLocks noGrp="1"/>
          </p:cNvSpPr>
          <p:nvPr>
            <p:ph/>
          </p:nvPr>
        </p:nvSpPr>
        <p:spPr>
          <a:xfrm>
            <a:off x="0" y="1267920"/>
            <a:ext cx="9144000" cy="4969080"/>
          </a:xfrm>
          <a:prstGeom prst="rect">
            <a:avLst/>
          </a:prstGeom>
          <a:noFill/>
          <a:ln w="0">
            <a:noFill/>
          </a:ln>
        </p:spPr>
        <p:txBody>
          <a:bodyPr anchor="t">
            <a:normAutofit fontScale="96000"/>
          </a:bodyPr>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eríodos presidenciales ultracortos y períodos parlamentarios ultralargos constituyen un poderoso desincentivo a las reformas mayores. ¿Será esto modificable?</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hay sanción política a la carencia de iniciativas de largo plazo... salvo las crisi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 desafío es más político que técnic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gún la encuesta CEP, 73% de los ciudadanos sostiene que el estado debiera ser reformado con cambios importantes y 82% cree que gobierno y oposición debieran trabajar juntos para evitar la corrupción.</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ara poder hay que querer y proponérsel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mencemos con un “white paper” multipartidario a 10 años plazo. Hacia dónde vamos, grandes metas, estándares a aplicar, pilares conceptuale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omar las fórmulas de éxito e ir extendiéndolas, en lugar de “soluciones transversales across the board”.</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mprescindible: una autoridad de alto nivel político al interior del ejecutivo para impulsar la agenda de reformas de corto plazo, en una perspectiva de largo plazo. </a:t>
            </a:r>
            <a:endParaRPr b="0" lang="en-US" sz="2000" spc="-1" strike="noStrike">
              <a:solidFill>
                <a:srgbClr val="000000"/>
              </a:solidFill>
              <a:latin typeface="Arial"/>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Consorcio para la Reforma del Estado</a:t>
            </a:r>
            <a:endParaRPr b="1" lang="en-US" sz="3200" spc="-1" strike="noStrike">
              <a:solidFill>
                <a:srgbClr val="333399"/>
              </a:solidFill>
              <a:latin typeface="Arial"/>
            </a:endParaRPr>
          </a:p>
        </p:txBody>
      </p:sp>
      <p:sp>
        <p:nvSpPr>
          <p:cNvPr id="99" name=""/>
          <p:cNvSpPr txBox="1"/>
          <p:nvPr/>
        </p:nvSpPr>
        <p:spPr>
          <a:xfrm>
            <a:off x="0" y="1267920"/>
            <a:ext cx="8964720" cy="4969080"/>
          </a:xfrm>
          <a:prstGeom prst="rect">
            <a:avLst/>
          </a:prstGeom>
          <a:noFill/>
          <a:ln w="0">
            <a:noFill/>
          </a:ln>
        </p:spPr>
        <p:txBody>
          <a:bodyPr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EF2A-5387-4300-B91F-8AC3E054D12B}"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pic>
        <p:nvPicPr>
          <p:cNvPr id="101" name="Picture 2" descr=""/>
          <p:cNvPicPr/>
          <p:nvPr/>
        </p:nvPicPr>
        <p:blipFill>
          <a:blip r:embed="rId1"/>
          <a:stretch/>
        </p:blipFill>
        <p:spPr>
          <a:xfrm>
            <a:off x="714240" y="2286000"/>
            <a:ext cx="740124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Consorcio para la Reforma del Estado: “Chile un Estado de Clase Mundial”</a:t>
            </a:r>
            <a:endParaRPr b="1" lang="en-US" sz="3200" spc="-1" strike="noStrike">
              <a:solidFill>
                <a:srgbClr val="333399"/>
              </a:solidFill>
              <a:latin typeface="Arial"/>
            </a:endParaRPr>
          </a:p>
        </p:txBody>
      </p:sp>
      <p:sp>
        <p:nvSpPr>
          <p:cNvPr id="103" name=""/>
          <p:cNvSpPr txBox="1"/>
          <p:nvPr/>
        </p:nvSpPr>
        <p:spPr>
          <a:xfrm>
            <a:off x="0" y="1267920"/>
            <a:ext cx="8964720" cy="4969080"/>
          </a:xfrm>
          <a:prstGeom prst="rect">
            <a:avLst/>
          </a:prstGeom>
          <a:noFill/>
          <a:ln w="0">
            <a:noFill/>
          </a:ln>
        </p:spPr>
        <p:txBody>
          <a:bodyPr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iderazgo Integrador y Eficaz.</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cución Efectiva de la Estrategia.</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sonas: Profesionalizar el Estado.</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iudadanos como protagonistas.</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forzar y empoderar a la primera línea del Estado.</a:t>
            </a:r>
            <a:endParaRPr b="0" lang="en-US" sz="2800" spc="-1" strike="noStrike">
              <a:solidFill>
                <a:srgbClr val="000000"/>
              </a:solidFill>
              <a:latin typeface="Arial"/>
            </a:endParaRPr>
          </a:p>
        </p:txBody>
      </p:sp>
      <p:sp>
        <p:nvSpPr>
          <p:cNvPr id="10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1096-BE86-40B9-9E1C-929262F77049}"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Clases que faltan</a:t>
            </a:r>
            <a:endParaRPr b="1" lang="en-US" sz="3200" spc="-1" strike="noStrike">
              <a:solidFill>
                <a:srgbClr val="333399"/>
              </a:solidFill>
              <a:latin typeface="Arial"/>
            </a:endParaRPr>
          </a:p>
        </p:txBody>
      </p:sp>
      <p:sp>
        <p:nvSpPr>
          <p:cNvPr id="51" name=""/>
          <p:cNvSpPr txBox="1"/>
          <p:nvPr/>
        </p:nvSpPr>
        <p:spPr>
          <a:xfrm>
            <a:off x="0" y="1267920"/>
            <a:ext cx="8964720" cy="4969080"/>
          </a:xfrm>
          <a:prstGeom prst="rect">
            <a:avLst/>
          </a:prstGeom>
          <a:noFill/>
          <a:ln w="0">
            <a:noFill/>
          </a:ln>
        </p:spPr>
        <p:txBody>
          <a:bodyPr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7D26-2AFC-4327-947E-EF50B5237DD2}"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graphicFrame>
        <p:nvGraphicFramePr>
          <p:cNvPr id="53" name=""/>
          <p:cNvGraphicFramePr/>
          <p:nvPr/>
        </p:nvGraphicFramePr>
        <p:xfrm>
          <a:off x="0" y="1357200"/>
          <a:ext cx="9001080" cy="3487680"/>
        </p:xfrm>
        <a:graphic>
          <a:graphicData uri="http://schemas.openxmlformats.org/drawingml/2006/table">
            <a:tbl>
              <a:tblPr/>
              <a:tblGrid>
                <a:gridCol w="866880"/>
                <a:gridCol w="1306440"/>
                <a:gridCol w="3770280"/>
                <a:gridCol w="2262240"/>
                <a:gridCol w="795240"/>
              </a:tblGrid>
              <a:tr h="4320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8</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8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forma al Estado en Chile (casos y proyecciones)</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io Waissbluth</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164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9</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Ética, Transparencia y Participación Ciudadana. María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ía José Pérez, Eduardo Acuñ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25092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0</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2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la Nº 2: E-governmen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lejandro Barros</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164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1</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9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la N° 3: Caso Tesorería General de la Repúblic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mela Cuzmar</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20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2</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de Noviem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Gestión de Organizaciones y Programas Públicos en Chile y Latinoamérica.</a:t>
                      </a:r>
                      <a:endParaRPr b="0" lang="en-US" sz="1400" spc="-1" strike="noStrike">
                        <a:solidFill>
                          <a:srgbClr val="000000"/>
                        </a:solidFill>
                        <a:latin typeface="Arial"/>
                      </a:endParaRPr>
                    </a:p>
                  </a:txBody>
                  <a:tcPr anchor="b"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osé Inostroza, César Avendaño, Eduardo Acuñ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TP 2</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44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3</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2 de Noviem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 del Cambio: Los Desafíos de lograr la Modernización</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io Waissbluth</a:t>
                      </a:r>
                      <a:endParaRPr b="0" lang="en-US" sz="1400" spc="-1" strike="noStrike">
                        <a:solidFill>
                          <a:srgbClr val="000000"/>
                        </a:solidFill>
                        <a:latin typeface="Arial"/>
                      </a:endParaRPr>
                    </a:p>
                  </a:txBody>
                  <a:tcPr anchor="b"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ol de Lectura 2</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20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4</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9 de Noviem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novación y Marketing en el sector público</a:t>
                      </a:r>
                      <a:endParaRPr b="0" lang="en-US" sz="1400" spc="-1" strike="noStrike">
                        <a:solidFill>
                          <a:srgbClr val="000000"/>
                        </a:solidFill>
                        <a:latin typeface="Arial"/>
                      </a:endParaRPr>
                    </a:p>
                  </a:txBody>
                  <a:tcPr anchor="b"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io Waissbluth</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308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amen</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á fijada por Escuel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amen</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BDB6-F773-4821-8A1A-3F0DDD0E4F7A}"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Reforma del Estado en Chile:</a:t>
            </a:r>
            <a:br>
              <a:rPr sz="3200"/>
            </a:br>
            <a:r>
              <a:rPr b="1" lang="es-CL" sz="3200" spc="-1" strike="noStrike">
                <a:solidFill>
                  <a:srgbClr val="333399"/>
                </a:solidFill>
                <a:latin typeface="Arial"/>
              </a:rPr>
              <a:t>Una Oportunidad</a:t>
            </a:r>
            <a:br>
              <a:rPr sz="2800"/>
            </a:br>
            <a:br>
              <a:rPr sz="2800"/>
            </a:br>
            <a:r>
              <a:rPr b="1" lang="es-CL" sz="2800" spc="-1" strike="noStrike">
                <a:solidFill>
                  <a:srgbClr val="333399"/>
                </a:solidFill>
                <a:latin typeface="Arial"/>
              </a:rPr>
              <a:t>Mario Waissbluth</a:t>
            </a:r>
            <a:endParaRPr b="1" lang="en-US" sz="2800" spc="-1" strike="noStrike">
              <a:solidFill>
                <a:srgbClr val="333399"/>
              </a:solidFill>
              <a:latin typeface="Arial"/>
            </a:endParaRPr>
          </a:p>
        </p:txBody>
      </p:sp>
      <p:sp>
        <p:nvSpPr>
          <p:cNvPr id="56" name="PlaceHolder 2"/>
          <p:cNvSpPr>
            <a:spLocks noGrp="1"/>
          </p:cNvSpPr>
          <p:nvPr>
            <p:ph type="subTitle"/>
          </p:nvPr>
        </p:nvSpPr>
        <p:spPr>
          <a:xfrm>
            <a:off x="826920" y="4220640"/>
            <a:ext cx="7777440" cy="1752840"/>
          </a:xfrm>
          <a:prstGeom prst="rect">
            <a:avLst/>
          </a:prstGeom>
          <a:noFill/>
          <a:ln w="0">
            <a:noFill/>
          </a:ln>
        </p:spPr>
        <p:txBody>
          <a:bodyPr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HILE QUE VIENE</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STITUCIONALIDAD PARA EL DESARROLLO:</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NUEVOS DESAFÍOS</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8 de Octubre, 2009</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sado en presentación de J. Marshall y M. Waissbluth del 18 de enero de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63E1-B1F7-405D-8AE2-B99B7898E0BE}"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Introducción</a:t>
            </a:r>
            <a:endParaRPr b="1" lang="en-US" sz="3200" spc="-1" strike="noStrike">
              <a:solidFill>
                <a:srgbClr val="333399"/>
              </a:solidFill>
              <a:latin typeface="Arial"/>
            </a:endParaRPr>
          </a:p>
        </p:txBody>
      </p:sp>
      <p:sp>
        <p:nvSpPr>
          <p:cNvPr id="59" name="PlaceHolder 2"/>
          <p:cNvSpPr>
            <a:spLocks noGrp="1"/>
          </p:cNvSpPr>
          <p:nvPr>
            <p:ph/>
          </p:nvPr>
        </p:nvSpPr>
        <p:spPr>
          <a:xfrm>
            <a:off x="323640" y="1267920"/>
            <a:ext cx="856908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r las instituciones incrementa la competitividad y refuerza la protección social en un período más corto que la indispensable mejora del capital huma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opósito del trabajo: aportar a la creación de una “hoja de ruta de mediano y largo plazo” para profundizar la reforma del estad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distancia entre los horizontes temporales de la contingencia política y las reformas “duras” convierte este en un problema de Estado y no de Gobier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texto: el ocaso del estado weberiano, la emergencia de nuevos temas transversales, del estado “en red”, y la profundización del uso del mercado como herramienta.</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6F32-A06F-47A6-8027-88FD93DF4EF7}"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6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Balance (brevísimo) a la fecha</a:t>
            </a:r>
            <a:endParaRPr b="1" lang="en-US" sz="3200" spc="-1" strike="noStrike">
              <a:solidFill>
                <a:srgbClr val="333399"/>
              </a:solidFill>
              <a:latin typeface="Arial"/>
            </a:endParaRPr>
          </a:p>
        </p:txBody>
      </p:sp>
      <p:sp>
        <p:nvSpPr>
          <p:cNvPr id="62" name="PlaceHolder 2"/>
          <p:cNvSpPr>
            <a:spLocks noGrp="1"/>
          </p:cNvSpPr>
          <p:nvPr>
            <p:ph/>
          </p:nvPr>
        </p:nvSpPr>
        <p:spPr>
          <a:xfrm>
            <a:off x="0" y="836640"/>
            <a:ext cx="8964720" cy="4968720"/>
          </a:xfrm>
          <a:prstGeom prst="rect">
            <a:avLst/>
          </a:prstGeom>
          <a:noFill/>
          <a:ln w="0">
            <a:noFill/>
          </a:ln>
        </p:spPr>
        <p:txBody>
          <a:bodyPr anchor="t">
            <a:normAutofit fontScale="91000"/>
          </a:bodyPr>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s reformas del régimen militar fueron de carácter “administrativo”, últimos pero necesarios suspiros de la concepción weberiana. Asimismo, grandes avances desregulatorios y regulatorios. Municipalización poco democrática, ideologizada y con poco criterio de realidad.</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 primera oleada de Aylwin fue de “creaciones institucionales”: SEGPRES, SERNAM, CONADI, FOSIS, FONADIS, INJUV, AGCI, CONAMA. Confianza excesiva en que la creación de instituciones </a:t>
            </a:r>
            <a:r>
              <a:rPr b="1" i="1" lang="es-CL" sz="2300" spc="-1" strike="noStrike">
                <a:solidFill>
                  <a:srgbClr val="000000"/>
                </a:solidFill>
                <a:latin typeface="Arial"/>
              </a:rPr>
              <a:t>per se</a:t>
            </a:r>
            <a:r>
              <a:rPr b="1" lang="es-CL" sz="2300" spc="-1" strike="noStrike">
                <a:solidFill>
                  <a:srgbClr val="000000"/>
                </a:solidFill>
                <a:latin typeface="Arial"/>
              </a:rPr>
              <a:t> resuelve los problemas. Los tiempos no estaban para sofisticaciones. Algunos servicios se modernizan “insularmente” gracias a intraemprendedores del sector.</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Con Frei se instala por primera vez una “agenda moderniza-dora” transversal, de calidad, participación, TI, gerencia pública. Comenzó tarde en su período y se tropezó con la crisis asiática.</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El período de Lagos marcado por el “gran acuerdo del 2003”, y hasta hoy el de Bachelet por el “paquete del 2006”. Rol de las crisis se repite en Chile y el mund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9EDA-3DD8-4E3E-AB64-CDB0A0711EF3}"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64" name="PlaceHolder 1"/>
          <p:cNvSpPr>
            <a:spLocks noGrp="1"/>
          </p:cNvSpPr>
          <p:nvPr>
            <p:ph type="title"/>
          </p:nvPr>
        </p:nvSpPr>
        <p:spPr>
          <a:xfrm>
            <a:off x="395280" y="188640"/>
            <a:ext cx="8229600" cy="633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La “caverna de Platón”</a:t>
            </a:r>
            <a:endParaRPr b="1" lang="en-US" sz="3200" spc="-1" strike="noStrike">
              <a:solidFill>
                <a:srgbClr val="333399"/>
              </a:solidFill>
              <a:latin typeface="Arial"/>
            </a:endParaRPr>
          </a:p>
        </p:txBody>
      </p:sp>
      <p:pic>
        <p:nvPicPr>
          <p:cNvPr id="65" name="Picture 3" descr="La caverna"/>
          <p:cNvPicPr/>
          <p:nvPr/>
        </p:nvPicPr>
        <p:blipFill>
          <a:blip r:embed="rId1"/>
          <a:stretch/>
        </p:blipFill>
        <p:spPr>
          <a:xfrm>
            <a:off x="1619280" y="804960"/>
            <a:ext cx="5616720" cy="5533920"/>
          </a:xfrm>
          <a:prstGeom prst="rect">
            <a:avLst/>
          </a:prstGeom>
          <a:ln w="0">
            <a:noFill/>
          </a:ln>
        </p:spPr>
      </p:pic>
      <p:sp>
        <p:nvSpPr>
          <p:cNvPr id="66" name="Text Box 4"/>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el mundo de las ideas de los “policy makers” y los legisladores</a:t>
            </a:r>
            <a:endParaRPr b="0" lang="en-US" sz="1800" spc="-1" strike="noStrike">
              <a:solidFill>
                <a:srgbClr val="000000"/>
              </a:solidFill>
              <a:latin typeface="Arial"/>
            </a:endParaRPr>
          </a:p>
        </p:txBody>
      </p:sp>
      <p:sp>
        <p:nvSpPr>
          <p:cNvPr id="67" name="Line 5"/>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6"/>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69" name="Line 7"/>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8"/>
          <p:cNvSpPr/>
          <p:nvPr/>
        </p:nvSpPr>
        <p:spPr>
          <a:xfrm>
            <a:off x="6012000" y="5229360"/>
            <a:ext cx="2895480" cy="133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ea typeface="Arial"/>
              </a:rPr>
              <a:t>Ejemplos</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bar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solida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300 indicad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C286-F5C8-49D5-91F8-2D1BE31DA5EF}"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Conceptos básicos para mirar al futuro</a:t>
            </a:r>
            <a:endParaRPr b="1" lang="en-US" sz="3200" spc="-1" strike="noStrike">
              <a:solidFill>
                <a:srgbClr val="333399"/>
              </a:solidFill>
              <a:latin typeface="Arial"/>
            </a:endParaRPr>
          </a:p>
        </p:txBody>
      </p:sp>
      <p:sp>
        <p:nvSpPr>
          <p:cNvPr id="73" name="PlaceHolder 2"/>
          <p:cNvSpPr>
            <a:spLocks noGrp="1"/>
          </p:cNvSpPr>
          <p:nvPr>
            <p:ph/>
          </p:nvPr>
        </p:nvSpPr>
        <p:spPr>
          <a:xfrm>
            <a:off x="0" y="1197000"/>
            <a:ext cx="8964720" cy="4968720"/>
          </a:xfrm>
          <a:prstGeom prst="rect">
            <a:avLst/>
          </a:prstGeom>
          <a:noFill/>
          <a:ln w="0">
            <a:noFill/>
          </a:ln>
        </p:spPr>
        <p:txBody>
          <a:bodyPr anchor="t">
            <a:normAutofit fontScale="95000"/>
          </a:bodyPr>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neutralidad derrotó al dirigismo estatal hace dos décadas. Pero ahora, el estado articulador está derrotando a la neutralidad y no nos hemos dado cuenta. Estamos peleando contra fantasm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l posicionamiento estratégico de Chile es indispensable en un mundo globalizado, y esto requiere un Estado proactivo y moderno, con estándares a la altura de la OECD.</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n Chile, la globalización ha sido un factor no sólo de crecimiento, sino también de democratización, transparencia, y defensa de los trabajadore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Pero también la demanda por protección social y las exigencias sobre el estado han aumentado y seguirán aumentando. Las incertidumbres que la globalización le genera al ciudadano deberán ser inevitablemente abordad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igualdad de oportunidades debe ser al inicio más que en el punto de llegada. La “protección social sin costos políticos” se va a terminar pron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AEE2-E4CF-4DFE-B3ED-AD9EF89FD8D9}"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Seis rasgos del Estado en el Siglo XXI</a:t>
            </a:r>
            <a:endParaRPr b="1" lang="en-US" sz="3200" spc="-1" strike="noStrike">
              <a:solidFill>
                <a:srgbClr val="333399"/>
              </a:solidFill>
              <a:latin typeface="Arial"/>
            </a:endParaRPr>
          </a:p>
        </p:txBody>
      </p:sp>
      <p:sp>
        <p:nvSpPr>
          <p:cNvPr id="76" name="PlaceHolder 2"/>
          <p:cNvSpPr>
            <a:spLocks noGrp="1"/>
          </p:cNvSpPr>
          <p:nvPr>
            <p:ph/>
          </p:nvPr>
        </p:nvSpPr>
        <p:spPr>
          <a:xfrm>
            <a:off x="611280" y="1267920"/>
            <a:ext cx="8353440" cy="4969080"/>
          </a:xfrm>
          <a:prstGeom prst="rect">
            <a:avLst/>
          </a:prstGeom>
          <a:noFill/>
          <a:ln w="0">
            <a:noFill/>
          </a:ln>
        </p:spPr>
        <p:txBody>
          <a:bodyPr anchor="t">
            <a:normAutofit/>
          </a:bodyPr>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orientado a resultados</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transparente, cercano y participa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entralización gradual, efectiva y consensuada</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visionario y prospec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integrador, flexible y en red</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con directivos y funcionarios de calidad, en entidades crecientemente autogestiona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41B0-3049-4DEF-AEC5-A24E1B5F3806}"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1. Estado orientado a resultados</a:t>
            </a:r>
            <a:endParaRPr b="1" lang="en-US" sz="3200" spc="-1" strike="noStrike">
              <a:solidFill>
                <a:srgbClr val="333399"/>
              </a:solidFill>
              <a:latin typeface="Arial"/>
            </a:endParaRPr>
          </a:p>
        </p:txBody>
      </p:sp>
      <p:sp>
        <p:nvSpPr>
          <p:cNvPr id="79" name="PlaceHolder 2"/>
          <p:cNvSpPr>
            <a:spLocks noGrp="1"/>
          </p:cNvSpPr>
          <p:nvPr>
            <p:ph/>
          </p:nvPr>
        </p:nvSpPr>
        <p:spPr>
          <a:xfrm>
            <a:off x="0" y="1052640"/>
            <a:ext cx="8964720" cy="4968720"/>
          </a:xfrm>
          <a:prstGeom prst="rect">
            <a:avLst/>
          </a:prstGeom>
          <a:noFill/>
          <a:ln w="0">
            <a:noFill/>
          </a:ln>
        </p:spPr>
        <p:txBody>
          <a:bodyPr anchor="t">
            <a:normAutofit fontScale="98000"/>
          </a:bodyPr>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Énfasis en resultados y evaluación de impacto. Todavía no sabemos qué impacto (outcome) cuantitativo y cualitativo han tenido Chilebarrio o Capital Semilla, o INDAP, 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separación en la medida de lo posible de los roles de formulación de políticas, ejecución, y regulación, requiere de profundas modificaciones ministeriales.</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s diferenciadas al control estratégico (convenio de desempeño), operacional (racionalizar los 300 indicadores), de impacto (en un ente autónomo) y de probidad (en un ente autónom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rnización radical de la Contraloría.</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idado: Separar el rol de evaluación ex ante de inversiones, del de evaluación de impacto y análisis prospec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7T22:06:55Z</dcterms:created>
  <dc:creator> .........</dc:creator>
  <dc:description/>
  <dc:language>en-US</dc:language>
  <cp:lastModifiedBy>Edacunaf</cp:lastModifiedBy>
  <dcterms:modified xsi:type="dcterms:W3CDTF">2009-10-08T20:04:09Z</dcterms:modified>
  <cp:revision>27</cp:revision>
  <dc:subject/>
  <dc:title>Reforma del Estado en Chile Balance y Perspectivas Jorge Marshall y Mario Waissbluth</dc:title>
</cp:coreProperties>
</file>