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F0C1-42A1-4FC3-A46D-21EF6F3890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C550-C2B8-41E1-A91D-9A441C1826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C449-F222-4AB5-97E3-F856979CA5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3E77-0732-4A0B-9D9A-B9BF0E3309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B531-DC6B-4F5B-AA2A-A18F436E7E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4163-A9E1-4355-8C1E-54F55237E3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3607-B33C-4121-8E80-922663B9E9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561F-670D-4C38-AC81-0C556213A6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1F7D-CD02-4FF2-93E5-BDCE348C0A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6648-7F0F-4E87-9FC7-D67081744D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D69A-0C34-4994-9842-D03FAF86F1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B21D-B0AB-4FA2-A11B-A68E632669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2673-DB2F-464C-9170-6D67CBE9F3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5BF1-0D6A-479E-9F26-DDB392C453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AA2F-F6F3-4EDA-B1F5-02FDAA494F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E0CE-DD7A-4C0E-92B6-2EFFEF7070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A01E-FE32-4BA0-ABC4-726918266D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D8B2-6E36-4FF5-8FF9-83A6CA9FB1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EB551-AD26-419B-A987-21EDC56AD1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04E3276-B6EF-48EB-97E4-AD1EB4DD4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075D13A-BC94-428E-89EC-451F3B89E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5D65B68-4114-4ABD-B1CE-D2CA51728B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8748C-4CB9-462B-92AF-B390C07413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B0D5C-2FD9-43EF-9FBD-F94A453EF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52BD5D4-26E5-4DC7-B7FE-553D0C73AA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C791D7D6-B798-4AF6-9DB9-4C95945453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84C7821-C8C2-4E7A-AD13-ADB5EEB894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477CFAA-89B3-405B-9E95-2B9D8CC82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E6E334-D205-4C48-9305-C24181422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AC0737E-2C2F-49CD-8DAE-4B37F34264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348E-1A77-400A-BE73-12A57E61D4F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otas Control de Lectura 1</a:t>
            </a:r>
            <a:endParaRPr b="1" lang="en-US" sz="3200" spc="-1" strike="noStrike">
              <a:solidFill>
                <a:srgbClr val="333399"/>
              </a:solidFill>
              <a:latin typeface="Arial"/>
            </a:endParaRPr>
          </a:p>
        </p:txBody>
      </p:sp>
      <p:graphicFrame>
        <p:nvGraphicFramePr>
          <p:cNvPr id="47" name=""/>
          <p:cNvGraphicFramePr/>
          <p:nvPr/>
        </p:nvGraphicFramePr>
        <p:xfrm>
          <a:off x="0" y="1643040"/>
          <a:ext cx="9144000" cy="2225520"/>
        </p:xfrm>
        <a:graphic>
          <a:graphicData uri="http://schemas.openxmlformats.org/drawingml/2006/table">
            <a:tbl>
              <a:tblPr/>
              <a:tblGrid>
                <a:gridCol w="3143160"/>
                <a:gridCol w="2571840"/>
                <a:gridCol w="3429000"/>
              </a:tblGrid>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otas Control de Lectura 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661 (Malla Antigu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4821 (Malla Nuev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di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viación Estánda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ín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x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8477-61E4-4B25-89CD-5EFFAF317AD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9" name="7 CuadroTexto"/>
          <p:cNvSpPr/>
          <p:nvPr/>
        </p:nvSpPr>
        <p:spPr>
          <a:xfrm>
            <a:off x="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del CTP1 estarán el ma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0929-2FDF-4873-A5DA-8D2AA5BF220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2"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ey de Transparencia.</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345B-3612-4ACC-A9F7-64FBB58F45D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85"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93E2-422A-4169-A1FD-64541BC5965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88"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4956-85B4-45F5-9C90-4C3A80A8FC1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1"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80D1-3866-400F-A56C-E81F834A799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94"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C3FB-1105-4BA3-9F0A-DA4749B2555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97"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a:t>
            </a:r>
            <a:endParaRPr b="1" lang="en-US" sz="3200" spc="-1" strike="noStrike">
              <a:solidFill>
                <a:srgbClr val="333399"/>
              </a:solidFill>
              <a:latin typeface="Arial"/>
            </a:endParaRPr>
          </a:p>
        </p:txBody>
      </p:sp>
      <p:sp>
        <p:nvSpPr>
          <p:cNvPr id="99"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0526-EA6D-4ED6-AD6C-482D76FA001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pic>
        <p:nvPicPr>
          <p:cNvPr id="101" name="Picture 2" descr=""/>
          <p:cNvPicPr/>
          <p:nvPr/>
        </p:nvPicPr>
        <p:blipFill>
          <a:blip r:embed="rId1"/>
          <a:stretch/>
        </p:blipFill>
        <p:spPr>
          <a:xfrm>
            <a:off x="714240" y="2286000"/>
            <a:ext cx="74012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 “Chile un Estado de Clase Mundial”</a:t>
            </a:r>
            <a:endParaRPr b="1" lang="en-US" sz="3200" spc="-1" strike="noStrike">
              <a:solidFill>
                <a:srgbClr val="333399"/>
              </a:solidFill>
              <a:latin typeface="Arial"/>
            </a:endParaRPr>
          </a:p>
        </p:txBody>
      </p:sp>
      <p:sp>
        <p:nvSpPr>
          <p:cNvPr id="103"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derazgo Integrador y Eficaz.</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Efectiva de la Estrateg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s: Profesionalizar el Estado.</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udadanos como protagonistas.</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orzar y empoderar a la primera línea del Estado.</a:t>
            </a:r>
            <a:endParaRPr b="0" lang="en-US" sz="2800" spc="-1" strike="noStrike">
              <a:solidFill>
                <a:srgbClr val="000000"/>
              </a:solidFill>
              <a:latin typeface="Arial"/>
            </a:endParaRPr>
          </a:p>
        </p:txBody>
      </p:sp>
      <p:sp>
        <p:nvSpPr>
          <p:cNvPr id="10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F57F-BCC5-42FB-AA3A-7067FED5FC7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lases que faltan</a:t>
            </a:r>
            <a:endParaRPr b="1" lang="en-US" sz="3200" spc="-1" strike="noStrike">
              <a:solidFill>
                <a:srgbClr val="333399"/>
              </a:solidFill>
              <a:latin typeface="Arial"/>
            </a:endParaRPr>
          </a:p>
        </p:txBody>
      </p:sp>
      <p:sp>
        <p:nvSpPr>
          <p:cNvPr id="51"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203A-E7F8-41EA-947E-1507A86DDB1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graphicFrame>
        <p:nvGraphicFramePr>
          <p:cNvPr id="53" name=""/>
          <p:cNvGraphicFramePr/>
          <p:nvPr/>
        </p:nvGraphicFramePr>
        <p:xfrm>
          <a:off x="0" y="1357200"/>
          <a:ext cx="9001080" cy="3487680"/>
        </p:xfrm>
        <a:graphic>
          <a:graphicData uri="http://schemas.openxmlformats.org/drawingml/2006/table">
            <a:tbl>
              <a:tblPr/>
              <a:tblGrid>
                <a:gridCol w="866880"/>
                <a:gridCol w="1306440"/>
                <a:gridCol w="3770280"/>
                <a:gridCol w="2262240"/>
                <a:gridCol w="795240"/>
              </a:tblGrid>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8</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l Estado en Chile (casos y proyeccione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9</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tica, Transparencia y Participación Ciudadana. María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ía José Pérez,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509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0</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2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º 2: E-governmen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ejandro Barro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1</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9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 3: Caso Tesorería General de la Repúblic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mela Cuzmar</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stión de Organizaciones y Programas Públicos en Chile y Latinoamérica.</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sé Inostroza, César Avendaño,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TP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44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3</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l Cambio: Los Desafíos de lograr la Modernizació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Lectura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4</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novación y Marketing en el sector público</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308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á fijada por Escuel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F607-B716-4B50-A8F6-7668DCD64E8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Mario Waissbluth</a:t>
            </a:r>
            <a:endParaRPr b="1" lang="en-US" sz="2800" spc="-1" strike="noStrike">
              <a:solidFill>
                <a:srgbClr val="333399"/>
              </a:solidFill>
              <a:latin typeface="Arial"/>
            </a:endParaRPr>
          </a:p>
        </p:txBody>
      </p:sp>
      <p:sp>
        <p:nvSpPr>
          <p:cNvPr id="56"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de Octubre, 2009</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sado en presentación de J. Marshall y M. Waissbluth del 18 de enero d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378D-0006-40FD-8F38-BE28FE9A117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9"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n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3351-4CA7-4932-9370-F04BF4C4CED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62"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ácter “administrativo”, últimos pero necesarios suspiros de la concepción weberiana. Asimismo, grandes avances des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D0D1-DEB2-42A0-812C-6207FD40EB6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65" name="Picture 3" descr="La caverna"/>
          <p:cNvPicPr/>
          <p:nvPr/>
        </p:nvPicPr>
        <p:blipFill>
          <a:blip r:embed="rId1"/>
          <a:stretch/>
        </p:blipFill>
        <p:spPr>
          <a:xfrm>
            <a:off x="1619280" y="804960"/>
            <a:ext cx="5616720" cy="5533920"/>
          </a:xfrm>
          <a:prstGeom prst="rect">
            <a:avLst/>
          </a:prstGeom>
          <a:ln w="0">
            <a:noFill/>
          </a:ln>
        </p:spPr>
      </p:pic>
      <p:sp>
        <p:nvSpPr>
          <p:cNvPr id="66"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67"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9"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441A-6A1D-424B-A730-477168EBD44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3"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2B43-04D4-44C7-A844-56B3A6693A4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76"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EBE1-72AB-4883-8B41-7F575C95534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79"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Énfasis en resultados y evaluación de impacto. Todavía no sabemos qué impacto (outcome) cuantitativo y cualitativo han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Edacunaf</cp:lastModifiedBy>
  <dcterms:modified xsi:type="dcterms:W3CDTF">2009-10-08T20:04:09Z</dcterms:modified>
  <cp:revision>27</cp:revision>
  <dc:subject/>
  <dc:title>Reforma del Estado en Chile Balance y Perspectivas Jorge Marshall y Mario Waissbluth</dc:title>
</cp:coreProperties>
</file>