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50C8-784E-406B-AEDF-B91A54DEF17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E4DC-430F-489B-8134-BC2477D46DD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6B05-90CB-4FA8-B7BC-5223D5E4D62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B99F-59EA-46B9-AE6F-FD25CE79861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851C-8045-46C8-8A27-2EBB9438A2A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0C0F4-350D-458A-B2B4-DB57B5C6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E7AEB-78E9-47FE-BD2E-4C20C952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20A18-0EDE-4B3C-894C-019902BB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9D9A8-6F70-4660-A1D3-1656A71D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2F116-A687-4418-ABD0-C851DE13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6C462-3671-4EF7-A871-E8859787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30EC8-EE44-48C8-ABA7-90A56794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1FD8C-1E42-4885-B4DB-9756C2CE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4B1BF-2200-491F-A294-30C57C8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8554D-573B-4F3C-9290-A9B9861C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6CCBD-5D87-45B0-8783-8E2232C4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BE3BC-A1AF-4F9D-99B0-0E6E28A7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6B16-5E40-4F03-920E-0304D004832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toshiba</cp:lastModifiedBy>
  <dcterms:modified xsi:type="dcterms:W3CDTF">2010-08-18T18:19:59Z</dcterms:modified>
  <cp:revision>9</cp:revision>
  <dc:subject/>
  <dc:title>Fuentes de Oportunidades</dc:title>
</cp:coreProperties>
</file>