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6C67-B24D-4671-B3C2-B018DAE78BB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1DFC-214E-49F9-A86D-7D0E40632C5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5415-8E30-4ACB-A3B4-DCDC8BF6125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CF27-0C1B-4CB7-888A-C05B4BB0154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89A-CC19-4F60-963C-62FFC9B8E360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69177-C4AF-4684-9914-F8A45325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F0506-B834-4B3C-87FD-B5423BB3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9F9BE-AE34-4846-9C3B-D7F05830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78B52-6DED-4C6E-ACEA-9D97D789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54A2-2ACD-44F1-8EAE-C22E265B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C3553-AF18-4271-BCF1-D708553D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0B6DD-E552-4D8F-8B15-0C47F609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CF388-951B-439D-9BE7-C70A54F4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F3A0E-BB53-4039-B270-22A8BD00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A4502-3666-4BD3-980F-D269102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D1771-4611-4D68-B390-635888BE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C76CD-6C6C-48BF-9E27-7F87EB01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4653-F657-4124-9EDB-1161C27B323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34720"/>
            <a:ext cx="79898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 de negocio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rbitraje (dif. Costos mano obra, moneda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1989000"/>
          <a:ext cx="7848360" cy="3970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140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611280" y="6245280"/>
            <a:ext cx="792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pos y fuentes de Innov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140"/>
          <p:cNvSpPr/>
          <p:nvPr/>
        </p:nvSpPr>
        <p:spPr>
          <a:xfrm>
            <a:off x="357120" y="2000160"/>
            <a:ext cx="810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Tecnoló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el Producto (bien o servic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Model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de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novación en 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novación (los cambios) genera negocios al crear valor para el cliente (stakeholders) y/o para la empres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toshiba</cp:lastModifiedBy>
  <dcterms:modified xsi:type="dcterms:W3CDTF">2010-08-18T18:19:59Z</dcterms:modified>
  <cp:revision>9</cp:revision>
  <dc:subject/>
  <dc:title>Fuentes de Oportunidades</dc:title>
</cp:coreProperties>
</file>