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2A591-CCFC-427F-80E2-31E09B3DE7B0}"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5D990-AADB-4D9C-B274-7C8EAC6FF69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6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C12E7-5479-4558-B051-A000E087E36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6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A5363-9E63-47E2-8345-BD58BECDEE4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7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83521-BACF-4014-9F19-5720595B45E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7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CFD17-548D-45D0-AB03-4CB8BDCC8B6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7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182BB-5A14-4610-8032-81722344FC9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8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81F1F-2224-4AF2-9AD7-A20B04C6A59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8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23ACA-0ABC-441D-8968-3A244B4A0E5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4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29C06-AAAF-4347-93A2-7B6AAD0D94F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4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4CD7E-700B-40A2-95D2-49FADAA4468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4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1999C-8FF5-4392-842F-B79E38947BF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5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570F6-05FF-4C02-9538-7F2456990D3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5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666A1-2124-4949-A0CC-DB0DD1B9FC5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5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933A7-6B88-4BF2-8F0D-4ADB89F020B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5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A2E88-04C8-4E3A-976F-DF1B58B5615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6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ADB67-B5CD-4130-B9E6-C366CDE9B15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5C96C3-9277-4D39-9776-A6611F2883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C64D2-75EE-40E9-891A-CC5DDE92D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070CA8-D64F-4003-BAF1-782AD11E52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6FB95A-841B-472A-B4D0-01CEF9461F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8FB9DB-8563-4F59-9EBB-D8A1FA7DD4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23671B-0F6F-4B87-BFC2-B353CCD2E8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21C451-BE7A-4D3A-85A3-66F1776BC2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11A995-BA5D-4891-B35D-3837336A72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753525-FE89-4852-8F01-95DC09C22B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647593-9413-4CD8-9079-BC3D46A56E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CA9A2-C9AD-4029-9B73-B2E5305332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4D7BB-62CC-4840-B540-271AB5FE0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5A3C97-9C98-413F-97E8-B59F7A7513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DEAF42-AB6C-426A-A799-2900A6D235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B5808A-9104-4EE5-9A4C-BC6A05F32A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E499C6-2A0A-4D1F-A1F5-9743516BC4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B29344-68B2-46CC-A3E3-F7EC53CDE2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A4EF0F-E705-46FE-9B3B-3C7EDEA50B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1A31A9-F709-4FA2-A267-FCAC8A1C48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E4C508-28FD-4390-857A-67EA4A78E6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C21971-9D91-41E8-A9BB-D87B147569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1BC4E7-10B8-4775-8239-949CF897D0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8A37B-361F-439D-A668-92C035B49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2E42CD-AD5B-4A42-AAB6-989F8F5FFB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B12004-18AC-4B0F-90C3-D033D78426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D3B81C-2298-4E57-B8F6-880E9E9465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56F9BA-2774-46A9-86D7-83FA4DED9B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C438B7-A70D-4EE6-90F6-935F8AC416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AAF16C-C347-4AFD-82AB-8486FB1EDE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AFA99D-9425-441E-905B-A5DA221792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311398-B1A6-4CDE-B6E2-F7DF8E55A7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5EFAC5-2426-4808-92DF-8F4006FE84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5CD96C-C462-4DD5-BF4B-6234422B0B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013DB-371C-4C33-B6E1-48770AB87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48396B-961C-4D37-A36D-B77818EB70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C215B8-FB14-4AC0-B596-A73A7D2758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DEDFBA-9B23-4ABE-ABB1-C5DCA60880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D7E71A-0624-436C-B3F2-DC75D4F645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21F3D7-C09A-4040-A6DA-2CAF497ABF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1B15C1-402E-4A09-8AA7-741894FEB5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3E2B1E-BA74-49C1-8CF7-0361D09C19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4F123A-2F7F-4EAC-AE7B-E3AA3266CB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0A2C61-0C8F-43BF-92EF-2B7713515A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3AE71-7CE5-4604-9B6E-6C8A01A55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43DDA-918A-4E84-B336-A1F090B8E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B7349-3420-4091-8CF0-827A2C617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478F4-6824-4297-BF4B-323B2FD7E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EE445-AD4C-4A5C-BCF4-E3B34D8CE4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47E94-0F8E-4F7F-9BEB-3F9A93DC5D13}" type="slidenum">
              <a:rPr b="0" lang="es-CL"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AB3F5-08D5-4801-AA1A-EDB01B402726}" type="slidenum">
              <a:rPr b="0" lang="es-CL"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B3511-1C24-4422-B959-4CCB852D88AA}" type="slidenum">
              <a:rPr b="0" lang="es-CL"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7FDBA-4214-4030-87EC-136DBDBE0889}" type="slidenum">
              <a:rPr b="0" lang="es-CL"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02" name="1 Título" descr=""/>
          <p:cNvPicPr/>
          <p:nvPr/>
        </p:nvPicPr>
        <p:blipFill>
          <a:blip r:embed="rId1"/>
          <a:stretch/>
        </p:blipFill>
        <p:spPr>
          <a:xfrm>
            <a:off x="530280" y="2236680"/>
            <a:ext cx="8302680" cy="1901880"/>
          </a:xfrm>
          <a:prstGeom prst="rect">
            <a:avLst/>
          </a:prstGeom>
          <a:ln w="0">
            <a:noFill/>
          </a:ln>
        </p:spPr>
      </p:pic>
      <p:sp>
        <p:nvSpPr>
          <p:cNvPr id="203" name="PlaceHolder 1"/>
          <p:cNvSpPr>
            <a:spLocks noGrp="1"/>
          </p:cNvSpPr>
          <p:nvPr>
            <p:ph type="subTitle"/>
          </p:nvPr>
        </p:nvSpPr>
        <p:spPr>
          <a:xfrm>
            <a:off x="1371600" y="933480"/>
            <a:ext cx="6400800" cy="1209600"/>
          </a:xfrm>
          <a:prstGeom prst="rect">
            <a:avLst/>
          </a:prstGeom>
          <a:noFill/>
          <a:ln w="0">
            <a:noFill/>
          </a:ln>
        </p:spPr>
        <p:txBody>
          <a:bodyPr lIns="0" rIns="18360" anchor="t">
            <a:noAutofit/>
          </a:bodyPr>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nstantia"/>
              </a:rPr>
              <a:t>SI ACTÚAS COMO UN PENSADOR TE CONVERTIRÁS EN UNO.  Edward  De Bono</a:t>
            </a:r>
            <a:endParaRPr b="0" lang="en-US" sz="2600" spc="-1" strike="noStrike">
              <a:solidFill>
                <a:srgbClr val="ffffff"/>
              </a:solidFill>
              <a:latin typeface="Constantia"/>
            </a:endParaRPr>
          </a:p>
        </p:txBody>
      </p:sp>
      <p:sp>
        <p:nvSpPr>
          <p:cNvPr id="204" name="4 Rectángulo"/>
          <p:cNvSpPr/>
          <p:nvPr/>
        </p:nvSpPr>
        <p:spPr>
          <a:xfrm>
            <a:off x="1571760" y="5157720"/>
            <a:ext cx="70009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La dificultad principal para el pensamiento es la confusión. Intentamos hacer demasiado al mismo tiempo. Las emociones, la información, la lógica, la esperanza y la creatividad nos agobian. Es como hacer malabarismo con demasiadas pelotas…</a:t>
            </a:r>
            <a:endParaRPr b="0" lang="en-US" sz="1800" spc="-1" strike="noStrike">
              <a:solidFill>
                <a:srgbClr val="000000"/>
              </a:solidFill>
              <a:latin typeface="Arial"/>
            </a:endParaRPr>
          </a:p>
        </p:txBody>
      </p:sp>
      <p:sp>
        <p:nvSpPr>
          <p:cNvPr id="205" name="5 CuadroTexto"/>
          <p:cNvSpPr/>
          <p:nvPr/>
        </p:nvSpPr>
        <p:spPr>
          <a:xfrm>
            <a:off x="6215040" y="4214880"/>
            <a:ext cx="235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Raúl Uribe 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Agosto de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680"/>
            <a:ext cx="8229600" cy="797040"/>
          </a:xfrm>
          <a:prstGeom prst="rect">
            <a:avLst/>
          </a:prstGeom>
          <a:noFill/>
          <a:ln w="0">
            <a:noFill/>
          </a:ln>
        </p:spPr>
        <p:txBody>
          <a:bodyPr lIns="0" r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4617b"/>
                </a:solidFill>
                <a:latin typeface="Calibri"/>
              </a:rPr>
              <a:t>PENSAMIENTO DE SOMBRERO AZUL</a:t>
            </a:r>
            <a:endParaRPr b="0" lang="en-US" sz="4000" spc="-1" strike="noStrike">
              <a:solidFill>
                <a:srgbClr val="04617b"/>
              </a:solidFill>
              <a:latin typeface="Calibri"/>
            </a:endParaRPr>
          </a:p>
        </p:txBody>
      </p:sp>
      <p:sp>
        <p:nvSpPr>
          <p:cNvPr id="223" name=""/>
          <p:cNvSpPr txBox="1"/>
          <p:nvPr/>
        </p:nvSpPr>
        <p:spPr>
          <a:xfrm>
            <a:off x="457200" y="856800"/>
            <a:ext cx="8229600" cy="6286680"/>
          </a:xfrm>
          <a:prstGeom prst="rect">
            <a:avLst/>
          </a:prstGeom>
          <a:noFill/>
          <a:ln w="0">
            <a:noFill/>
          </a:ln>
        </p:spPr>
        <p:txBody>
          <a:bodyPr anchor="t">
            <a:normAutofit fontScale="91000"/>
          </a:bodyPr>
          <a:p>
            <a:pPr marL="248040" indent="-24804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azul es el sombrero del control. El pensador del sombrero azul organiza el</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miento mismo. Pensar con el sombrero azul es pensar acerca del pensamiento</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necesario para indagar el tema.</a:t>
            </a:r>
            <a:endParaRPr b="0" lang="en-US" sz="1600" spc="-1" strike="noStrike">
              <a:solidFill>
                <a:srgbClr val="000000"/>
              </a:solidFill>
              <a:latin typeface="Constantia"/>
            </a:endParaRPr>
          </a:p>
          <a:p>
            <a:pPr marL="248040" indent="-24804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dor de sombrero azul es como el director de orquesta. Es quien propone, quien  llama al uso de los otros sombreros.</a:t>
            </a:r>
            <a:endParaRPr b="0" lang="en-US" sz="1600" spc="-1" strike="noStrike">
              <a:solidFill>
                <a:srgbClr val="000000"/>
              </a:solidFill>
              <a:latin typeface="Constantia"/>
            </a:endParaRPr>
          </a:p>
          <a:p>
            <a:pPr marL="248040" indent="-24804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dor de sombrero azul define los temas hacia los que debe dirigirse el</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miento. El pensamiento de sombrero azul establece el foco. Define los problemas y</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abora las preguntas. El pensamiento de sombrero azul determina las tareas de</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miento que se van a desarrollar.</a:t>
            </a:r>
            <a:endParaRPr b="0" lang="en-US" sz="1600" spc="-1" strike="noStrike">
              <a:solidFill>
                <a:srgbClr val="000000"/>
              </a:solidFill>
              <a:latin typeface="Constantia"/>
            </a:endParaRPr>
          </a:p>
          <a:p>
            <a:pPr marL="248040" indent="-24804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zul es responsable de la síntesis, la visión global y las</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conclusiones. Esto puede ocurrir de tanto en tanto durante el curso del pensamiento y</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también al final</a:t>
            </a:r>
            <a:endParaRPr b="0" lang="en-US" sz="1600" spc="-1" strike="noStrike">
              <a:solidFill>
                <a:srgbClr val="000000"/>
              </a:solidFill>
              <a:latin typeface="Constantia"/>
            </a:endParaRPr>
          </a:p>
          <a:p>
            <a:pPr marL="248040" indent="-24804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zul monitorea el pensamiento y asegura el respeto de las</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reglas de Juego. El pensamiento de sombrero azul detiene la discusión e insiste en el</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miento cartográfico. El pensamiento de sombrero azul refuerza y aplica la disciplina.</a:t>
            </a:r>
            <a:endParaRPr b="0" lang="en-US" sz="1600" spc="-1" strike="noStrike">
              <a:solidFill>
                <a:srgbClr val="000000"/>
              </a:solidFill>
              <a:latin typeface="Constantia"/>
            </a:endParaRPr>
          </a:p>
          <a:p>
            <a:pPr marL="248040" indent="-24804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Se puede usar el pensamiento de sombrero azul en interrupciones eventuales para pedir</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un sombrero. También puede utilizarse para establecer una secuencia gradual de</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operaciones de pensamiento que deben respetarse tal como una danza respeta la</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Coreografía. </a:t>
            </a:r>
            <a:r>
              <a:rPr b="0" lang="es-ES" sz="1600" spc="-1" strike="noStrike">
                <a:solidFill>
                  <a:srgbClr val="000000"/>
                </a:solidFill>
                <a:latin typeface="Constantia"/>
              </a:rPr>
              <a:t>Aún cuando se asigne a una persona el rol especifico del pensamiento de sombrero azul, este rol está abierto a  cualquiera que quiera proponer comentarios o sugerencias de sombrero azul.</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42960" y="428400"/>
            <a:ext cx="8043840" cy="988920"/>
          </a:xfrm>
          <a:prstGeom prst="rect">
            <a:avLst/>
          </a:prstGeom>
          <a:noFill/>
          <a:ln w="0">
            <a:noFill/>
          </a:ln>
        </p:spPr>
        <p:txBody>
          <a:bodyPr lIns="0" r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4617b"/>
                </a:solidFill>
                <a:latin typeface="Calibri"/>
              </a:rPr>
              <a:t>LAS VENTAJAS DE LAS TECNICAS DE LOS SEIS SOMBREROS.</a:t>
            </a:r>
            <a:br>
              <a:rPr sz="4500"/>
            </a:br>
            <a:endParaRPr b="0" lang="en-US" sz="3200" spc="-1" strike="noStrike">
              <a:solidFill>
                <a:srgbClr val="04617b"/>
              </a:solidFill>
              <a:latin typeface="Calibri"/>
            </a:endParaRPr>
          </a:p>
        </p:txBody>
      </p:sp>
      <p:sp>
        <p:nvSpPr>
          <p:cNvPr id="225"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STIMULA LA CREATIVIDAD</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REDUCE EL TIEMPO DE LAS REUNIONES </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RODUCE MEJORA EN LA GENERACIÓN DE NUEVAS IDEAS</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ROMUEVE RELACIONES POSITIVAS</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AUMENTA LA CONTRIBUCIÓN DE LAS REUNIONES</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RODUCE MEJORES Y MÁS RÁPIDAS DECISIONES</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AUMENTA LA INNOVACIÓN</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4617b"/>
                </a:solidFill>
                <a:latin typeface="Calibri"/>
              </a:rPr>
              <a:t>EL PENSAMIENTO LATERAL </a:t>
            </a:r>
            <a:endParaRPr b="0" lang="en-US" sz="36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l Pensamiento Lateral se concibe como un Pensamiento Creativo, una forma de escapar a las ideas fijas. Es una habilidad mental adquirida que busca una solución mediante métodos no ortodoxos, que normalmente serían ignorados por el pensamiento lógico.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a necesidad de que todas las fases del pensamiento sean correctas, es la principal barrera en la concepción de nuevas ideas.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n el Pensamiento Lateral se prescinde inicialmente de la evaluación, es decir si las ideas en el proceso de su formulación son correctas. Primero se obtiene un gran número de ideas y luego se exponen a su evaluación, análisis y valoración.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Dos tipos de pensamiento</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l creador del Pensamiento Lateral, Dr. Edward de Bono DISTINGUE entre dos tipos de pensamiento:</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l Vertical, que usa el proceso lógico, según el método histórico tradicional</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l Lateral, que involucra desorganizar  la mirada , buscar ideas desde otros ángulos , desde otros paradigmas.</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Ambos son igualmente necesarios, con el Pensamiento Lateral creamos las ideas, o con el Pensamiento Lógico las desarrollamos, las seleccionamos y las utilizamos. </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as técnicas del Pensamiento Lateral se utilizan en los manuales de docencia para profesores de primaria y secundaria . </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4617b"/>
                </a:solidFill>
                <a:latin typeface="Calibri"/>
              </a:rPr>
              <a:t>TÉCNICAS DEL PENSAMIENTO LATERAL</a:t>
            </a:r>
            <a:endParaRPr b="0" lang="en-US" sz="32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ALGUNAS DE ELLA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ALTERNATIVAS: cualquier método para valorar una situación es solo una de las muchas opciones posible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ENFOQUES: cuando y como cambiar el enfoque del pensamiento</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IDEAS DOMINANTES: REESTRUCTURAR modelos establecido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REVISIÓN DE SUPUESTOS: porque en la solución de las problemas se presuponen siempre ciertos limite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RETOS y DESAFIOS: escapar de los limites establecidos por el pensamiento tradicional</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ENTRADAS ALEATORIAS: utilizar ideas no relacionados con el tema para abrir nuevas líneas de pensamiento</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PO - PROVOCACIÓN: transformar una idea provocativa en una potencialmente operacional (PO)</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4617b"/>
                </a:solidFill>
                <a:latin typeface="Calibri"/>
              </a:rPr>
              <a:t>HERRAMIENTAS PARA DIRIGIR LA ATENCIÓN DEL PENSAMIENTO. DATT</a:t>
            </a:r>
            <a:endParaRPr b="0" lang="en-US" sz="3200" spc="-1" strike="noStrike">
              <a:solidFill>
                <a:srgbClr val="04617b"/>
              </a:solidFill>
              <a:latin typeface="Calibri"/>
            </a:endParaRPr>
          </a:p>
        </p:txBody>
      </p:sp>
      <p:sp>
        <p:nvSpPr>
          <p:cNvPr id="233"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Desarrolladas por el Dr. Edward de Bono, las técnicas de </a:t>
            </a:r>
            <a:r>
              <a:rPr b="1" lang="es-ES" sz="2000" spc="-1" strike="noStrike">
                <a:solidFill>
                  <a:srgbClr val="000000"/>
                </a:solidFill>
                <a:latin typeface="Constantia"/>
              </a:rPr>
              <a:t>DATT               ( Direct Attention To Thought) </a:t>
            </a:r>
            <a:r>
              <a:rPr b="0" lang="es-ES" sz="2000" spc="-1" strike="noStrike">
                <a:solidFill>
                  <a:srgbClr val="000000"/>
                </a:solidFill>
                <a:latin typeface="Constantia"/>
              </a:rPr>
              <a:t>nacen de un estudio exhaustivo llevado a cabo durante varios años en las Universidades de Cambridge y Oxford, de cómo funciona el cerebro y como maneja la información: habitualmente uno tiende a permanecer dentro del circuito de lo conocido. El gran logro ha sido inventar unas herramientas simples pero poderosas, que permiten estirar la mente, ampliar la visión y llegar a conclusiones consecuentes y consistentes.</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DATT son diez herramientas que proporcionan de forma consistente la toma de decisiones y la resolución de problemas. Los conceptos y técnicas de DATT ayudan a dirigir el pensamiento para conseguir la información pertinente y actuar de forma apropiada. El enfoque de la estrategia DATT permite aguzar la percepción de manera comprensiva, efectiva y eficaz, mejorando la capacidad para considerar las consecuencias antes de actuar. Crea una estructura para definir las prioridades, teniendo en cuenta la importancia de los valores ante cualquier toma de decisión.</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771480" y="-71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Las 10 Herramientas DATT</a:t>
            </a:r>
            <a:endParaRPr b="0" lang="en-US" sz="5000" spc="-1" strike="noStrike">
              <a:solidFill>
                <a:srgbClr val="04617b"/>
              </a:solidFill>
              <a:latin typeface="Calibri"/>
            </a:endParaRPr>
          </a:p>
        </p:txBody>
      </p:sp>
      <p:sp>
        <p:nvSpPr>
          <p:cNvPr id="235" name=""/>
          <p:cNvSpPr txBox="1"/>
          <p:nvPr/>
        </p:nvSpPr>
        <p:spPr>
          <a:xfrm>
            <a:off x="457200" y="1000080"/>
            <a:ext cx="8229600" cy="5786640"/>
          </a:xfrm>
          <a:prstGeom prst="rect">
            <a:avLst/>
          </a:prstGeom>
          <a:noFill/>
          <a:ln w="0">
            <a:noFill/>
          </a:ln>
        </p:spPr>
        <p:txBody>
          <a:bodyPr anchor="t">
            <a:normAutofit/>
          </a:bodyPr>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C&amp;S. Consecuencias y Secuelas</a:t>
            </a:r>
            <a:r>
              <a:rPr b="0" lang="es-ES" sz="1600" spc="-1" strike="noStrike">
                <a:solidFill>
                  <a:srgbClr val="000000"/>
                </a:solidFill>
                <a:latin typeface="Constantia"/>
              </a:rPr>
              <a:t>: Considerar las consecuencias proyectadas hacia el futuro para evitar resultados inadvertidamente negativos.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PMI . Plus, Menos, Interesante:</a:t>
            </a:r>
            <a:r>
              <a:rPr b="0" lang="es-ES" sz="1600" spc="-1" strike="noStrike">
                <a:solidFill>
                  <a:srgbClr val="000000"/>
                </a:solidFill>
                <a:latin typeface="Constantia"/>
              </a:rPr>
              <a:t> Tener en cuenta todos los factores tanto positivos, como negativos e interesantes antes de tomar una decisión. Hacer un mapa.</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RAD. Reconocer, Analizar, Dividir:</a:t>
            </a:r>
            <a:r>
              <a:rPr b="0" lang="es-ES" sz="1600" spc="-1" strike="noStrike">
                <a:solidFill>
                  <a:srgbClr val="000000"/>
                </a:solidFill>
                <a:latin typeface="Constantia"/>
              </a:rPr>
              <a:t> Romper la información en trozos manejables para maximizar los esfuerzos y recursos.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CAF. Considerar Ampliamente todos los Factores:</a:t>
            </a:r>
            <a:r>
              <a:rPr b="0" lang="es-ES" sz="1600" spc="-1" strike="noStrike">
                <a:solidFill>
                  <a:srgbClr val="000000"/>
                </a:solidFill>
                <a:latin typeface="Constantia"/>
              </a:rPr>
              <a:t> Ahorrar esfuerzo y recursos costosos. Considerar todos los factores relacionadas con la acción, plan, decisión, juicio o situación antes de tomar una decisión.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AGO.  Objetivos (Aims, Goals, Objectives)</a:t>
            </a:r>
            <a:r>
              <a:rPr b="0" lang="es-ES" sz="1600" spc="-1" strike="noStrike">
                <a:solidFill>
                  <a:srgbClr val="000000"/>
                </a:solidFill>
                <a:latin typeface="Constantia"/>
              </a:rPr>
              <a:t>: Mantener un enfoque afilado sobre las metas para encaminar el proceso hacia los resultados deseados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APC.  Alternativas, Posibilidades, Caminos:</a:t>
            </a:r>
            <a:r>
              <a:rPr b="0" lang="es-ES" sz="1600" spc="-1" strike="noStrike">
                <a:solidFill>
                  <a:srgbClr val="000000"/>
                </a:solidFill>
                <a:latin typeface="Constantia"/>
              </a:rPr>
              <a:t> Amplia la gama de soluciones con el objetivo de elegir el que mejor se adapte a los retos trazados.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OPV . Otras Personas, sus Puntos de Vista (Other People's Views):</a:t>
            </a:r>
            <a:r>
              <a:rPr b="0" lang="es-ES" sz="1600" spc="-1" strike="noStrike">
                <a:solidFill>
                  <a:srgbClr val="000000"/>
                </a:solidFill>
                <a:latin typeface="Constantia"/>
              </a:rPr>
              <a:t> Tener en cuenta el punto de vista de los demás. Ayuda a ampliar la perspectiva.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KVI.  Valores Claves Implicados (Key Values Involved): </a:t>
            </a:r>
            <a:r>
              <a:rPr b="0" lang="es-ES" sz="1600" spc="-1" strike="noStrike">
                <a:solidFill>
                  <a:srgbClr val="000000"/>
                </a:solidFill>
                <a:latin typeface="Constantia"/>
              </a:rPr>
              <a:t>Asegura que los valores están en línea son su forma de pensar.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FIP.  Fundamental, Importante, Prioritario (First Important Priority): </a:t>
            </a:r>
            <a:r>
              <a:rPr b="0" lang="es-ES" sz="1600" spc="-1" strike="noStrike">
                <a:solidFill>
                  <a:srgbClr val="000000"/>
                </a:solidFill>
                <a:latin typeface="Constantia"/>
              </a:rPr>
              <a:t>Identifica las primeras prioridades para conseguir los resultados necesarios.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DOCA . Decisión/Diseño, Obtener, Canales, Acción (Decision/Design, Outcome, Channels, Action): </a:t>
            </a:r>
            <a:r>
              <a:rPr b="0" lang="es-ES" sz="1600" spc="-1" strike="noStrike">
                <a:solidFill>
                  <a:srgbClr val="000000"/>
                </a:solidFill>
                <a:latin typeface="Constantia"/>
              </a:rPr>
              <a:t>Atención directa enfocada hacía el resultado del pensamiento y la acción que se tiene que tomar. Asegura que se completa el proceso y que se diseñe un camino hacía adelante. </a:t>
            </a:r>
            <a:br>
              <a:rPr sz="1600"/>
            </a:br>
            <a:r>
              <a:rPr b="0" lang="es-ES" sz="1600" spc="-1" strike="noStrike">
                <a:solidFill>
                  <a:srgbClr val="000000"/>
                </a:solidFill>
                <a:latin typeface="Constantia"/>
              </a:rPr>
              <a:t> </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ensamiento deliberado</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n lugar de sólo </a:t>
            </a:r>
            <a:r>
              <a:rPr b="0" i="1" lang="es-ES" sz="2600" spc="-1" strike="noStrike">
                <a:solidFill>
                  <a:srgbClr val="000000"/>
                </a:solidFill>
                <a:latin typeface="Constantia"/>
              </a:rPr>
              <a:t>reaccionar ante una </a:t>
            </a:r>
            <a:r>
              <a:rPr b="0" lang="es-ES" sz="2600" spc="-1" strike="noStrike">
                <a:solidFill>
                  <a:srgbClr val="000000"/>
                </a:solidFill>
                <a:latin typeface="Constantia"/>
              </a:rPr>
              <a:t>determinada situación, el joven traza un mapa simple. Para hacerlo, contempla primero la dirección "Plus" (positivo) y anota lo que observa. El joven dirige después su atención hacia la dirección “Minus” (negativo) y finalmente hacia la dirección "Interesting”(interesante) (para todas las cosas que vale la pena anotar pero no encajan ni en "Plus" ni en "Minus"). El mapa está trazado. El pensador elige su rut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ntención y desempeño</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a intención es el primer paso. Es fácil y difícil al mismo tiempo. Bastante parecido a los hábitos Zen sobre los que es fácil escribir pero no tan fácil realiz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or esta razón hacen falta ciertas estructuras tangibles, los seis sombreros para pensar, ofrecen una forma de traducir la intención en </a:t>
            </a:r>
            <a:r>
              <a:rPr b="0" lang="es-CL" sz="2600" spc="-1" strike="noStrike">
                <a:solidFill>
                  <a:srgbClr val="000000"/>
                </a:solidFill>
                <a:latin typeface="Constantia"/>
              </a:rPr>
              <a:t>desempeño efectiv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LOS SEIS SOMBREROS </a:t>
            </a:r>
            <a:br>
              <a:rPr sz="4500"/>
            </a:br>
            <a:endParaRPr b="0" lang="en-US" sz="4500" spc="-1" strike="noStrike">
              <a:solidFill>
                <a:srgbClr val="04617b"/>
              </a:solidFill>
              <a:latin typeface="Calibri"/>
            </a:endParaRPr>
          </a:p>
        </p:txBody>
      </p:sp>
      <p:sp>
        <p:nvSpPr>
          <p:cNvPr id="211" name=""/>
          <p:cNvSpPr txBox="1"/>
          <p:nvPr/>
        </p:nvSpPr>
        <p:spPr>
          <a:xfrm>
            <a:off x="0" y="1428840"/>
            <a:ext cx="9144000" cy="5038560"/>
          </a:xfrm>
          <a:prstGeom prst="rect">
            <a:avLst/>
          </a:prstGeom>
          <a:noFill/>
          <a:ln w="0">
            <a:noFill/>
          </a:ln>
        </p:spPr>
        <p:txBody>
          <a:bodyPr anchor="t">
            <a:normAutofit/>
          </a:bodyPr>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tantia"/>
              </a:rPr>
              <a:t>  </a:t>
            </a:r>
            <a:r>
              <a:rPr b="0" lang="es-ES" sz="1400" spc="-1" strike="noStrike">
                <a:solidFill>
                  <a:srgbClr val="000000"/>
                </a:solidFill>
                <a:latin typeface="Constantia"/>
              </a:rPr>
              <a:t>Hay seis sombreros metafóricos donde se cambian los colores para indicar el tipo de pensamiento que se está utilizando. Cuando se realiza en grupo, todos los participantes deben utilizar el mismo sombrero a la vez. </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El Sombrero Blanco</a:t>
            </a:r>
            <a:r>
              <a:rPr b="0" lang="es-ES" sz="1400" spc="-1" strike="noStrike">
                <a:solidFill>
                  <a:srgbClr val="000000"/>
                </a:solidFill>
                <a:latin typeface="Constantia"/>
              </a:rPr>
              <a:t> </a:t>
            </a:r>
            <a:br>
              <a:rPr sz="1400"/>
            </a:br>
            <a:r>
              <a:rPr b="0" lang="es-ES" sz="1400" spc="-1" strike="noStrike">
                <a:solidFill>
                  <a:srgbClr val="000000"/>
                </a:solidFill>
                <a:latin typeface="Constantia"/>
              </a:rPr>
              <a:t>Tiene que ver con la información disponible, es neutral y objetivo. Trata hechos, cifras, necesidades y ausencias de información. </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El Sombrero Rojo </a:t>
            </a:r>
            <a:br>
              <a:rPr sz="1400"/>
            </a:br>
            <a:r>
              <a:rPr b="0" lang="es-ES" sz="1400" spc="-1" strike="noStrike">
                <a:solidFill>
                  <a:srgbClr val="000000"/>
                </a:solidFill>
                <a:latin typeface="Constantia"/>
              </a:rPr>
              <a:t>Este tiene que ver con intuición, sentimientos y emociones. El sombrero rojo permite exponer una intuición/sentimiento sin tener que justificarla. Presentimiento e intuición.</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El Sombrero Negro </a:t>
            </a:r>
            <a:br>
              <a:rPr sz="1400"/>
            </a:br>
            <a:r>
              <a:rPr b="0" lang="es-ES" sz="1400" spc="-1" strike="noStrike">
                <a:solidFill>
                  <a:srgbClr val="000000"/>
                </a:solidFill>
                <a:latin typeface="Constantia"/>
              </a:rPr>
              <a:t>Es el sombrero del juicio y la cautela. Debe ser siempre lógico y en ningún sentido es un sombrero negativo o inferior a los demás. El sombrero negro se utiliza para señalar por qué una sugerencia no encaja en los hechos, la experiencia disponible, el sistema utilizado, o la política que se está siguiendo. Abogado del Diablo.</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El Sombrero Amarillo</a:t>
            </a:r>
            <a:r>
              <a:rPr b="0" lang="es-ES" sz="1400" spc="-1" strike="noStrike">
                <a:solidFill>
                  <a:srgbClr val="000000"/>
                </a:solidFill>
                <a:latin typeface="Constantia"/>
              </a:rPr>
              <a:t> </a:t>
            </a:r>
            <a:br>
              <a:rPr sz="1400"/>
            </a:br>
            <a:r>
              <a:rPr b="0" lang="es-ES" sz="1400" spc="-1" strike="noStrike">
                <a:solidFill>
                  <a:srgbClr val="000000"/>
                </a:solidFill>
                <a:latin typeface="Constantia"/>
              </a:rPr>
              <a:t>Tiene que ver con la lógica positiva, representa los valores y beneficios de cualquier tema a tratar. Debe ser utilizado para mirar adelante hacia los resultados de una acción propuesta o que ya ha ocurrido.  Luz de sol, brillo y optimismo, positivo, constructivo,oportunidad.</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El Sombrero Verde </a:t>
            </a:r>
            <a:br>
              <a:rPr sz="1400"/>
            </a:br>
            <a:r>
              <a:rPr b="0" lang="es-ES" sz="1400" spc="-1" strike="noStrike">
                <a:solidFill>
                  <a:srgbClr val="000000"/>
                </a:solidFill>
                <a:latin typeface="Constantia"/>
              </a:rPr>
              <a:t>Es el sombrero de la creatividad, alternativas, propuestas, busca lo que es interesante, estímulos y cambios.  Fertilidad,creatividad,plantas brotando de las semillas, movimiento, provocación.</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El Sombrero Azul </a:t>
            </a:r>
            <a:br>
              <a:rPr sz="1400"/>
            </a:br>
            <a:r>
              <a:rPr b="0" lang="es-ES" sz="1400" spc="-1" strike="noStrike">
                <a:solidFill>
                  <a:srgbClr val="000000"/>
                </a:solidFill>
                <a:latin typeface="Constantia"/>
              </a:rPr>
              <a:t>Este es el sombrero de la vista global. No se enfoca en el asunto propiamente dicho sino vigila el proceso del 'pensamiento', es el papel de director de orquesta. Moderación y control.</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4617b"/>
                </a:solidFill>
                <a:latin typeface="Calibri"/>
              </a:rPr>
              <a:t>PENSAMIENTO DE SOMBRERO BLANCO</a:t>
            </a:r>
            <a:endParaRPr b="0" lang="en-US" sz="3600" spc="-1" strike="noStrike">
              <a:solidFill>
                <a:srgbClr val="04617b"/>
              </a:solidFill>
              <a:latin typeface="Calibri"/>
            </a:endParaRPr>
          </a:p>
        </p:txBody>
      </p:sp>
      <p:sp>
        <p:nvSpPr>
          <p:cNvPr id="213" name=""/>
          <p:cNvSpPr txBox="1"/>
          <p:nvPr/>
        </p:nvSpPr>
        <p:spPr>
          <a:xfrm>
            <a:off x="457200" y="1142640"/>
            <a:ext cx="8229600" cy="5181480"/>
          </a:xfrm>
          <a:prstGeom prst="rect">
            <a:avLst/>
          </a:prstGeom>
          <a:noFill/>
          <a:ln w="0">
            <a:noFill/>
          </a:ln>
        </p:spPr>
        <p:txBody>
          <a:bodyPr anchor="t">
            <a:normAutofit fontScale="87000"/>
          </a:bodyPr>
          <a:p>
            <a:pPr marL="237240" indent="-2372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Imagine una computadora que da los </a:t>
            </a:r>
            <a:r>
              <a:rPr b="1" lang="es-ES" sz="1600" spc="-1" strike="noStrike">
                <a:solidFill>
                  <a:srgbClr val="000000"/>
                </a:solidFill>
                <a:latin typeface="Constantia"/>
              </a:rPr>
              <a:t>hechos y las cifras </a:t>
            </a:r>
            <a:r>
              <a:rPr b="0" lang="es-ES" sz="1600" spc="-1" strike="noStrike">
                <a:solidFill>
                  <a:srgbClr val="000000"/>
                </a:solidFill>
                <a:latin typeface="Constantia"/>
              </a:rPr>
              <a:t>que se le piden. Es neutral y</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objetiva. No hace interpretaciones ni da opiniones. Cuando usa el sombrero blanco, el</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dor debería imitar la computadora.</a:t>
            </a:r>
            <a:endParaRPr b="0" lang="en-US" sz="1600" spc="-1" strike="noStrike">
              <a:solidFill>
                <a:srgbClr val="000000"/>
              </a:solidFill>
              <a:latin typeface="Constantia"/>
            </a:endParaRPr>
          </a:p>
          <a:p>
            <a:pPr marL="237240" indent="-2372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La persona que pide información debe enmarcar y precisar las preguntas a fin de obtener</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información o para completar vacíos de la información existente.</a:t>
            </a:r>
            <a:endParaRPr b="0" lang="en-US" sz="1600" spc="-1" strike="noStrike">
              <a:solidFill>
                <a:srgbClr val="000000"/>
              </a:solidFill>
              <a:latin typeface="Constantia"/>
            </a:endParaRPr>
          </a:p>
          <a:p>
            <a:pPr marL="237240" indent="-2372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n la práctica existe un sistema doble de información. El primer nivel contiene hechos</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verificados y probados, hechos de primera clase. El segundo, hechos que se cree que son</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verdaderos, pero que todavía no han sido totalmente verificados, hechos de segunda</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clase.</a:t>
            </a:r>
            <a:endParaRPr b="0" lang="en-US" sz="1600" spc="-1" strike="noStrike">
              <a:solidFill>
                <a:srgbClr val="000000"/>
              </a:solidFill>
              <a:latin typeface="Constantia"/>
            </a:endParaRPr>
          </a:p>
          <a:p>
            <a:pPr marL="237240" indent="-2372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La credibilidad varía desde "siempre verdadero" hasta "nunca verdadero". En el medio</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hay niveles utilizables, tales como "en general", "a veces", y "en forma ocasional". Se</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uede presentar esta clase de información con el sombrero blanco siempre que se use el</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marco" apropiado para indicar su grado de probabilidad.</a:t>
            </a:r>
            <a:endParaRPr b="0" lang="en-US" sz="1600" spc="-1" strike="noStrike">
              <a:solidFill>
                <a:srgbClr val="000000"/>
              </a:solidFill>
              <a:latin typeface="Constantia"/>
            </a:endParaRPr>
          </a:p>
          <a:p>
            <a:pPr marL="237240" indent="-2372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blanco es una </a:t>
            </a:r>
            <a:r>
              <a:rPr b="1" lang="es-ES" sz="1600" spc="-1" strike="noStrike">
                <a:solidFill>
                  <a:srgbClr val="000000"/>
                </a:solidFill>
                <a:latin typeface="Constantia"/>
              </a:rPr>
              <a:t>disciplina y una dirección</a:t>
            </a:r>
            <a:r>
              <a:rPr b="0" lang="es-ES" sz="1600" spc="-1" strike="noStrike">
                <a:solidFill>
                  <a:srgbClr val="000000"/>
                </a:solidFill>
                <a:latin typeface="Constantia"/>
              </a:rPr>
              <a:t>. Él pensador se</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sfuerza por ser más neutral y más objetivo al presentar la información. Te pueden pedir</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que te pongas el sombrero blanco o puedes pedirle a otro que lo haga. Se puede optar</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por usarlo o por quitárselo.</a:t>
            </a:r>
            <a:endParaRPr b="0" lang="en-US" sz="1600" spc="-1" strike="noStrike">
              <a:solidFill>
                <a:srgbClr val="000000"/>
              </a:solidFill>
              <a:latin typeface="Constantia"/>
            </a:endParaRPr>
          </a:p>
          <a:p>
            <a:pPr marL="237240" indent="-2372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blanco (ausencia de color) indica neutralidad.</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85840"/>
            <a:ext cx="8229600" cy="868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4617b"/>
                </a:solidFill>
                <a:latin typeface="Calibri"/>
              </a:rPr>
              <a:t>PENSAMIENTO DE SOMBRERO ROJO</a:t>
            </a:r>
            <a:endParaRPr b="0" lang="en-US" sz="4000" spc="-1" strike="noStrike">
              <a:solidFill>
                <a:srgbClr val="04617b"/>
              </a:solidFill>
              <a:latin typeface="Calibri"/>
            </a:endParaRPr>
          </a:p>
        </p:txBody>
      </p:sp>
      <p:sp>
        <p:nvSpPr>
          <p:cNvPr id="215" name=""/>
          <p:cNvSpPr txBox="1"/>
          <p:nvPr/>
        </p:nvSpPr>
        <p:spPr>
          <a:xfrm>
            <a:off x="456840" y="1214280"/>
            <a:ext cx="8472600" cy="5143680"/>
          </a:xfrm>
          <a:prstGeom prst="rect">
            <a:avLst/>
          </a:prstGeom>
          <a:noFill/>
          <a:ln w="0">
            <a:noFill/>
          </a:ln>
        </p:spPr>
        <p:txBody>
          <a:bodyPr anchor="t">
            <a:normAutofit fontScale="91000"/>
          </a:bodyPr>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uso del sombrero rojo permite que el pensador diga: "Así me </a:t>
            </a:r>
            <a:r>
              <a:rPr b="1" lang="es-ES" sz="1600" spc="-1" strike="noStrike">
                <a:solidFill>
                  <a:srgbClr val="000000"/>
                </a:solidFill>
                <a:latin typeface="Constantia"/>
              </a:rPr>
              <a:t>siento </a:t>
            </a:r>
            <a:r>
              <a:rPr b="0" lang="es-ES" sz="1600" spc="-1" strike="noStrike">
                <a:solidFill>
                  <a:srgbClr val="000000"/>
                </a:solidFill>
                <a:latin typeface="Constantia"/>
              </a:rPr>
              <a:t>con respecto a este</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sunto".</a:t>
            </a:r>
            <a:endParaRPr b="0" lang="en-US" sz="1600" spc="-1" strike="noStrike">
              <a:solidFill>
                <a:srgbClr val="000000"/>
              </a:solidFill>
              <a:latin typeface="Constantia"/>
            </a:endParaRPr>
          </a:p>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rojo legitimiza las </a:t>
            </a:r>
            <a:r>
              <a:rPr b="1" lang="es-ES" sz="1600" spc="-1" strike="noStrike">
                <a:solidFill>
                  <a:srgbClr val="000000"/>
                </a:solidFill>
                <a:latin typeface="Constantia"/>
              </a:rPr>
              <a:t>emociones y los sentimientos </a:t>
            </a:r>
            <a:r>
              <a:rPr b="0" lang="es-ES" sz="1600" spc="-1" strike="noStrike">
                <a:solidFill>
                  <a:srgbClr val="000000"/>
                </a:solidFill>
                <a:latin typeface="Constantia"/>
              </a:rPr>
              <a:t>como una parte importante</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del pensamiento.</a:t>
            </a:r>
            <a:endParaRPr b="0" lang="en-US" sz="1600" spc="-1" strike="noStrike">
              <a:solidFill>
                <a:srgbClr val="000000"/>
              </a:solidFill>
              <a:latin typeface="Constantia"/>
            </a:endParaRPr>
          </a:p>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rojo hace visibles los sentimientos para que puedan convertirse en parte del</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mapa y también del sistema de valores que elige la ruta en el mapa.</a:t>
            </a:r>
            <a:endParaRPr b="0" lang="en-US" sz="1600" spc="-1" strike="noStrike">
              <a:solidFill>
                <a:srgbClr val="000000"/>
              </a:solidFill>
              <a:latin typeface="Constantia"/>
            </a:endParaRPr>
          </a:p>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provee al pensador de un método conveniente para entrar y salir del modo</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mocional; así puede hacerlo de una manera que no resulta posible sin este truco o</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instrumento.</a:t>
            </a:r>
            <a:endParaRPr b="0" lang="en-US" sz="1600" spc="-1" strike="noStrike">
              <a:solidFill>
                <a:srgbClr val="000000"/>
              </a:solidFill>
              <a:latin typeface="Constantia"/>
            </a:endParaRPr>
          </a:p>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rojo permite que el pensador explore los sentimientos de los demás cuando</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les solicita un puntó de vista de sombrero rojo.</a:t>
            </a:r>
            <a:endParaRPr b="0" lang="en-US" sz="1600" spc="-1" strike="noStrike">
              <a:solidFill>
                <a:srgbClr val="000000"/>
              </a:solidFill>
              <a:latin typeface="Constantia"/>
            </a:endParaRPr>
          </a:p>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Cuando un pensador está usando el sombrero rojo, </a:t>
            </a:r>
            <a:r>
              <a:rPr b="0" i="1" lang="es-ES" sz="1600" spc="-1" strike="noStrike">
                <a:solidFill>
                  <a:srgbClr val="000000"/>
                </a:solidFill>
                <a:latin typeface="Constantia"/>
              </a:rPr>
              <a:t>nunca debería hacer el intento de</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justificar los sentimientos o de "basarlos en la lógica.</a:t>
            </a:r>
            <a:endParaRPr b="0" lang="en-US" sz="1600" spc="-1" strike="noStrike">
              <a:solidFill>
                <a:srgbClr val="000000"/>
              </a:solidFill>
              <a:latin typeface="Constantia"/>
            </a:endParaRPr>
          </a:p>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rojo cubre dos amplios tipos de sentimiento. En primer lugar, las emociones</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comunes, que varían desde las fuertes, tales como miedo y disgusto, hasta las más</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sutiles como la sospecha. En segundo lugar, los juicios complejos, clasificables en tipos</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tales como presentimientos, intuiciones, sensaciones, preferencias, sentimientos estéticos</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y otros tipos no justificables de modo perceptible. Cuando una opinión consta en gran</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medida de este tipo de sentimientos también se lo puede encajar bajo el sombrero rojo.</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13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4617b"/>
                </a:solidFill>
                <a:latin typeface="Calibri"/>
              </a:rPr>
              <a:t>PENSAMIENTO DE SOMBRERO AMARILLO</a:t>
            </a:r>
            <a:endParaRPr b="0" lang="en-US" sz="3600" spc="-1" strike="noStrike">
              <a:solidFill>
                <a:srgbClr val="04617b"/>
              </a:solidFill>
              <a:latin typeface="Calibri"/>
            </a:endParaRPr>
          </a:p>
        </p:txBody>
      </p:sp>
      <p:sp>
        <p:nvSpPr>
          <p:cNvPr id="217" name=""/>
          <p:cNvSpPr txBox="1"/>
          <p:nvPr/>
        </p:nvSpPr>
        <p:spPr>
          <a:xfrm>
            <a:off x="457200" y="1356840"/>
            <a:ext cx="8229600" cy="5286600"/>
          </a:xfrm>
          <a:prstGeom prst="rect">
            <a:avLst/>
          </a:prstGeom>
          <a:noFill/>
          <a:ln w="0">
            <a:noFill/>
          </a:ln>
        </p:spPr>
        <p:txBody>
          <a:bodyPr anchor="t">
            <a:normAutofit fontScale="88000"/>
          </a:bodyPr>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es positivo y constructivo. El color amarillo simboliza el brillo del sol, la luminosidad y el optimismo.</a:t>
            </a:r>
            <a:endParaRPr b="0" lang="en-US" sz="1600" spc="-1" strike="noStrike">
              <a:solidFill>
                <a:srgbClr val="000000"/>
              </a:solidFill>
              <a:latin typeface="Constantia"/>
            </a:endParaRPr>
          </a:p>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se ocupa de la evaluación positiva del mismo modo</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que el pensamiento de sombrero negro se ocupa de la evaluación negativa.</a:t>
            </a:r>
            <a:endParaRPr b="0" lang="en-US" sz="1600" spc="-1" strike="noStrike">
              <a:solidFill>
                <a:srgbClr val="000000"/>
              </a:solidFill>
              <a:latin typeface="Constantia"/>
            </a:endParaRPr>
          </a:p>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abarca un espectro positivo que va desde el</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aspecto lógico y práctico basta los sueños, visiones y esperanzas.</a:t>
            </a:r>
            <a:endParaRPr b="0" lang="en-US" sz="1600" spc="-1" strike="noStrike">
              <a:solidFill>
                <a:srgbClr val="000000"/>
              </a:solidFill>
              <a:latin typeface="Constantia"/>
            </a:endParaRPr>
          </a:p>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indaga y explora en busca de valor y beneficio.</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Después procura encontrar respaldo lógico para este valor y beneficio. El pensamiento de</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sombrero amarillo trata de manifestar un optimismo bien fundado, pero no se limita a esto</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a:t>
            </a:r>
            <a:r>
              <a:rPr b="0" lang="es-ES" sz="1600" spc="-1" strike="noStrike">
                <a:solidFill>
                  <a:srgbClr val="000000"/>
                </a:solidFill>
                <a:latin typeface="Constantia"/>
              </a:rPr>
              <a:t>a menos que se califique adecuadamente otros tipos de optimismo.</a:t>
            </a:r>
            <a:endParaRPr b="0" lang="en-US" sz="1600" spc="-1" strike="noStrike">
              <a:solidFill>
                <a:srgbClr val="000000"/>
              </a:solidFill>
              <a:latin typeface="Constantia"/>
            </a:endParaRPr>
          </a:p>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es constructivo y generativo. De él surgen</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ropuestas concretas y sugerencias. Se ocupa de la operabilidad y de hacer que las</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cosas ocurran. La eficacia es el objetivo del pensamiento constructivo de sombrero a</a:t>
            </a:r>
            <a:r>
              <a:rPr b="0" lang="es-CL" sz="1600" spc="-1" strike="noStrike">
                <a:solidFill>
                  <a:srgbClr val="000000"/>
                </a:solidFill>
                <a:latin typeface="Constantia"/>
              </a:rPr>
              <a:t>marillo.</a:t>
            </a:r>
            <a:endParaRPr b="0" lang="en-US" sz="1600" spc="-1" strike="noStrike">
              <a:solidFill>
                <a:srgbClr val="000000"/>
              </a:solidFill>
              <a:latin typeface="Constantia"/>
            </a:endParaRPr>
          </a:p>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puede ser especulativo y buscador de</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oportunidades. Permite, además, visiones y sueños.</a:t>
            </a:r>
            <a:endParaRPr b="0" lang="en-US" sz="1600" spc="-1" strike="noStrike">
              <a:solidFill>
                <a:srgbClr val="000000"/>
              </a:solidFill>
              <a:latin typeface="Constantia"/>
            </a:endParaRPr>
          </a:p>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no se ocupa de la mera euforia positiva (sombrero</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rojo) ni tampoco, directamente, de la creación de ideas nuevas (sombrero verde).</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680"/>
            <a:ext cx="8186760" cy="1154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4617b"/>
                </a:solidFill>
                <a:latin typeface="Calibri"/>
              </a:rPr>
              <a:t>PENSAMIENTO DE SOMBRERO NEGRO</a:t>
            </a:r>
            <a:endParaRPr b="0" lang="en-US" sz="4000" spc="-1" strike="noStrike">
              <a:solidFill>
                <a:srgbClr val="04617b"/>
              </a:solidFill>
              <a:latin typeface="Calibri"/>
            </a:endParaRPr>
          </a:p>
        </p:txBody>
      </p:sp>
      <p:sp>
        <p:nvSpPr>
          <p:cNvPr id="219" name=""/>
          <p:cNvSpPr txBox="1"/>
          <p:nvPr/>
        </p:nvSpPr>
        <p:spPr>
          <a:xfrm>
            <a:off x="456840" y="1499760"/>
            <a:ext cx="8472600" cy="4824360"/>
          </a:xfrm>
          <a:prstGeom prst="rect">
            <a:avLst/>
          </a:prstGeom>
          <a:noFill/>
          <a:ln w="0">
            <a:noFill/>
          </a:ln>
        </p:spPr>
        <p:txBody>
          <a:bodyPr anchor="t">
            <a:normAutofit fontScale="93000"/>
          </a:bodyPr>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r de sombrero negro se ocupa específicamente </a:t>
            </a:r>
            <a:r>
              <a:rPr b="1" lang="es-ES" sz="1600" spc="-1" strike="noStrike">
                <a:solidFill>
                  <a:srgbClr val="000000"/>
                </a:solidFill>
                <a:latin typeface="Constantia"/>
              </a:rPr>
              <a:t>del juicio negativo</a:t>
            </a:r>
            <a:r>
              <a:rPr b="0" lang="es-ES" sz="1600" spc="-1" strike="noStrike">
                <a:solidFill>
                  <a:srgbClr val="000000"/>
                </a:solidFill>
                <a:latin typeface="Constantia"/>
              </a:rPr>
              <a:t>. El pensador</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de sombrero negro señala lo que está mal, lo incorrecto y erróneo. El pensador de</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sombrero negro señala que algo no se acomoda a la experiencia o al conocimiento</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aceptado. El pensador de sombrero negro señala por qué algo no va a funcionar. El</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dor de sombrero negro señala los </a:t>
            </a:r>
            <a:r>
              <a:rPr b="1" lang="es-ES" sz="1600" spc="-1" strike="noStrike">
                <a:solidFill>
                  <a:srgbClr val="000000"/>
                </a:solidFill>
                <a:latin typeface="Constantia"/>
              </a:rPr>
              <a:t>riesgos y peligros</a:t>
            </a:r>
            <a:r>
              <a:rPr b="0" lang="es-ES" sz="1600" spc="-1" strike="noStrike">
                <a:solidFill>
                  <a:srgbClr val="000000"/>
                </a:solidFill>
                <a:latin typeface="Constantia"/>
              </a:rPr>
              <a:t>. El pensador de sombrero</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negro señala las imperfecciones de un diseño.</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negro </a:t>
            </a:r>
            <a:r>
              <a:rPr b="0" i="1" lang="es-ES" sz="1600" spc="-1" strike="noStrike">
                <a:solidFill>
                  <a:srgbClr val="000000"/>
                </a:solidFill>
                <a:latin typeface="Constantia"/>
              </a:rPr>
              <a:t>no es argumentación y nunca se lo debería considerar</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tal. Es un intento objetivo de poner en el mapa los elementos negativos.</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negro puede señalar los errores en el proceso del</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miento y en el método mismo.</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negro puede confrontar una idea con el pasado para verificar</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si encaja con lo ya sabido.</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negro puede proyectar una idea en el futuro para verificar</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qué podría fracasar o ir mal.</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negro puede hacer preguntas negativas.</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negro no debería utilizarse para encubrir complacencia</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negativa o sentimientos negativos, los que deberían utilizar el sombrero rojo.</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juicio positivo queda para el sombrero amarillo. De presentarse ideas nuevas, el</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sombrero amarillo siempre se debe usar antes que el negro.</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680"/>
            <a:ext cx="8229600" cy="797040"/>
          </a:xfrm>
          <a:prstGeom prst="rect">
            <a:avLst/>
          </a:prstGeom>
          <a:noFill/>
          <a:ln w="0">
            <a:noFill/>
          </a:ln>
        </p:spPr>
        <p:txBody>
          <a:bodyPr lIns="0" r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4617b"/>
                </a:solidFill>
                <a:latin typeface="Calibri"/>
              </a:rPr>
              <a:t>PENSAMIENTO DE SOMBRERO VERDE</a:t>
            </a:r>
            <a:endParaRPr b="0" lang="en-US" sz="4000" spc="-1" strike="noStrike">
              <a:solidFill>
                <a:srgbClr val="04617b"/>
              </a:solidFill>
              <a:latin typeface="Calibri"/>
            </a:endParaRPr>
          </a:p>
        </p:txBody>
      </p:sp>
      <p:sp>
        <p:nvSpPr>
          <p:cNvPr id="221" name=""/>
          <p:cNvSpPr txBox="1"/>
          <p:nvPr/>
        </p:nvSpPr>
        <p:spPr>
          <a:xfrm>
            <a:off x="457200" y="1214280"/>
            <a:ext cx="8229600" cy="4911840"/>
          </a:xfrm>
          <a:prstGeom prst="rect">
            <a:avLst/>
          </a:prstGeom>
          <a:noFill/>
          <a:ln w="0">
            <a:noFill/>
          </a:ln>
        </p:spPr>
        <p:txBody>
          <a:bodyPr anchor="t">
            <a:normAutofit fontScale="92000"/>
          </a:bodyPr>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verde es para el </a:t>
            </a:r>
            <a:r>
              <a:rPr b="1" lang="es-ES" sz="1600" spc="-1" strike="noStrike">
                <a:solidFill>
                  <a:srgbClr val="000000"/>
                </a:solidFill>
                <a:latin typeface="Constantia"/>
              </a:rPr>
              <a:t>pensamiento creativo</a:t>
            </a:r>
            <a:r>
              <a:rPr b="0" lang="es-ES" sz="1600" spc="-1" strike="noStrike">
                <a:solidFill>
                  <a:srgbClr val="000000"/>
                </a:solidFill>
                <a:latin typeface="Constantia"/>
              </a:rPr>
              <a:t>. La persona que se lo pone va a usar</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lenguaje del pensamiento creativo. Quienes se hallen a su alrededor, deben considerar</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roducto como un producto creativo. Idealmente, tanto el pensador como el oyente</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deberían usar sombreros verdes.</a:t>
            </a:r>
            <a:endParaRPr b="0" lang="en-US" sz="1600" spc="-1" strike="noStrike">
              <a:solidFill>
                <a:srgbClr val="000000"/>
              </a:solidFill>
              <a:latin typeface="Constantia"/>
            </a:endParaRPr>
          </a:p>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color verde es símbolo de la fertilidad, el crecimiento y el valor de las semillas.</a:t>
            </a:r>
            <a:endParaRPr b="0" lang="en-US" sz="1600" spc="-1" strike="noStrike">
              <a:solidFill>
                <a:srgbClr val="000000"/>
              </a:solidFill>
              <a:latin typeface="Constantia"/>
            </a:endParaRPr>
          </a:p>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La búsqueda de alternativas es un aspecto fundamental del pensamiento de sombrero</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verde. Hace falta ir más allá de lo conocido, lo obvio y lo satisfactorio.</a:t>
            </a:r>
            <a:endParaRPr b="0" lang="en-US" sz="1600" spc="-1" strike="noStrike">
              <a:solidFill>
                <a:srgbClr val="000000"/>
              </a:solidFill>
              <a:latin typeface="Constantia"/>
            </a:endParaRPr>
          </a:p>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Con la pausa creativa el pensador de sombrero verde se detiene en un punto dado para</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considerar la posibilidad de ideas alternativas en ese punto. No hacen falta razones para</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esta pausa.</a:t>
            </a:r>
            <a:endParaRPr b="0" lang="en-US" sz="1600" spc="-1" strike="noStrike">
              <a:solidFill>
                <a:srgbClr val="000000"/>
              </a:solidFill>
              <a:latin typeface="Constantia"/>
            </a:endParaRPr>
          </a:p>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n el pensamiento de sombrero verde el lenguaje del movimiento reemplaza al del juicio.</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dor procura avanzar desde una idea para alcanzar otra nueva.</a:t>
            </a:r>
            <a:endParaRPr b="0" lang="en-US" sz="1600" spc="-1" strike="noStrike">
              <a:solidFill>
                <a:srgbClr val="000000"/>
              </a:solidFill>
              <a:latin typeface="Constantia"/>
            </a:endParaRPr>
          </a:p>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La provocación es un elemento importante del pensamiento de sombrero verde</a:t>
            </a:r>
            <a:endParaRPr b="0" lang="en-US" sz="1600" spc="-1" strike="noStrike">
              <a:solidFill>
                <a:srgbClr val="000000"/>
              </a:solidFill>
              <a:latin typeface="Constantia"/>
            </a:endParaRPr>
          </a:p>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lateral es una serie de actitudes, lenguajes y técnicas (que incluyen</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movimiento, provocación ) para saltar de pautas en un sistema auto-organizado de</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pautas asimétricas. Se utiliza para generar conceptos y percepciones.</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2T04:23:36Z</dcterms:created>
  <dc:creator>Acer</dc:creator>
  <dc:description/>
  <dc:language>en-US</dc:language>
  <cp:lastModifiedBy>dii</cp:lastModifiedBy>
  <dcterms:modified xsi:type="dcterms:W3CDTF">2010-08-26T21:39:05Z</dcterms:modified>
  <cp:revision>26</cp:revision>
  <dc:subject/>
  <dc:title>Edward de Bono</dc:title>
</cp:coreProperties>
</file>