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797E-0C36-42F6-8D9A-ADEB24772A3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462B-6A8D-4A03-9CD3-310A41F4A41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E826-4EA3-4AE4-81BC-DF66EA6AD11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E896-BF62-4537-B8CD-13290F89D15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8A74-EE0C-434C-BBA6-36883EB4608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3E5FD-09BD-4061-91B5-E5CB1A24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5CA93-50C4-4E58-AA8D-2FB7BA39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40CE7-0C0F-4ACF-BD85-E83A9692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38171-AB46-4CB5-A066-9BA76AB3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08848-A3F7-401C-B06C-7BB4E571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D884D-EA93-4229-BF7C-35D0BAF0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E1771-8D8F-4F79-A886-F4CA4B12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8050B-8DE8-4A42-A2D8-C7E25419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208C5-25DC-4EB6-A728-15098238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0472D-2E85-43C8-AB8C-67310A27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A512B-A839-4BD6-AA82-ED7FB7BB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CE585-758A-4B55-9B93-698177AC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DD55-AFB5-4A58-BB95-6F057B55523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dii</cp:lastModifiedBy>
  <dcterms:modified xsi:type="dcterms:W3CDTF">2010-08-20T13:39:08Z</dcterms:modified>
  <cp:revision>9</cp:revision>
  <dc:subject/>
  <dc:title>Fuentes de Oportunidades</dc:title>
</cp:coreProperties>
</file>