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09224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584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603-64A2-4D13-A3B1-9554338AC80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92EF-BC0B-431B-ABE9-5A277E2064E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9875-B6BA-43EE-BD97-3BE08708CC0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EE58-D126-4CDB-B70B-B8A040C39A4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A598-C773-4596-B5CF-F9BE6564E44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22EA-D6CD-45A1-857D-A8AB01B407D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106-6944-47AA-936F-945DCEC4A41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9656-B2AC-43CE-9E68-7536E294B9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6D60-1D17-4C00-8E13-C699F1B054C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41FF-AFFB-4989-A4C4-7BF92950B86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B77B-4944-4F7F-B524-FB9DF9D03D9B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F526-1F88-40C5-A12D-E876F48390A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22E1-00F3-44DC-AE27-4D8BD999F0D4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1779-58BA-414E-9876-1A95F621AD0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C55E-4EC5-42DE-86B7-CA2457A64E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C494-2A2B-4D8A-A50F-02183692B0E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A32C-FC15-40DB-9F87-BAFF7ABB4D6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C9D-3784-4BD2-A5C7-CD033CFE3C7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948A-F3CC-4B4E-92DC-B02D61CB6A19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3B19-42FF-4466-B1AB-B1F20E3DC70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6831-A533-4760-9F45-1334270A9AF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B6C9-C2C6-45DC-8CD9-F700C5A0F2D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467B-3BAD-4783-B52E-29168F7A44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DF0-BCDC-4F2B-BD8F-995D31FBC74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C02-3774-4A8A-94AF-48FC2D58332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9224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029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6200" y="8839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0384-06D2-475A-A517-3E47B884A44C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460D1-2934-420B-9378-D9B43621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82A05-07C2-4E86-BEE7-665F0274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C82E8-EAE2-4AE6-8BDF-0969D20F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40C69-36A7-4978-8AD1-0120B092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CB87-003A-45FC-8666-9DBACD8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37EFC-2626-49CB-A0B3-07D321A1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3BB8-C91B-47E6-8F73-9A4C64B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C56F5-D429-4215-8FB2-AB1FCA8E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86878-F837-41A0-BFDA-F2F3C968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E7E0-938C-4B20-8101-661BB3B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1DE3C-1273-49BD-853F-821D6E1A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F0E4D-8462-4984-AF5F-9363E735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4"/>
          <a:stretch/>
        </p:blipFill>
        <p:spPr>
          <a:xfrm>
            <a:off x="3419640" y="6237360"/>
            <a:ext cx="216036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wharton.upenn.edu/research/webi.htm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Verdana"/>
              </a:rPr>
              <a:t>Del Modelo de Negocios al Plan de Negoci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iseñar el modelo de negocios plantea 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640" y="1752480"/>
            <a:ext cx="8291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é ………… producto serán mi f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………….es el dolor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es la propuesta de va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l …………será el nicho de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Dónde ......lo venderé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Quién ……..lo producir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orqué….….nadie lo ha hec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ómo ………lo promover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 y cuando…está dispuesto a pag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uánto…….necesito de inver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 …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....y erróneamente los ingenieros creemos que tenemos de antemano las respuestas (la verd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SzPct val="10289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producto y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44290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Preguntas sobre produc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SzPct val="12852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quiebre/necesidad/dolor del cliente resuelve mi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Está claro totalmente para mi y para el client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Lo pidió él o se me ocurre que le interes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Qué valor le agrega el producto al cli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Hay otros productos similares o sustitut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es son los productos competidor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¿Cuál es la propuesta de valor del produc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SzPct val="12852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eguntas sobre el cl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-42732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Quiénes son los stakeholde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Grupos o individuos que razonablemente pueda esperarse que se vean afectados de forma significativa por las actividades, productos y/o servicios de una orga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on los interesados directos e indirectos de una empresa que teniendo algún tipo de interés en las operaciones empresarias, le brindan su apoyo y ante los cuales la organización es responsable, tales como los accionistas, proveedores, clientes, etc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ntonces ¿Quiénes son los client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42600" y="16426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odos quienes reciban valor agregado por el producto (bien o servicio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directos (que paga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lientes indirectos (reciben los benefici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Hasta el cliente de mi cliente de mi cliente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i tengo contento al cliente de mi cliente, tengo contento a mi cli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¿Son todos los stakeholder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La cadena de valor y la propuesta de val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3" descr="porter"/>
          <p:cNvPicPr/>
          <p:nvPr/>
        </p:nvPicPr>
        <p:blipFill>
          <a:blip r:embed="rId1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Valor agregado para el consumidor fin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value"/>
          <p:cNvPicPr/>
          <p:nvPr/>
        </p:nvPicPr>
        <p:blipFill>
          <a:blip r:embed="rId1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203" name="Line 3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4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>
                <a:gd name="textAreaLeft" fmla="*/ 0 w 1682640"/>
                <a:gd name="textAreaRight" fmla="*/ 1683000 w 168264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5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6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9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10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AutoShape 11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AutoShape 12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AutoShape 13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4"/>
            <p:cNvSpPr/>
            <p:nvPr/>
          </p:nvSpPr>
          <p:spPr>
            <a:xfrm>
              <a:off x="788040" y="1523880"/>
              <a:ext cx="3335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uentes de creación de valo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s-E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s-E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Rectangle 18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Rectangle 19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Rectangle 20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Rectangle 22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Rectangle 23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Rectangle 24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Rectangle 25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Rectangle 26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27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Rectangle 28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Rectangle 29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Rectangle 30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AutoShape 35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AutoShape 36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3366360" y="5284800"/>
              <a:ext cx="973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ir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2" name="Group 42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243" name="Line 43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4" name="Line 44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45" name="Arc 45"/>
            <p:cNvSpPr/>
            <p:nvPr/>
          </p:nvSpPr>
          <p:spPr>
            <a:xfrm>
              <a:off x="1854000" y="3716280"/>
              <a:ext cx="815400" cy="43128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fill="none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</a:path>
                <a:path stroke="0" w="22213" h="22289">
                  <a:moveTo>
                    <a:pt x="22213" y="22280"/>
                  </a:moveTo>
                  <a:cubicBezTo>
                    <a:pt x="22008" y="22286"/>
                    <a:pt x="21804" y="22288"/>
                    <a:pt x="21600" y="22289"/>
                  </a:cubicBezTo>
                  <a:cubicBezTo>
                    <a:pt x="9670" y="22289"/>
                    <a:pt x="0" y="12618"/>
                    <a:pt x="0" y="689"/>
                  </a:cubicBezTo>
                  <a:cubicBezTo>
                    <a:pt x="-1" y="459"/>
                    <a:pt x="3" y="229"/>
                    <a:pt x="10" y="-1"/>
                  </a:cubicBezTo>
                  <a:lnTo>
                    <a:pt x="21600" y="689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46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Rectangle 47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ptimización  del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Rectangle 48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Rectangle 49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50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Rectangle 51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Rectangle 52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Rectangle 53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Rectangle 54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55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56" name="Group 56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257" name="Line 57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8" name="Line 58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59" name="Arc 59"/>
            <p:cNvSpPr/>
            <p:nvPr/>
          </p:nvSpPr>
          <p:spPr>
            <a:xfrm flipV="1">
              <a:off x="1833480" y="2525760"/>
              <a:ext cx="816840" cy="343440"/>
            </a:xfrm>
            <a:custGeom>
              <a:avLst/>
              <a:gdLst>
                <a:gd name="textAreaLeft" fmla="*/ 0 w 816840"/>
                <a:gd name="textAreaRight" fmla="*/ 817200 w 816840"/>
                <a:gd name="textAreaTop" fmla="*/ 360 h 343440"/>
                <a:gd name="textAreaBottom" fmla="*/ 344160 h 343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ddddd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60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Line 61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Line 62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Line 63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reación de valor para la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5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6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67"/>
          <p:cNvSpPr/>
          <p:nvPr/>
        </p:nvSpPr>
        <p:spPr>
          <a:xfrm>
            <a:off x="1719360" y="5899320"/>
            <a:ext cx="536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tivo nomin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68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69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adena de valor 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(activ. Primari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428840" y="1560600"/>
            <a:ext cx="60166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Matriz de valor agreg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1143000" y="1571760"/>
            <a:ext cx="6797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Roadmap para evaluar un negoc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3 Marcador de contenido" descr=""/>
          <p:cNvPicPr/>
          <p:nvPr/>
        </p:nvPicPr>
        <p:blipFill>
          <a:blip r:embed="rId1"/>
          <a:stretch/>
        </p:blipFill>
        <p:spPr>
          <a:xfrm>
            <a:off x="554040" y="1852560"/>
            <a:ext cx="803592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Valor agregado por actividad/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1347840" y="1500120"/>
            <a:ext cx="60976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499680"/>
            <a:ext cx="8001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Ej: Matriz de agregación de val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3 Marcador de contenido" descr=""/>
          <p:cNvPicPr/>
          <p:nvPr/>
        </p:nvPicPr>
        <p:blipFill>
          <a:blip r:embed="rId1"/>
          <a:stretch/>
        </p:blipFill>
        <p:spPr>
          <a:xfrm>
            <a:off x="1471680" y="1762200"/>
            <a:ext cx="6191280" cy="4248000"/>
          </a:xfrm>
          <a:prstGeom prst="rect">
            <a:avLst/>
          </a:prstGeom>
          <a:ln w="0">
            <a:noFill/>
          </a:ln>
        </p:spPr>
      </p:pic>
      <p:sp>
        <p:nvSpPr>
          <p:cNvPr id="278" name="4 CuadroTexto"/>
          <p:cNvSpPr/>
          <p:nvPr/>
        </p:nvSpPr>
        <p:spPr>
          <a:xfrm rot="16200000">
            <a:off x="555480" y="35002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Stakehol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0" lang="es-MX" sz="3200" spc="-1" strike="noStrike">
                <a:solidFill>
                  <a:srgbClr val="000000"/>
                </a:solidFill>
                <a:latin typeface="Verdana"/>
              </a:rPr>
              <a:t>Cadena de valor negocio postal certificad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982880" y="1428840"/>
            <a:ext cx="65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Cadena de valor negocio impresión vari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238480" y="1752480"/>
            <a:ext cx="4657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99680" y="171468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99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Valor= Beneficios-Costos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(incluye riesg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s un análisis y revisión cuantitativos de los beneficios, costos y valor que una organización puede darle 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li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s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mple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aliados estratég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provee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Otro ejemplo de la matriz agregación de valor en la cadena de los stakeho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1366920" y="1924200"/>
            <a:ext cx="64008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Dónde situar los modelos de negocios en la arquitectura de negocio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56568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 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n modelo de negocios es la arquitectura de la configuración de componentes de las transacciones diseñadas para explotar oportunidades de negocios (*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hace cargo de la oportun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dica como y porqué las transacciones con clientes (y los beneficios) ocurrirá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SzPct val="1187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ribe la interacción de la organización con otras entidades d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*)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Raffi Amit, co-director of the Wharton</a:t>
            </a:r>
            <a:r>
              <a:rPr b="0" lang="es-E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-Business Initiative (WeB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¿Qué es el modelo de negocios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la estrategia central de una organización que define su lugar en el merc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scribe la oportunidad y como la organización generará los benefi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ponde a los “porqué” la organización exis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3041640" y="297180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746360" y="2438280"/>
            <a:ext cx="1600200" cy="838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1822320" y="434304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4946760" y="281952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5022360" y="419112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3489120" y="335268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6327360" y="248904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6329880" y="45720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4 Elipse"/>
          <p:cNvSpPr/>
          <p:nvPr/>
        </p:nvSpPr>
        <p:spPr>
          <a:xfrm>
            <a:off x="4140360" y="1484280"/>
            <a:ext cx="3600360" cy="4753080"/>
          </a:xfrm>
          <a:prstGeom prst="ellipse">
            <a:avLst/>
          </a:prstGeom>
          <a:solidFill>
            <a:srgbClr val="edfb69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7457400" y="18288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>
            <a:off x="4343400" y="2590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36 CuadroTexto"/>
          <p:cNvSpPr/>
          <p:nvPr/>
        </p:nvSpPr>
        <p:spPr>
          <a:xfrm>
            <a:off x="6543720" y="35002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33"/>
          <p:cNvSpPr/>
          <p:nvPr/>
        </p:nvSpPr>
        <p:spPr>
          <a:xfrm>
            <a:off x="0" y="1197000"/>
            <a:ext cx="8964720" cy="5111640"/>
          </a:xfrm>
          <a:prstGeom prst="ellipse">
            <a:avLst/>
          </a:prstGeom>
          <a:solidFill>
            <a:srgbClr val="edfb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1828800" y="2895480"/>
            <a:ext cx="213372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520" y="2362320"/>
            <a:ext cx="1600200" cy="838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Line 6"/>
          <p:cNvSpPr/>
          <p:nvPr/>
        </p:nvSpPr>
        <p:spPr>
          <a:xfrm flipV="1">
            <a:off x="609480" y="4266720"/>
            <a:ext cx="1524240" cy="76212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7"/>
          <p:cNvSpPr/>
          <p:nvPr/>
        </p:nvSpPr>
        <p:spPr>
          <a:xfrm flipH="1">
            <a:off x="3733920" y="2743200"/>
            <a:ext cx="121896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Line 8"/>
          <p:cNvSpPr/>
          <p:nvPr/>
        </p:nvSpPr>
        <p:spPr>
          <a:xfrm flipH="1" flipV="1">
            <a:off x="3809520" y="4114800"/>
            <a:ext cx="1295640" cy="457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2276280" y="3276720"/>
            <a:ext cx="12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Verdana"/>
              </a:rPr>
              <a:t>Nego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049720" y="2362320"/>
            <a:ext cx="174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cc"/>
                </a:solidFill>
                <a:latin typeface="Verdana"/>
              </a:rPr>
              <a:t>PRODUC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117040" y="449568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439200" y="1701720"/>
            <a:ext cx="2099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l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LOCALIZA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7240" y="5003640"/>
            <a:ext cx="1823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OMO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781680" y="2590920"/>
            <a:ext cx="53352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356960" y="23940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784872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7457400" y="182880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18"/>
          <p:cNvSpPr/>
          <p:nvPr/>
        </p:nvSpPr>
        <p:spPr>
          <a:xfrm flipV="1">
            <a:off x="5715000" y="20574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038480" y="1676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lternativos/sustit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20"/>
          <p:cNvSpPr/>
          <p:nvPr/>
        </p:nvSpPr>
        <p:spPr>
          <a:xfrm flipV="1">
            <a:off x="7848720" y="213372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7506720" y="31240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22"/>
          <p:cNvSpPr/>
          <p:nvPr/>
        </p:nvSpPr>
        <p:spPr>
          <a:xfrm>
            <a:off x="5304600" y="3809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23"/>
          <p:cNvSpPr/>
          <p:nvPr/>
        </p:nvSpPr>
        <p:spPr>
          <a:xfrm flipV="1">
            <a:off x="5715000" y="41148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4724280" y="3124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25"/>
          <p:cNvSpPr/>
          <p:nvPr/>
        </p:nvSpPr>
        <p:spPr>
          <a:xfrm flipV="1">
            <a:off x="5715000" y="34290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26"/>
          <p:cNvSpPr/>
          <p:nvPr/>
        </p:nvSpPr>
        <p:spPr>
          <a:xfrm flipV="1">
            <a:off x="5715000" y="27432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5715000" y="480060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28"/>
          <p:cNvSpPr/>
          <p:nvPr/>
        </p:nvSpPr>
        <p:spPr>
          <a:xfrm>
            <a:off x="5388840" y="510552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directo (pag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29"/>
          <p:cNvSpPr/>
          <p:nvPr/>
        </p:nvSpPr>
        <p:spPr>
          <a:xfrm flipV="1">
            <a:off x="5715000" y="5410080"/>
            <a:ext cx="144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4226760" y="5791320"/>
            <a:ext cx="37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indirecto (recibe los benefici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Line 31"/>
          <p:cNvSpPr/>
          <p:nvPr/>
        </p:nvSpPr>
        <p:spPr>
          <a:xfrm>
            <a:off x="4343400" y="25909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3324240" y="24382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34"/>
          <p:cNvSpPr/>
          <p:nvPr/>
        </p:nvSpPr>
        <p:spPr>
          <a:xfrm rot="20437200">
            <a:off x="7237440" y="3859920"/>
            <a:ext cx="16207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NTO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Georgia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742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44:41Z</dcterms:created>
  <dc:creator>toshiba</dc:creator>
  <dc:description/>
  <dc:language>en-US</dc:language>
  <cp:lastModifiedBy>dii</cp:lastModifiedBy>
  <dcterms:modified xsi:type="dcterms:W3CDTF">2010-08-20T13:39:50Z</dcterms:modified>
  <cp:revision>30</cp:revision>
  <dc:subject/>
  <dc:title>Modelo de Negocios</dc:title>
</cp:coreProperties>
</file>