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AE22-2D98-4EE4-A2D8-DA63E06BFED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E8EC-264D-4756-9AAC-13069FE42E6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321-328D-400F-A5D8-DD47BF55D3A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04C-F2A0-41D2-806C-3FE27D8E2694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4B3C-F180-497E-8856-82926F33503F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5D4DE-86D0-405C-B162-CD7D9D426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B1C8B-0651-4633-827F-398A3226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02AF9-8C39-4F64-8765-C26394C0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F639A-DD0C-4CE1-8AFE-87CBE5E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C5AA5-735E-4DC3-B72C-BC9D74B9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DAC2E-EF6D-406D-8B27-749D518F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145F8-BFDF-4948-9ED3-59F910C5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10D44-2F5F-4640-9849-788323A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46B86-F773-4E10-8882-E6D90D2E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C234B-52A9-4846-A615-A75780C6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291C9-48F2-477F-91E8-366C2A75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B0BE9-4BBE-48A3-B2A5-0CC979AD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A844-3B27-44E1-8EA5-4FEE462AB3F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dii</cp:lastModifiedBy>
  <dcterms:modified xsi:type="dcterms:W3CDTF">2010-08-20T13:39:08Z</dcterms:modified>
  <cp:revision>9</cp:revision>
  <dc:subject/>
  <dc:title>Fuentes de Oportunidades</dc:title>
</cp:coreProperties>
</file>