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9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4BB-D8A9-45D4-B293-00EFAD55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DE20-06B0-4DB1-820F-FE003B75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9946-D0EF-464D-B129-B6573B7B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9558-449B-4426-9539-4C7F39F4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9DC-5330-45FB-9E90-2F145613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49A-54C2-4D24-BF88-D1B7D583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5F9-C909-498B-8CED-94FFE29A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3867-1E6D-4E85-9404-C65CC9B9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8EEC-8920-468C-A8D8-51361878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3B5D-8A69-452E-A53D-A76FFCE5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9429-83B7-49BD-B301-7C277F8E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56E-FAC4-474D-9282-D2704015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2BE9-C1E8-4F74-B9ED-15A3F935877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deasdenegocios.com.ar/ideas.htm" TargetMode="External"/><Relationship Id="rId2" Type="http://schemas.openxmlformats.org/officeDocument/2006/relationships/hyperlink" Target="http://www.ideasdenegocios.com.ar/ideas.htm" TargetMode="External"/><Relationship Id="rId3" Type="http://schemas.openxmlformats.org/officeDocument/2006/relationships/hyperlink" Target="http://www.ideasdenegocios.com.ar/ideas.htm" TargetMode="External"/><Relationship Id="rId4" Type="http://schemas.openxmlformats.org/officeDocument/2006/relationships/hyperlink" Target="http://www.ideasdenegocios.com.ar/ideas.htm" TargetMode="External"/><Relationship Id="rId5" Type="http://schemas.openxmlformats.org/officeDocument/2006/relationships/hyperlink" Target="http://www.100negocios.com/ideas-de-negocios-para-2010/#more-610" TargetMode="Externa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28880" y="0"/>
            <a:ext cx="5283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977D-73FE-4B3E-81B8-C87428971CEE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03640" y="0"/>
            <a:ext cx="4536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FF28-1AA7-43CB-8414-A5F216423F6C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84400" y="0"/>
            <a:ext cx="4975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5216-E4FD-4EEB-869F-CF38FC81E95B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82800" y="189000"/>
            <a:ext cx="5873760" cy="59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444-0394-4CBD-8B98-FD943F6C8CFF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79600" y="0"/>
            <a:ext cx="4384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F9A0-5551-46AD-83BE-562BB0875A18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51160" y="0"/>
            <a:ext cx="4440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48A-5353-4DDE-B3EC-132DC9A64A75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04960" y="0"/>
            <a:ext cx="5732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A3E1-2DF6-47F4-BC0F-736700BEE68D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74920" y="0"/>
            <a:ext cx="43941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CDCD-653B-4F05-8D00-CF02FEF2F552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5568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5F67-7B22-435B-967C-570929E71A6F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68440" y="0"/>
            <a:ext cx="4407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D021-7009-4BE7-9130-E6926F1D3297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03640" y="0"/>
            <a:ext cx="4536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094-5769-4D73-9F8E-F42691CA94B9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332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66F6-AB03-40D5-BDC9-9C8BE34E25C2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62240" y="0"/>
            <a:ext cx="4616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088C-DBE8-49BB-BA76-73753037A914}" type="slidenum">
              <a:t>20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20920" y="0"/>
            <a:ext cx="44989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52A-35CC-402D-80E3-73D0932065B8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58680"/>
            <a:ext cx="6048360" cy="566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983F-6C46-4927-9072-D7347ACC3D1A}" type="slidenum">
              <a:t>22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30280" y="0"/>
            <a:ext cx="4481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9B15-FA8A-46AA-9813-98DEC14497BB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01840" y="0"/>
            <a:ext cx="4538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00F1-8DC2-489D-AE26-C424B6E792EA}" type="slidenum">
              <a:t>24</a:t>
            </a:fld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41640" y="0"/>
            <a:ext cx="4860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187-47F1-41BC-9107-EABDF375766E}" type="slidenum">
              <a:t>25</a:t>
            </a:fld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5440" y="2275920"/>
            <a:ext cx="75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deasdenegocios.com.ar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deas.ht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320" y="3429000"/>
            <a:ext cx="81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100negocios.com/ideas-de-negocios-para-2010/#more-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BB9-7B96-4FD8-9078-44C8F4ABF4CB}" type="slidenum">
              <a:t>26</a:t>
            </a:fld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0D59-1F1F-4B99-8328-8845D0AC63A3}" type="slidenum">
              <a:t>27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24080" y="0"/>
            <a:ext cx="46958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8D0E-18A1-48D5-85EC-57FE423FA2B7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25600" y="0"/>
            <a:ext cx="4491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5818-D327-406E-A5D6-6263FE51895C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42940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4523-C028-44AC-B0BE-33B50D5B5294}" type="slidenum">
              <a:t>5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4321440" cy="11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F2B6-BD94-4FC8-A543-30C09BB0CD7A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13080" y="0"/>
            <a:ext cx="4316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1E5E-4A8B-40FB-8987-A513A5ADE2EC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51160" y="0"/>
            <a:ext cx="4440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ED61-568F-429E-8B42-2BB32E98B2DE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765000"/>
            <a:ext cx="5126040" cy="272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0ED9-5043-4666-94EA-00F20EB19FDD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4:01:20Z</dcterms:created>
  <dc:creator>Usuario</dc:creator>
  <dc:description/>
  <dc:language>en-US</dc:language>
  <cp:lastModifiedBy>Usuario</cp:lastModifiedBy>
  <dcterms:modified xsi:type="dcterms:W3CDTF">2010-08-20T21:36:27Z</dcterms:modified>
  <cp:revision>3</cp:revision>
  <dc:subject/>
  <dc:title>Diapositiva 1</dc:title>
</cp:coreProperties>
</file>