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9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1B06-8894-4B0F-AE26-9D0EC5A8A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E800-16B8-4971-A3EB-E752F889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4D1D-99F4-445E-99E5-CC2229645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372C-C792-455F-97AC-6D16D857A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0556-C8B6-484F-A92E-F2062183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8435-78E8-4BF9-B196-627AF221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7C66-4C0E-4614-9BB2-31F0D5E6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705D-4046-4CD1-82B7-2AF919C3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9F0D-6433-4F7C-8E73-9BCE0464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D34D-AC8A-400C-A6D8-14A52096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BE54-24CE-4941-8363-BDA3FA36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BF82-4F32-49C5-A84B-4E8E3A98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D5D8-6876-4809-89D8-A73CBC49300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deasdenegocios.com.ar/ideas.htm" TargetMode="External"/><Relationship Id="rId2" Type="http://schemas.openxmlformats.org/officeDocument/2006/relationships/hyperlink" Target="http://www.ideasdenegocios.com.ar/ideas.htm" TargetMode="External"/><Relationship Id="rId3" Type="http://schemas.openxmlformats.org/officeDocument/2006/relationships/hyperlink" Target="http://www.ideasdenegocios.com.ar/ideas.htm" TargetMode="External"/><Relationship Id="rId4" Type="http://schemas.openxmlformats.org/officeDocument/2006/relationships/hyperlink" Target="http://www.ideasdenegocios.com.ar/ideas.htm" TargetMode="External"/><Relationship Id="rId5" Type="http://schemas.openxmlformats.org/officeDocument/2006/relationships/hyperlink" Target="http://www.100negocios.com/ideas-de-negocios-para-2010/#more-610" TargetMode="Externa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28880" y="0"/>
            <a:ext cx="5283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B662-FC23-4618-9D1E-9D0F0E3AD3C8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03640" y="0"/>
            <a:ext cx="45367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3462-C0DD-4744-B566-F37B6702AB37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84400" y="0"/>
            <a:ext cx="49752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7614-1C20-4C95-9301-57FAF2F90091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82800" y="189000"/>
            <a:ext cx="5873760" cy="597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13A9-0999-4FAF-9299-5ABB122845C4}" type="slidenum">
              <a:t>12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79600" y="0"/>
            <a:ext cx="43848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AF58-BFBF-4C82-BA45-7022FB17CF22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51160" y="0"/>
            <a:ext cx="44402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57E2-C8CF-4E3C-B04D-D01A74D8DDFD}" type="slidenum">
              <a:t>14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04960" y="0"/>
            <a:ext cx="57326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FD9D-FA2C-4B0C-9467-96E48F2FCFCD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374920" y="0"/>
            <a:ext cx="43941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C635-FB13-493E-8F48-C082966D1A07}" type="slidenum">
              <a:t>1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55680" y="0"/>
            <a:ext cx="48308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087A-01F5-4650-9462-B949A5B49575}" type="slidenum">
              <a:t>17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68440" y="0"/>
            <a:ext cx="44071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CC8E-0B29-4E95-84AA-A8DC923E4569}" type="slidenum">
              <a:t>18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03640" y="0"/>
            <a:ext cx="45367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B294-8660-4A8C-A4BD-B97811C09E54}" type="slidenum">
              <a:t>19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3323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049B-B6FD-4AD2-A2A5-3D1EEC4FAC0C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62240" y="0"/>
            <a:ext cx="4616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E922-8325-49F9-A1D1-CCBECE647796}" type="slidenum">
              <a:t>20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320920" y="0"/>
            <a:ext cx="44989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0C60-A0D9-4930-BBE7-C9C2AE865F6B}" type="slidenum">
              <a:t>21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24000" y="58680"/>
            <a:ext cx="6048360" cy="566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2035-CAA2-482C-927C-FBE9D03DC882}" type="slidenum">
              <a:t>22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30280" y="0"/>
            <a:ext cx="44816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74B4-7828-47D2-9C4B-A1F15A22C320}" type="slidenum">
              <a:t>23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01840" y="0"/>
            <a:ext cx="45385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D0E0-B882-445F-8749-E2456C185ED3}" type="slidenum">
              <a:t>24</a:t>
            </a:fld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41640" y="0"/>
            <a:ext cx="48607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863B-7B5B-4557-92D2-65EF24B10902}" type="slidenum">
              <a:t>25</a:t>
            </a:fld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45440" y="2275920"/>
            <a:ext cx="75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deasdenegocios.com.ar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ideas.ht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0320" y="3429000"/>
            <a:ext cx="814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100negocios.com/ideas-de-negocios-para-2010/#more-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F4C7-31BC-4F21-8900-B36AEFFEE9A6}" type="slidenum">
              <a:t>26</a:t>
            </a:fld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CEFF-D506-4750-AFF2-E37B63DA343C}" type="slidenum">
              <a:t>27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24080" y="0"/>
            <a:ext cx="46958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046F-AAAB-4F31-A18A-911654F9A360}" type="slidenum">
              <a:t>3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25600" y="0"/>
            <a:ext cx="4491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B2B1-0CBB-4BC9-8620-B502BDC06752}" type="slidenum">
              <a:t>4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27280" y="0"/>
            <a:ext cx="42940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25A7-373A-4F39-8B73-8BC3942C7604}" type="slidenum">
              <a:t>5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68360" y="692280"/>
            <a:ext cx="4321440" cy="11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9306-CD29-4634-88CF-D09A604F421B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13080" y="0"/>
            <a:ext cx="43164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5354-C5CA-4CC6-97C7-43C559E6FB6E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51160" y="0"/>
            <a:ext cx="44402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A971-9F71-42CB-90F3-6189C93C4924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0920" y="765000"/>
            <a:ext cx="5126040" cy="272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EEF1-7E59-4BAA-B8F8-FA91A872F401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4:01:20Z</dcterms:created>
  <dc:creator>Usuario</dc:creator>
  <dc:description/>
  <dc:language>en-US</dc:language>
  <cp:lastModifiedBy>Usuario</cp:lastModifiedBy>
  <dcterms:modified xsi:type="dcterms:W3CDTF">2010-08-20T21:36:27Z</dcterms:modified>
  <cp:revision>3</cp:revision>
  <dc:subject/>
  <dc:title>Diapositiva 1</dc:title>
</cp:coreProperties>
</file>