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3FB-C574-4CD2-BEF9-A1849A48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495-DBBB-45BD-8A9E-C7898FEA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139-353C-4058-9A9D-645C3881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1CE-A779-42D7-BE55-11ACED2F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184-FDBD-4937-8A63-844FF231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E8F-2126-4DD3-932B-AF4D6D5E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B20-0C2E-4501-9FE6-8C58BE56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E9F-0904-4912-9350-C1C273D9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452-21B0-477E-BE32-D5823C7F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62B-A931-4F4F-9BD7-37504ADD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662-3A15-4242-9E67-678001DD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A6C-C95A-4B1E-8419-896CA1D2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1F48-04B5-40F3-A5F3-8BFA723C4C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deasdenegocios.com.ar/ideas.htm" TargetMode="External"/><Relationship Id="rId2" Type="http://schemas.openxmlformats.org/officeDocument/2006/relationships/hyperlink" Target="http://www.ideasdenegocios.com.ar/ideas.htm" TargetMode="External"/><Relationship Id="rId3" Type="http://schemas.openxmlformats.org/officeDocument/2006/relationships/hyperlink" Target="http://www.ideasdenegocios.com.ar/ideas.htm" TargetMode="External"/><Relationship Id="rId4" Type="http://schemas.openxmlformats.org/officeDocument/2006/relationships/hyperlink" Target="http://www.ideasdenegocios.com.ar/ideas.htm" TargetMode="External"/><Relationship Id="rId5" Type="http://schemas.openxmlformats.org/officeDocument/2006/relationships/hyperlink" Target="http://www.100negocios.com/ideas-de-negocios-para-2010/#more-610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28880" y="0"/>
            <a:ext cx="5283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7C8-9B01-4E86-BF72-16286E54A887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AB4-87AF-4BF1-A7CC-422C2543D69F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84400" y="0"/>
            <a:ext cx="497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6401-1D06-481B-9698-E8F18A258F6B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82800" y="189000"/>
            <a:ext cx="5873760" cy="59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7049-C487-4B5A-ABC3-808758DAD39B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79600" y="0"/>
            <a:ext cx="4384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F11A-D995-4190-AB70-D18D2C17EBFF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450-2D5E-43F2-8768-4A448F16B344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04960" y="0"/>
            <a:ext cx="5732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350-8BB4-4E1D-915E-FF897F88EB25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43941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2F7-047F-4771-B3CD-DE618C59CC9A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5568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74D-CB0B-41B2-8B60-F34E46E9CCD1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8440" y="0"/>
            <a:ext cx="4407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D2D-4FC2-4AC2-9EE7-FC60446C77DE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375-3F4E-4C72-8AD4-69EDA0CE5AD8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2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5CD-52C9-4D83-9341-1D3E01236EE6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2240" y="0"/>
            <a:ext cx="4616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5E7-9E39-412B-AB9D-BB9350C3A10C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20920" y="0"/>
            <a:ext cx="4498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1A6-F2FF-4C31-A802-018118A32B4C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58680"/>
            <a:ext cx="6048360" cy="566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CFC-4C56-4FC5-8289-DAB93ED233A5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30280" y="0"/>
            <a:ext cx="448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863-09F5-4738-A72F-AAAC50F681FC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538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4BA-1F40-4600-9241-551516DBE312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41640" y="0"/>
            <a:ext cx="4860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56C-4A57-4331-A798-B0B1B98CD01C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5440" y="2275920"/>
            <a:ext cx="75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deasdenegocios.com.ar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deas.ht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320" y="342900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100negocios.com/ideas-de-negocios-para-2010/#more-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5CB4-53D2-4C85-A0F6-004C227CA6E1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914-519B-4800-87AD-DD02A40DEED4}" type="slidenum">
              <a:t>27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4080" y="0"/>
            <a:ext cx="4695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C48-6D75-4C30-A046-37097E6E2E58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2560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DD4-B523-440C-82C2-44D1BB707266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294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B0B-E9E8-447D-AF8D-11368FD43A59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321440" cy="11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253E-596B-4BCE-A9BE-D78BB02D9221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3080" y="0"/>
            <a:ext cx="4316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C61-ACE7-4332-AB1B-64C591F42C6F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A3A-EF75-4FCD-BB0C-41A7E8F78E36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126040" cy="27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3A9-167A-48C0-9D7D-FEB36C7C1A85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01:20Z</dcterms:created>
  <dc:creator>Usuario</dc:creator>
  <dc:description/>
  <dc:language>en-US</dc:language>
  <cp:lastModifiedBy>Usuario</cp:lastModifiedBy>
  <dcterms:modified xsi:type="dcterms:W3CDTF">2010-08-20T21:36:27Z</dcterms:modified>
  <cp:revision>3</cp:revision>
  <dc:subject/>
  <dc:title>Diapositiva 1</dc:title>
</cp:coreProperties>
</file>