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EBC-A241-47CA-B542-9B830FA8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2C2-B782-4BA4-94E8-30401D0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D13-D0CA-4339-9552-7B5AA31E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1B5-71B3-4E9F-8222-B85801D5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602-AA1D-4AE4-8D61-4703EE4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657-2616-4812-BF11-D89EB376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4CD-2412-4E40-B22D-770E108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720-1C41-4904-B19D-646D831D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857-49B9-476D-B8FB-FBB352A0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3CD-612A-4805-B6AD-131E28B1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1F3-CD97-44BE-BA67-F5AAC3F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B01-5F0B-4480-9EF4-9146947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C6B2-F023-4261-A107-1293DEF617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2E7-AAA3-4C13-8B77-C2713C02CC0F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A75-10D8-4F0F-BD04-19CBC39469C9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23F-9B6F-494D-A224-EE453E09092A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586-979C-4C3D-BC06-7C357B9DB990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403-C03F-4CCF-BA1E-2D6BB0598DAA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6C7-0C54-44B5-8BB3-5A361C389606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630-44B8-4544-84C2-CBB92D780C89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47A-B8F5-476E-A63A-56C4328FF1D7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28F-1610-41B7-925D-C721CD2CD723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F4C-EFA8-40ED-AC7F-998DE326F8D2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80C-A6B5-4BA6-AB85-EA6FF6C5F2C6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CCD-D8D8-43AC-927F-05E7671057B4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257-B01A-4EA5-81E2-D7F67FDFCBAC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7F0-FD1C-4C9A-A4FE-471D88A33866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1B7-22B2-4CB4-896E-EB75224019FF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2D9-5ADC-4400-8289-9CD3F155FC26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AD5-C249-4FD1-8EF6-E7B597C2EDF0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B13-1900-4740-8C7D-DDD33A8AA003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07F-E244-48D4-8528-3A679D462F12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6C2-2AA4-4A06-ABF8-6E9F1545CC10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933-B7D9-45C8-ACB8-C49040D4424D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4C4-AC76-47DB-9744-C43C684B9D24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61A-B2DA-4D19-B292-777D8B2B25E0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411-4110-4A73-82EF-06609AB6FD9E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9DE-92AE-47AE-B14F-B7E9E28460BD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0FB-2396-4323-8E65-A0302B50126F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D95-E329-43F4-B0F7-4C740700E3DB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8-20T21:36:27Z</dcterms:modified>
  <cp:revision>3</cp:revision>
  <dc:subject/>
  <dc:title>Diapositiva 1</dc:title>
</cp:coreProperties>
</file>