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BC3-FE6A-44AB-8A2D-F988D4F7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F38-120D-4103-A5A3-522AB256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794-9135-4D7A-93D6-5C55CFFE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671-CCA5-4B94-B011-03B433FA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436-4AEB-41F7-937E-4A2C0369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09B-B830-4B4F-BD68-FEF275A1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6EE-A2C6-4A95-93F6-9747B59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B25-68EE-4443-8C5F-08ECF7D9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C75-E30F-4900-9EBC-E9F5181D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A47-39F3-430C-B401-9DF35BA3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DB4-6A81-4816-B479-7F1D9C64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2BC-2BC8-42A9-93E9-CCD2938F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EF23-BA92-4293-8A7E-DE1B0890DE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ideasdenegocios.com.ar/ideas.htm" TargetMode="External"/><Relationship Id="rId3" Type="http://schemas.openxmlformats.org/officeDocument/2006/relationships/hyperlink" Target="http://www.ideasdenegocios.com.ar/ideas.htm" TargetMode="External"/><Relationship Id="rId4" Type="http://schemas.openxmlformats.org/officeDocument/2006/relationships/hyperlink" Target="http://www.ideasdenegocios.com.ar/ideas.htm" TargetMode="External"/><Relationship Id="rId5" Type="http://schemas.openxmlformats.org/officeDocument/2006/relationships/hyperlink" Target="http://www.100negocios.com/ideas-de-negocios-para-2010/#more-610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0DB-2E5B-47B6-82DE-8A2633268E7E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5B5-46A4-472F-B467-D20744668FD7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52F-A7E9-4DAA-89A2-60BE9E92CBC2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096-6717-40C7-B92D-4BBA8AED1E67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4BF-732C-45DC-B7E2-0B80418B6BA9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776-628B-4364-92CB-A34CD316A2DC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738-7649-4E9A-914E-656AACE97608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175-6C72-4341-9D93-F4BDE91B550B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368-6978-4E80-9F54-7AB9416CBE71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54B-6EB0-4394-9603-AB033989518A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4A3-1605-4583-B09F-71E0F3E0B7D4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4E0-3FD3-4710-84C4-0C65F3A0C939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EFE-4A5C-400C-BC05-934F4D6E3953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373-E3AC-4CF7-9C60-CC333EB254BB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B60-8852-4EFA-9AB7-6F65743E76CB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0E7-30D2-4CAE-AFA3-C52C88C4867C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0C6-470F-41D6-8399-336A9DD8191B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630-C760-4AAA-87CD-78F7AC8ECC98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deasdenegocios.com.a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2FC-398F-4FF9-9D70-882FECD33AF6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8E6-8F0B-43B1-AC1D-C409B0908EC7}" type="slidenum">
              <a:t>27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329-CDBD-46E0-BDA2-EE126E82DA9A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D0D-6E3B-4ABE-80C6-05D5D0764A22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DD0-BD8A-4E2F-ADA7-BCD5B480C6EC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17F-D5E7-4517-9A31-AFE6A71D6A88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65C-7BB5-4AA4-95B8-615B1B6F7D90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8CB-FBA5-4B37-973C-B2B26F7CB130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93D-B886-4A3B-8EB3-D9CA5A0033B1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Usuario</cp:lastModifiedBy>
  <dcterms:modified xsi:type="dcterms:W3CDTF">2010-08-20T21:36:27Z</dcterms:modified>
  <cp:revision>3</cp:revision>
  <dc:subject/>
  <dc:title>Diapositiva 1</dc:title>
</cp:coreProperties>
</file>