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06AF-DF74-40F1-8DFF-94637A20CD1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E9AB-B30C-4939-A46C-8E8CA53201F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3529-90DA-4800-9643-6DD663B029D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F22E-05FA-425E-B27B-6EE5B381CB2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1F95-95DB-407C-89E8-51860712E77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4CE35-E47B-4E0A-A496-EE7CEE54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3A80F-7975-4F66-BAFD-81DE6DD3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5C78E-BCCA-4CDB-9F8E-78C97E48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FA72F-CBA1-4F80-AE1C-EE20940D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366F5-0E37-4D8D-958C-AD11D7FF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53599-9FB1-45AD-8D82-CE22EC23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1FDA1-390D-4BFB-A47D-EDFAD094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53D7B-AA11-42C8-B864-569D011D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5B7E5-EEF8-4292-B8B2-EA501916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83A79-0BAE-40D7-B7C5-015F2911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1D5FA-43DE-4265-BE7A-6BFECB04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949D9-4042-4F9C-8206-A5E3DBD8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09BF-3D05-4800-B887-2B3B08D5200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dii</cp:lastModifiedBy>
  <dcterms:modified xsi:type="dcterms:W3CDTF">2010-08-20T13:39:08Z</dcterms:modified>
  <cp:revision>9</cp:revision>
  <dc:subject/>
  <dc:title>Fuentes de Oportunidades</dc:title>
</cp:coreProperties>
</file>