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78AD-8710-4C8D-99A9-18AFF8D8E45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53CA-EAC5-4842-9FD5-B45042E0D7F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C765-24B9-4654-9872-1FA433C8131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0410-0D28-4315-A7C5-C3E82CCF634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BD03-F352-4E83-8BE1-C8253FDA887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DBE0B-F536-4C04-9BB9-7D64F566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93F91-A884-4029-A543-6AB1FADC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D3DE1-0CC6-41E4-8535-4852D440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F00E9-260F-4855-AA9A-BFCF71F4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2FC60-14E5-46A4-BC6F-F787FD97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F6EF9-9DB5-4E32-9344-9AD8CA49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ABDD7-E0B4-40FE-B311-D358F4D8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F24DC-6A88-49E9-8C40-B610069C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98527-376E-4D34-A537-863983D0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DAA7D-BF83-48AF-885E-64A01CF5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5B2BC-4BFB-4B16-8053-3B82117B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9F2DF-567D-4065-8040-28C93D53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5450-C024-4548-B5C0-F616744FF18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dii</cp:lastModifiedBy>
  <dcterms:modified xsi:type="dcterms:W3CDTF">2010-08-20T13:39:08Z</dcterms:modified>
  <cp:revision>9</cp:revision>
  <dc:subject/>
  <dc:title>Fuentes de Oportunidades</dc:title>
</cp:coreProperties>
</file>