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09224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1B3D-4AA8-41E5-9365-0583486E2E4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3E12-E509-4654-9B0F-61E91FB2760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5621-CD19-423F-965C-BCD7983733C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B0D6-7C0A-44BD-AAB7-A01B6C8C5F1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EF3D-DBD3-446F-AA88-3CAE8CB3866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80BB-5090-451E-A2FC-BAA5FDD3B3B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4876-2E59-4DE6-8079-58BC053DC12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0F4E-DB49-4A85-A6E1-55090039D42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7D02-AAC7-46E2-8CF1-5C89859C12B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4CF2-A3C9-4A57-83AB-AF4D6876EEF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D2BE-5F76-418B-BC61-847EB170C5B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08D9-2357-4E07-9E6C-8A15CE97BD2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14B3-D6C5-4432-B7AB-88B49CA3650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3E65-5AB1-4D6E-954C-2F8CD5DF2B3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56E7-9F25-46B2-B977-159BE4CA770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56EC-1B84-40DA-A9F6-40C9BE23E1D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EFA0-E258-4814-BB29-95719C77F36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95CC-981E-4829-B1E8-4DD77457517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9265-E2B1-4B19-A020-06CEAE91EEB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C440-A906-40D8-BCEE-2FDB9CB69A6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17A6-88C0-4161-B3C6-A24A366164C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9A87-D5D2-4660-A7CD-C3AC3C15A0E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DC25-ED17-4FC9-B7F6-1DDFB18B4F0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7197-4CB5-48D6-83F5-372AA288B9C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D43D-221E-4EA8-9516-8A90ACB688E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A4EB-225D-4696-B1BA-9E3F857CD15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819BE9-7CCA-4E57-B0D2-1836651CB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D0F868-E968-41E5-B28F-03E41AFB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36E902-FCAA-43F3-B4BC-2C6EB7DC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DFA22E-0A6D-4E65-8D2C-40A23FE7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E411FD-563D-4878-8D18-8BCB7727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72F297-6174-4B16-86B3-3377EA29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B6A96B-BF26-43AA-8C4E-D858AC8F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315D38-8BA9-44B9-B561-DAB96C30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4598A1-A2A1-416D-B770-0D776F15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CFEFA9-5B61-41C6-A632-46003591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409627-3E5F-48FD-AAF8-FDAB4722A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A525D6-4AED-4178-A1D2-80D659B41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4"/>
          <a:stretch/>
        </p:blipFill>
        <p:spPr>
          <a:xfrm>
            <a:off x="3419640" y="6237360"/>
            <a:ext cx="216036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www.wharton.upenn.edu/research/webi.html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Verdana"/>
              </a:rPr>
              <a:t>Del Modelo de Negocios al Plan de Negoci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Diseñar el modelo de negocios plantea pregu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66640" y="1752480"/>
            <a:ext cx="8291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499"/>
              </a:spcBef>
              <a:buSzPct val="15418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Qué ………… producto serán mi fo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l………….es el dolor de mer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l …………es la propuesta de val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l …………será el nicho de mer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Dónde ......lo venderé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Quién ……..lo producirá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Porqué….….nadie lo ha hech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ómo ………lo promoveré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nto y cuando…está dispuesto a pag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nto…….necesito de invers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  …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...y erróneamente los ingenieros creemos que tenemos de antemano las respuestas (la verda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SzPct val="10289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producto y el clien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2214720" y="1500120"/>
            <a:ext cx="44290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Preguntas sobre produc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SzPct val="12852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Qué quiebre/necesidad/dolor del cliente resuelve mi produc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Está claro totalmente para mi y para el cliente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Lo pidió él o se me ocurre que le interes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Qué valor le agrega el producto al clien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Hay otros productos similares o sustituto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Cuáles son los productos competidor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Cuál es la propuesta de valor del produc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Preguntas sobre el clien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¿Quiénes son los stakeholder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Grupos o individuos que razonablemente pueda esperarse que se vean afectados de forma significativa por las actividades, productos y/o servicios de una organ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on los interesados directos e indirectos de una empresa que teniendo algún tipo de interés en las operaciones empresarias, le brindan su apoyo y ante los cuales la organización es responsable, tales como los accionistas, proveedores, clientes, etc.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ntonces ¿Quiénes son los cliente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42600" y="16426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Todos quienes reciban valor agregado por el producto (bien o servicio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lientes directos (que paga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lientes indirectos (reciben los benefici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Hasta el cliente de mi cliente de mi cliente………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Si tengo contento al cliente de mi cliente, tengo contento a mi clien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¿Son todos los stakeholder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La cadena de valor y la propuesta de val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Picture 3" descr="porter"/>
          <p:cNvPicPr/>
          <p:nvPr/>
        </p:nvPicPr>
        <p:blipFill>
          <a:blip r:embed="rId1"/>
          <a:stretch/>
        </p:blipFill>
        <p:spPr>
          <a:xfrm>
            <a:off x="838080" y="1905120"/>
            <a:ext cx="774396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Valor agregado para el consumidor fi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3" descr="value"/>
          <p:cNvPicPr/>
          <p:nvPr/>
        </p:nvPicPr>
        <p:blipFill>
          <a:blip r:embed="rId1"/>
          <a:srcRect l="2884" t="14300" r="961" b="3463"/>
          <a:stretch/>
        </p:blipFill>
        <p:spPr>
          <a:xfrm>
            <a:off x="838080" y="2438280"/>
            <a:ext cx="7620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2"/>
          <p:cNvGrpSpPr/>
          <p:nvPr/>
        </p:nvGrpSpPr>
        <p:grpSpPr>
          <a:xfrm>
            <a:off x="227160" y="1523880"/>
            <a:ext cx="8916480" cy="4261320"/>
            <a:chOff x="227160" y="1523880"/>
            <a:chExt cx="8916480" cy="4261320"/>
          </a:xfrm>
        </p:grpSpPr>
        <p:sp>
          <p:nvSpPr>
            <p:cNvPr id="203" name="Line 3"/>
            <p:cNvSpPr/>
            <p:nvPr/>
          </p:nvSpPr>
          <p:spPr>
            <a:xfrm>
              <a:off x="980640" y="3761640"/>
              <a:ext cx="20926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Freeform 4"/>
            <p:cNvSpPr/>
            <p:nvPr/>
          </p:nvSpPr>
          <p:spPr>
            <a:xfrm>
              <a:off x="1391040" y="2524320"/>
              <a:ext cx="1682640" cy="2728800"/>
            </a:xfrm>
            <a:custGeom>
              <a:avLst/>
              <a:gdLst>
                <a:gd name="textAreaLeft" fmla="*/ 0 w 1682640"/>
                <a:gd name="textAreaRight" fmla="*/ 1683000 w 1682640"/>
                <a:gd name="textAreaTop" fmla="*/ 0 h 2728800"/>
                <a:gd name="textAreaBottom" fmla="*/ 2729160 h 2728800"/>
              </a:gdLst>
              <a:ahLst/>
              <a:rect l="textAreaLeft" t="textAreaTop" r="textAreaRight" b="textAreaBottom"/>
              <a:pathLst>
                <a:path w="1054" h="1740">
                  <a:moveTo>
                    <a:pt x="1054" y="0"/>
                  </a:moveTo>
                  <a:lnTo>
                    <a:pt x="0" y="0"/>
                  </a:lnTo>
                  <a:lnTo>
                    <a:pt x="0" y="1740"/>
                  </a:lnTo>
                  <a:lnTo>
                    <a:pt x="1054" y="1740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Freeform 5"/>
            <p:cNvSpPr/>
            <p:nvPr/>
          </p:nvSpPr>
          <p:spPr>
            <a:xfrm>
              <a:off x="3075120" y="350604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Freeform 6"/>
            <p:cNvSpPr/>
            <p:nvPr/>
          </p:nvSpPr>
          <p:spPr>
            <a:xfrm>
              <a:off x="3075120" y="495864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Freeform 7"/>
            <p:cNvSpPr/>
            <p:nvPr/>
          </p:nvSpPr>
          <p:spPr>
            <a:xfrm>
              <a:off x="3075120" y="226872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Rectangle 8"/>
            <p:cNvSpPr/>
            <p:nvPr/>
          </p:nvSpPr>
          <p:spPr>
            <a:xfrm>
              <a:off x="1590480" y="326772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Rectangle 9"/>
            <p:cNvSpPr/>
            <p:nvPr/>
          </p:nvSpPr>
          <p:spPr>
            <a:xfrm>
              <a:off x="1590480" y="200376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AutoShape 10"/>
            <p:cNvSpPr/>
            <p:nvPr/>
          </p:nvSpPr>
          <p:spPr>
            <a:xfrm>
              <a:off x="3255840" y="2064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AutoShape 11"/>
            <p:cNvSpPr/>
            <p:nvPr/>
          </p:nvSpPr>
          <p:spPr>
            <a:xfrm>
              <a:off x="3255840" y="25513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AutoShape 12"/>
            <p:cNvSpPr/>
            <p:nvPr/>
          </p:nvSpPr>
          <p:spPr>
            <a:xfrm>
              <a:off x="3255840" y="3306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AutoShape 13"/>
            <p:cNvSpPr/>
            <p:nvPr/>
          </p:nvSpPr>
          <p:spPr>
            <a:xfrm>
              <a:off x="3255840" y="38008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4"/>
            <p:cNvSpPr/>
            <p:nvPr/>
          </p:nvSpPr>
          <p:spPr>
            <a:xfrm>
              <a:off x="788040" y="1523880"/>
              <a:ext cx="3335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Fuentes de creación de valo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227160" y="3338280"/>
              <a:ext cx="846360" cy="8218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Creación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de Valor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(EVA</a:t>
              </a:r>
              <a:r>
                <a:rPr b="1" lang="es-ES" sz="1200" spc="-1" strike="noStrike" baseline="30000">
                  <a:solidFill>
                    <a:srgbClr val="dddddd"/>
                  </a:solidFill>
                  <a:latin typeface="Arial"/>
                </a:rPr>
                <a:t>®</a:t>
              </a: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3351600" y="2160720"/>
              <a:ext cx="1010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Arial"/>
                </a:rPr>
                <a:t>Volumen de Venta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Rectangle 17"/>
            <p:cNvSpPr/>
            <p:nvPr/>
          </p:nvSpPr>
          <p:spPr>
            <a:xfrm>
              <a:off x="3598560" y="2615400"/>
              <a:ext cx="570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reci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Rectangle 18"/>
            <p:cNvSpPr/>
            <p:nvPr/>
          </p:nvSpPr>
          <p:spPr>
            <a:xfrm>
              <a:off x="3255480" y="3800880"/>
              <a:ext cx="1107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Administ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Rectangle 19"/>
            <p:cNvSpPr/>
            <p:nvPr/>
          </p:nvSpPr>
          <p:spPr>
            <a:xfrm>
              <a:off x="3288600" y="395316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y Venta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Rectangle 20"/>
            <p:cNvSpPr/>
            <p:nvPr/>
          </p:nvSpPr>
          <p:spPr>
            <a:xfrm>
              <a:off x="3366360" y="3391560"/>
              <a:ext cx="81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Ope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Rectangle 21"/>
            <p:cNvSpPr/>
            <p:nvPr/>
          </p:nvSpPr>
          <p:spPr>
            <a:xfrm>
              <a:off x="4647960" y="2025360"/>
              <a:ext cx="4430160" cy="99108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Rectangle 22"/>
            <p:cNvSpPr/>
            <p:nvPr/>
          </p:nvSpPr>
          <p:spPr>
            <a:xfrm>
              <a:off x="4721400" y="2055240"/>
              <a:ext cx="20786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Acceso a nuevos mercad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Nuevos produc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Rectangle 23"/>
            <p:cNvSpPr/>
            <p:nvPr/>
          </p:nvSpPr>
          <p:spPr>
            <a:xfrm>
              <a:off x="6996600" y="2055240"/>
              <a:ext cx="2025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reación de nuevos productos /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Rectangle 24"/>
            <p:cNvSpPr/>
            <p:nvPr/>
          </p:nvSpPr>
          <p:spPr>
            <a:xfrm>
              <a:off x="4721040" y="2507040"/>
              <a:ext cx="1892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onstrucción de image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uadrar demanda-ofer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Rectangle 25"/>
            <p:cNvSpPr/>
            <p:nvPr/>
          </p:nvSpPr>
          <p:spPr>
            <a:xfrm>
              <a:off x="4726080" y="3297600"/>
              <a:ext cx="243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de costos operac.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es compr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Rectangle 26"/>
            <p:cNvSpPr/>
            <p:nvPr/>
          </p:nvSpPr>
          <p:spPr>
            <a:xfrm>
              <a:off x="4722120" y="3796200"/>
              <a:ext cx="24123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costos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es logísticas eficient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costos de transacció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Rectangle 27"/>
            <p:cNvSpPr/>
            <p:nvPr/>
          </p:nvSpPr>
          <p:spPr>
            <a:xfrm>
              <a:off x="6996600" y="3796200"/>
              <a:ext cx="2147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arketing efectiv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onitoreo de operacion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Rectangle 28"/>
            <p:cNvSpPr/>
            <p:nvPr/>
          </p:nvSpPr>
          <p:spPr>
            <a:xfrm>
              <a:off x="7001280" y="5185800"/>
              <a:ext cx="2134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de productividad de flo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Rectangle 29"/>
            <p:cNvSpPr/>
            <p:nvPr/>
          </p:nvSpPr>
          <p:spPr>
            <a:xfrm>
              <a:off x="4718160" y="5190480"/>
              <a:ext cx="22716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s de productividad de redes logístic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Rectangle 30"/>
            <p:cNvSpPr/>
            <p:nvPr/>
          </p:nvSpPr>
          <p:spPr>
            <a:xfrm>
              <a:off x="6996600" y="3297600"/>
              <a:ext cx="18550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Fuentes de negociación de contra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1" name="Rectangle 31"/>
            <p:cNvSpPr/>
            <p:nvPr/>
          </p:nvSpPr>
          <p:spPr>
            <a:xfrm>
              <a:off x="4730760" y="4705920"/>
              <a:ext cx="2153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Optimización de Inventari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Time-to-market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Rectangle 32"/>
            <p:cNvSpPr/>
            <p:nvPr/>
          </p:nvSpPr>
          <p:spPr>
            <a:xfrm>
              <a:off x="5380200" y="1531440"/>
              <a:ext cx="2714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osibilidad de mejorar: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" name="Rectangle 33"/>
            <p:cNvSpPr/>
            <p:nvPr/>
          </p:nvSpPr>
          <p:spPr>
            <a:xfrm>
              <a:off x="4641480" y="3278880"/>
              <a:ext cx="4430160" cy="112896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4" name="Rectangle 34"/>
            <p:cNvSpPr/>
            <p:nvPr/>
          </p:nvSpPr>
          <p:spPr>
            <a:xfrm>
              <a:off x="4635360" y="4660560"/>
              <a:ext cx="4430160" cy="107892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AutoShape 35"/>
            <p:cNvSpPr/>
            <p:nvPr/>
          </p:nvSpPr>
          <p:spPr>
            <a:xfrm>
              <a:off x="3246120" y="47530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6" name="AutoShape 36"/>
            <p:cNvSpPr/>
            <p:nvPr/>
          </p:nvSpPr>
          <p:spPr>
            <a:xfrm>
              <a:off x="3246120" y="52405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" name="Rectangle 37"/>
            <p:cNvSpPr/>
            <p:nvPr/>
          </p:nvSpPr>
          <p:spPr>
            <a:xfrm>
              <a:off x="3255840" y="4753080"/>
              <a:ext cx="10803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Capital de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8" name="Rectangle 38"/>
            <p:cNvSpPr/>
            <p:nvPr/>
          </p:nvSpPr>
          <p:spPr>
            <a:xfrm>
              <a:off x="3366360" y="5284800"/>
              <a:ext cx="9730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Reducir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Activos Fij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9" name="Rectangle 39"/>
            <p:cNvSpPr/>
            <p:nvPr/>
          </p:nvSpPr>
          <p:spPr>
            <a:xfrm>
              <a:off x="7013880" y="2488320"/>
              <a:ext cx="2043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Segmentación efectiva de consumidor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" name="Rectangle 40"/>
            <p:cNvSpPr/>
            <p:nvPr/>
          </p:nvSpPr>
          <p:spPr>
            <a:xfrm>
              <a:off x="6990120" y="4699800"/>
              <a:ext cx="21535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Pronósticos más precis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1" name="Rectangle 41"/>
            <p:cNvSpPr/>
            <p:nvPr/>
          </p:nvSpPr>
          <p:spPr>
            <a:xfrm>
              <a:off x="1662480" y="3324240"/>
              <a:ext cx="110772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Reduc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e Costos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42" name="Group 42"/>
            <p:cNvGrpSpPr/>
            <p:nvPr/>
          </p:nvGrpSpPr>
          <p:grpSpPr>
            <a:xfrm>
              <a:off x="1809000" y="3768120"/>
              <a:ext cx="949680" cy="446040"/>
              <a:chOff x="1809000" y="3768120"/>
              <a:chExt cx="949680" cy="446040"/>
            </a:xfrm>
          </p:grpSpPr>
          <p:sp>
            <p:nvSpPr>
              <p:cNvPr id="243" name="Line 43"/>
              <p:cNvSpPr/>
              <p:nvPr/>
            </p:nvSpPr>
            <p:spPr>
              <a:xfrm>
                <a:off x="1809000" y="3768120"/>
                <a:ext cx="0" cy="4442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" name="Line 44"/>
              <p:cNvSpPr/>
              <p:nvPr/>
            </p:nvSpPr>
            <p:spPr>
              <a:xfrm>
                <a:off x="1809000" y="4214160"/>
                <a:ext cx="9496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45" name="Arc 45"/>
            <p:cNvSpPr/>
            <p:nvPr/>
          </p:nvSpPr>
          <p:spPr>
            <a:xfrm>
              <a:off x="1854000" y="3716280"/>
              <a:ext cx="815400" cy="431280"/>
            </a:xfrm>
            <a:custGeom>
              <a:avLst/>
              <a:gdLst>
                <a:gd name="textAreaLeft" fmla="*/ 0 w 815400"/>
                <a:gd name="textAreaRight" fmla="*/ 815760 w 81540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fill="none" w="22213" h="22289">
                  <a:moveTo>
                    <a:pt x="22213" y="22280"/>
                  </a:moveTo>
                  <a:cubicBezTo>
                    <a:pt x="22008" y="22286"/>
                    <a:pt x="21804" y="22288"/>
                    <a:pt x="21600" y="22289"/>
                  </a:cubicBezTo>
                  <a:cubicBezTo>
                    <a:pt x="9670" y="22289"/>
                    <a:pt x="0" y="12618"/>
                    <a:pt x="0" y="689"/>
                  </a:cubicBezTo>
                  <a:cubicBezTo>
                    <a:pt x="-1" y="459"/>
                    <a:pt x="3" y="229"/>
                    <a:pt x="10" y="-1"/>
                  </a:cubicBezTo>
                </a:path>
                <a:path stroke="0" w="22213" h="22289">
                  <a:moveTo>
                    <a:pt x="22213" y="22280"/>
                  </a:moveTo>
                  <a:cubicBezTo>
                    <a:pt x="22008" y="22286"/>
                    <a:pt x="21804" y="22288"/>
                    <a:pt x="21600" y="22289"/>
                  </a:cubicBezTo>
                  <a:cubicBezTo>
                    <a:pt x="9670" y="22289"/>
                    <a:pt x="0" y="12618"/>
                    <a:pt x="0" y="689"/>
                  </a:cubicBezTo>
                  <a:cubicBezTo>
                    <a:pt x="-1" y="459"/>
                    <a:pt x="3" y="229"/>
                    <a:pt x="10" y="-1"/>
                  </a:cubicBezTo>
                  <a:lnTo>
                    <a:pt x="21600" y="689"/>
                  </a:lnTo>
                  <a:close/>
                </a:path>
              </a:pathLst>
            </a:custGeom>
            <a:noFill/>
            <a:ln w="38160">
              <a:solidFill>
                <a:srgbClr val="dddddd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6" name="Rectangle 46"/>
            <p:cNvSpPr/>
            <p:nvPr/>
          </p:nvSpPr>
          <p:spPr>
            <a:xfrm>
              <a:off x="1590480" y="4693320"/>
              <a:ext cx="1254600" cy="103824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" name="Rectangle 47"/>
            <p:cNvSpPr/>
            <p:nvPr/>
          </p:nvSpPr>
          <p:spPr>
            <a:xfrm>
              <a:off x="1596960" y="4708800"/>
              <a:ext cx="1243440" cy="4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Optimización  del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uso de activ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Rectangle 48"/>
            <p:cNvSpPr/>
            <p:nvPr/>
          </p:nvSpPr>
          <p:spPr>
            <a:xfrm>
              <a:off x="1681560" y="5511960"/>
              <a:ext cx="109800" cy="1346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Rectangle 49"/>
            <p:cNvSpPr/>
            <p:nvPr/>
          </p:nvSpPr>
          <p:spPr>
            <a:xfrm>
              <a:off x="1833480" y="5511960"/>
              <a:ext cx="11124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Rectangle 50"/>
            <p:cNvSpPr/>
            <p:nvPr/>
          </p:nvSpPr>
          <p:spPr>
            <a:xfrm>
              <a:off x="1978560" y="5511960"/>
              <a:ext cx="109800" cy="134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Rectangle 51"/>
            <p:cNvSpPr/>
            <p:nvPr/>
          </p:nvSpPr>
          <p:spPr>
            <a:xfrm>
              <a:off x="1767960" y="5347080"/>
              <a:ext cx="111600" cy="134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Rectangle 52"/>
            <p:cNvSpPr/>
            <p:nvPr/>
          </p:nvSpPr>
          <p:spPr>
            <a:xfrm>
              <a:off x="1932120" y="5369400"/>
              <a:ext cx="109800" cy="13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Rectangle 53"/>
            <p:cNvSpPr/>
            <p:nvPr/>
          </p:nvSpPr>
          <p:spPr>
            <a:xfrm>
              <a:off x="1866600" y="5204520"/>
              <a:ext cx="11016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Rectangle 54"/>
            <p:cNvSpPr/>
            <p:nvPr/>
          </p:nvSpPr>
          <p:spPr>
            <a:xfrm>
              <a:off x="2527920" y="5482080"/>
              <a:ext cx="111600" cy="135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AutoShape 55"/>
            <p:cNvSpPr/>
            <p:nvPr/>
          </p:nvSpPr>
          <p:spPr>
            <a:xfrm>
              <a:off x="2266200" y="5339520"/>
              <a:ext cx="156240" cy="1756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56" name="Group 56"/>
            <p:cNvGrpSpPr/>
            <p:nvPr/>
          </p:nvGrpSpPr>
          <p:grpSpPr>
            <a:xfrm>
              <a:off x="1801080" y="2477160"/>
              <a:ext cx="951480" cy="446400"/>
              <a:chOff x="1801080" y="2477160"/>
              <a:chExt cx="951480" cy="446400"/>
            </a:xfrm>
          </p:grpSpPr>
          <p:sp>
            <p:nvSpPr>
              <p:cNvPr id="257" name="Line 57"/>
              <p:cNvSpPr/>
              <p:nvPr/>
            </p:nvSpPr>
            <p:spPr>
              <a:xfrm>
                <a:off x="1801080" y="2477160"/>
                <a:ext cx="0" cy="44460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8" name="Line 58"/>
              <p:cNvSpPr/>
              <p:nvPr/>
            </p:nvSpPr>
            <p:spPr>
              <a:xfrm>
                <a:off x="1801080" y="2923560"/>
                <a:ext cx="9514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59" name="Arc 59"/>
            <p:cNvSpPr/>
            <p:nvPr/>
          </p:nvSpPr>
          <p:spPr>
            <a:xfrm flipV="1">
              <a:off x="1833480" y="2525760"/>
              <a:ext cx="816840" cy="343440"/>
            </a:xfrm>
            <a:custGeom>
              <a:avLst/>
              <a:gdLst>
                <a:gd name="textAreaLeft" fmla="*/ 0 w 816840"/>
                <a:gd name="textAreaRight" fmla="*/ 817200 w 816840"/>
                <a:gd name="textAreaTop" fmla="*/ 360 h 343440"/>
                <a:gd name="textAreaBottom" fmla="*/ 344160 h 3434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ddddd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60"/>
            <p:cNvSpPr/>
            <p:nvPr/>
          </p:nvSpPr>
          <p:spPr>
            <a:xfrm>
              <a:off x="1648080" y="2022840"/>
              <a:ext cx="113976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Mejoramient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Ingres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Line 61"/>
            <p:cNvSpPr/>
            <p:nvPr/>
          </p:nvSpPr>
          <p:spPr>
            <a:xfrm>
              <a:off x="4647960" y="249156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Line 62"/>
            <p:cNvSpPr/>
            <p:nvPr/>
          </p:nvSpPr>
          <p:spPr>
            <a:xfrm>
              <a:off x="4638600" y="3764880"/>
              <a:ext cx="443304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Line 63"/>
            <p:cNvSpPr/>
            <p:nvPr/>
          </p:nvSpPr>
          <p:spPr>
            <a:xfrm>
              <a:off x="4628880" y="516240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reación de valor para la empre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Line 65"/>
          <p:cNvSpPr/>
          <p:nvPr/>
        </p:nvSpPr>
        <p:spPr>
          <a:xfrm>
            <a:off x="137160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Line 66"/>
          <p:cNvSpPr/>
          <p:nvPr/>
        </p:nvSpPr>
        <p:spPr>
          <a:xfrm>
            <a:off x="137160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ext Box 67"/>
          <p:cNvSpPr/>
          <p:nvPr/>
        </p:nvSpPr>
        <p:spPr>
          <a:xfrm>
            <a:off x="1719360" y="5899320"/>
            <a:ext cx="536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mento de valor de las acciones, del capital humano y/o del activo nomin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Rectangle 68"/>
          <p:cNvSpPr/>
          <p:nvPr/>
        </p:nvSpPr>
        <p:spPr>
          <a:xfrm>
            <a:off x="7086600" y="6019920"/>
            <a:ext cx="76320" cy="759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69"/>
          <p:cNvSpPr/>
          <p:nvPr/>
        </p:nvSpPr>
        <p:spPr>
          <a:xfrm>
            <a:off x="1752480" y="5867280"/>
            <a:ext cx="5410440" cy="3049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adena de valor 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(activ. Primaria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1428840" y="1560600"/>
            <a:ext cx="60166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Matriz de valor agrega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1143000" y="1571760"/>
            <a:ext cx="67975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Roadmap para evaluar un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3 Marcador de contenido" descr=""/>
          <p:cNvPicPr/>
          <p:nvPr/>
        </p:nvPicPr>
        <p:blipFill>
          <a:blip r:embed="rId1"/>
          <a:stretch/>
        </p:blipFill>
        <p:spPr>
          <a:xfrm>
            <a:off x="554040" y="1852560"/>
            <a:ext cx="803592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320" y="642600"/>
            <a:ext cx="80010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Valor agregado por actividad/cli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1347840" y="1500120"/>
            <a:ext cx="609768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499680"/>
            <a:ext cx="80010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Ej: Matriz de agregación de val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3 Marcador de contenido" descr=""/>
          <p:cNvPicPr/>
          <p:nvPr/>
        </p:nvPicPr>
        <p:blipFill>
          <a:blip r:embed="rId1"/>
          <a:stretch/>
        </p:blipFill>
        <p:spPr>
          <a:xfrm>
            <a:off x="1471680" y="1762200"/>
            <a:ext cx="6191280" cy="4248000"/>
          </a:xfrm>
          <a:prstGeom prst="rect">
            <a:avLst/>
          </a:prstGeom>
          <a:ln w="0">
            <a:noFill/>
          </a:ln>
        </p:spPr>
      </p:pic>
      <p:sp>
        <p:nvSpPr>
          <p:cNvPr id="278" name="4 CuadroTexto"/>
          <p:cNvSpPr/>
          <p:nvPr/>
        </p:nvSpPr>
        <p:spPr>
          <a:xfrm rot="16200000">
            <a:off x="555480" y="350028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Stakehold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Cadena de valor negocio postal certifica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1982880" y="1428840"/>
            <a:ext cx="65898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Cadena de valor negocio impresión variab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2238480" y="1752480"/>
            <a:ext cx="46576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99680" y="1714680"/>
            <a:ext cx="80010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22640" indent="-422640">
              <a:spcBef>
                <a:spcPts val="499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Valor= Beneficios-Costo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(incluye riesg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s un análisis y revisión cuantitativos de los beneficios, costos y valor que una organización puede darle 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l clien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soc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emplead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aliados estratégic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provee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otr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Otro ejemplo de la matriz agregación de valor en la cadena de los stakehol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Picture 4" descr=""/>
          <p:cNvPicPr/>
          <p:nvPr/>
        </p:nvPicPr>
        <p:blipFill>
          <a:blip r:embed="rId1"/>
          <a:stretch/>
        </p:blipFill>
        <p:spPr>
          <a:xfrm>
            <a:off x="1366920" y="1924200"/>
            <a:ext cx="640080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¿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ónde situar los modelos de negocios en la arquitectura de negocio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428840" y="1714680"/>
            <a:ext cx="656568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 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n modelo de negocios es la arquitectura de la configuración de componentes de las transacciones diseñadas para explotar oportunidades de negocios (*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 hace cargo de la oportun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dica como y porqué las transacciones con clientes (y los beneficios) ocurrirá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cribe la interacción de la organización con otras entidades del 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*)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Raffi Amit, co-director of the Wharton</a:t>
            </a:r>
            <a:r>
              <a:rPr b="0" lang="es-ES" sz="18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-Business Initiative (WeB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?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con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estrategia central de una organización que define su lugar en el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scribe la oportunidad y como la organización generará los benef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sponde a los “porqué” la organización exis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Oval 4"/>
          <p:cNvSpPr/>
          <p:nvPr/>
        </p:nvSpPr>
        <p:spPr>
          <a:xfrm>
            <a:off x="3041640" y="297180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1746360" y="2438280"/>
            <a:ext cx="1600200" cy="838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Line 6"/>
          <p:cNvSpPr/>
          <p:nvPr/>
        </p:nvSpPr>
        <p:spPr>
          <a:xfrm flipV="1">
            <a:off x="1822320" y="434304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Line 7"/>
          <p:cNvSpPr/>
          <p:nvPr/>
        </p:nvSpPr>
        <p:spPr>
          <a:xfrm flipH="1">
            <a:off x="4946760" y="281952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8"/>
          <p:cNvSpPr/>
          <p:nvPr/>
        </p:nvSpPr>
        <p:spPr>
          <a:xfrm flipH="1" flipV="1">
            <a:off x="5022360" y="419112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3489120" y="335268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6327360" y="248904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6329880" y="45720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34 Elipse"/>
          <p:cNvSpPr/>
          <p:nvPr/>
        </p:nvSpPr>
        <p:spPr>
          <a:xfrm>
            <a:off x="4140360" y="1484280"/>
            <a:ext cx="3600360" cy="4753080"/>
          </a:xfrm>
          <a:prstGeom prst="ellipse">
            <a:avLst/>
          </a:prstGeom>
          <a:solidFill>
            <a:srgbClr val="edfb69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Line 5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Line 6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7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Line 8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Line 14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Line 16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7457400" y="1828800"/>
            <a:ext cx="12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olog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Line 18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Line 20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21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22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Line 23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24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25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Line 26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Line 27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Line 29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Line 31"/>
          <p:cNvSpPr/>
          <p:nvPr/>
        </p:nvSpPr>
        <p:spPr>
          <a:xfrm>
            <a:off x="4343400" y="2590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36 CuadroTexto"/>
          <p:cNvSpPr/>
          <p:nvPr/>
        </p:nvSpPr>
        <p:spPr>
          <a:xfrm>
            <a:off x="6543720" y="350028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Verdana"/>
              </a:rPr>
              <a:t>Propuesta de val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Oval 33"/>
          <p:cNvSpPr/>
          <p:nvPr/>
        </p:nvSpPr>
        <p:spPr>
          <a:xfrm>
            <a:off x="0" y="1197000"/>
            <a:ext cx="8964720" cy="5111640"/>
          </a:xfrm>
          <a:prstGeom prst="ellipse">
            <a:avLst/>
          </a:prstGeom>
          <a:solidFill>
            <a:srgbClr val="edf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Oval 4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Line 6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7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8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Line 14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Line 16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7457400" y="18288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Line 18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20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21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22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Line 23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24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Line 25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Line 26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Line 27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 Box 28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Line 29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 Box 30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Line 31"/>
          <p:cNvSpPr/>
          <p:nvPr/>
        </p:nvSpPr>
        <p:spPr>
          <a:xfrm>
            <a:off x="4343400" y="259092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32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34"/>
          <p:cNvSpPr/>
          <p:nvPr/>
        </p:nvSpPr>
        <p:spPr>
          <a:xfrm rot="20437200">
            <a:off x="7237440" y="3859920"/>
            <a:ext cx="16207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ENTOR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Paí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Cultu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7420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4:44:41Z</dcterms:created>
  <dc:creator>toshiba</dc:creator>
  <dc:description/>
  <dc:language>en-US</dc:language>
  <cp:lastModifiedBy>dii</cp:lastModifiedBy>
  <dcterms:modified xsi:type="dcterms:W3CDTF">2010-08-20T13:39:50Z</dcterms:modified>
  <cp:revision>30</cp:revision>
  <dc:subject/>
  <dc:title>Modelo de Negocios</dc:title>
</cp:coreProperties>
</file>