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416-11A8-4880-8E84-0BBB6249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709-BD2C-4D60-8AF4-2E04FEC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654-ABA4-4B85-8106-73BCF33E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62F-9C9A-4399-9923-43D72E59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C89-66FB-4384-A33F-8070C9E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C24-7E2A-4875-BA2F-094E2F98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FAA-2384-4957-9C70-80EABE5A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AEF-35E9-4ACE-83BC-B9FB4C8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D6E-A442-448D-8900-8A9C22C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6EF-92DC-4833-96D0-EDC83C75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BD0-D91C-4A5A-9A60-931D703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031-95E6-42A5-9778-09230FC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F8E-486B-45C8-A254-59BD2D82F5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2560" y="274680"/>
            <a:ext cx="4105080" cy="490320"/>
          </a:xfrm>
          <a:prstGeom prst="rect">
            <a:avLst/>
          </a:prstGeom>
          <a:solidFill>
            <a:srgbClr val="ffcc99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Esquem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AutoShape 17"/>
          <p:cNvCxnSpPr>
            <a:stCxn id="43" idx="3"/>
            <a:endCxn id="44" idx="1"/>
          </p:cNvCxnSpPr>
          <p:nvPr/>
        </p:nvCxnSpPr>
        <p:spPr>
          <a:xfrm flipV="1">
            <a:off x="1514880" y="1309320"/>
            <a:ext cx="500760" cy="9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AutoShape 18"/>
          <p:cNvCxnSpPr>
            <a:stCxn id="43" idx="3"/>
            <a:endCxn id="46" idx="1"/>
          </p:cNvCxnSpPr>
          <p:nvPr/>
        </p:nvCxnSpPr>
        <p:spPr>
          <a:xfrm>
            <a:off x="1514880" y="2277720"/>
            <a:ext cx="49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AutoShape 19"/>
          <p:cNvCxnSpPr>
            <a:stCxn id="43" idx="3"/>
            <a:endCxn id="48" idx="1"/>
          </p:cNvCxnSpPr>
          <p:nvPr/>
        </p:nvCxnSpPr>
        <p:spPr>
          <a:xfrm>
            <a:off x="1514880" y="2277720"/>
            <a:ext cx="49860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AutoShape 20"/>
          <p:cNvCxnSpPr>
            <a:stCxn id="50" idx="3"/>
            <a:endCxn id="51" idx="1"/>
          </p:cNvCxnSpPr>
          <p:nvPr/>
        </p:nvCxnSpPr>
        <p:spPr>
          <a:xfrm flipV="1">
            <a:off x="2137680" y="3900240"/>
            <a:ext cx="159300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21"/>
          <p:cNvCxnSpPr>
            <a:stCxn id="50" idx="3"/>
            <a:endCxn id="53" idx="1"/>
          </p:cNvCxnSpPr>
          <p:nvPr/>
        </p:nvCxnSpPr>
        <p:spPr>
          <a:xfrm>
            <a:off x="2137680" y="4333680"/>
            <a:ext cx="157860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22"/>
          <p:cNvCxnSpPr>
            <a:stCxn id="55" idx="3"/>
            <a:endCxn id="56" idx="1"/>
          </p:cNvCxnSpPr>
          <p:nvPr/>
        </p:nvCxnSpPr>
        <p:spPr>
          <a:xfrm flipV="1">
            <a:off x="1630080" y="5468760"/>
            <a:ext cx="208620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AutoShape 23"/>
          <p:cNvCxnSpPr>
            <a:stCxn id="55" idx="3"/>
            <a:endCxn id="58" idx="1"/>
          </p:cNvCxnSpPr>
          <p:nvPr/>
        </p:nvCxnSpPr>
        <p:spPr>
          <a:xfrm>
            <a:off x="1630080" y="5829120"/>
            <a:ext cx="2087640" cy="359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AutoShape 24"/>
          <p:cNvCxnSpPr>
            <a:stCxn id="46" idx="3"/>
            <a:endCxn id="60" idx="1"/>
          </p:cNvCxnSpPr>
          <p:nvPr/>
        </p:nvCxnSpPr>
        <p:spPr>
          <a:xfrm flipV="1">
            <a:off x="3224880" y="1452240"/>
            <a:ext cx="492840" cy="82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AutoShape 25"/>
          <p:cNvCxnSpPr>
            <a:stCxn id="46" idx="3"/>
            <a:endCxn id="62" idx="1"/>
          </p:cNvCxnSpPr>
          <p:nvPr/>
        </p:nvCxnSpPr>
        <p:spPr>
          <a:xfrm>
            <a:off x="3224880" y="2279520"/>
            <a:ext cx="503280" cy="525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AutoShape 28"/>
          <p:cNvCxnSpPr>
            <a:stCxn id="60" idx="3"/>
            <a:endCxn id="64" idx="1"/>
          </p:cNvCxnSpPr>
          <p:nvPr/>
        </p:nvCxnSpPr>
        <p:spPr>
          <a:xfrm flipV="1">
            <a:off x="6496560" y="860400"/>
            <a:ext cx="786240" cy="59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9"/>
          <p:cNvCxnSpPr>
            <a:stCxn id="60" idx="3"/>
            <a:endCxn id="66" idx="1"/>
          </p:cNvCxnSpPr>
          <p:nvPr/>
        </p:nvCxnSpPr>
        <p:spPr>
          <a:xfrm>
            <a:off x="6496560" y="1452240"/>
            <a:ext cx="76608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7" name="Group 50"/>
          <p:cNvGrpSpPr/>
          <p:nvPr/>
        </p:nvGrpSpPr>
        <p:grpSpPr>
          <a:xfrm>
            <a:off x="329040" y="676440"/>
            <a:ext cx="8123040" cy="5695920"/>
            <a:chOff x="329040" y="676440"/>
            <a:chExt cx="8123040" cy="5695920"/>
          </a:xfrm>
        </p:grpSpPr>
        <p:sp>
          <p:nvSpPr>
            <p:cNvPr id="43" name="Rectangle 5"/>
            <p:cNvSpPr/>
            <p:nvPr/>
          </p:nvSpPr>
          <p:spPr>
            <a:xfrm>
              <a:off x="329760" y="2093760"/>
              <a:ext cx="11851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Lengu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2013120" y="3054240"/>
              <a:ext cx="125064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ilencio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013840" y="2095560"/>
              <a:ext cx="121104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Hablar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8"/>
            <p:cNvSpPr/>
            <p:nvPr/>
          </p:nvSpPr>
          <p:spPr>
            <a:xfrm>
              <a:off x="2015280" y="1125360"/>
              <a:ext cx="120780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Escuch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3717360" y="1268280"/>
              <a:ext cx="27792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Modalidades del habla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3727800" y="2620800"/>
              <a:ext cx="278064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Actos lingüísticos bás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329040" y="5645160"/>
              <a:ext cx="13010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Cuerpo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329400" y="4149720"/>
              <a:ext cx="1808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Emocion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730320" y="3716280"/>
              <a:ext cx="203256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Estados de Áni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715920" y="4708440"/>
              <a:ext cx="130860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Emo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3717360" y="6004080"/>
              <a:ext cx="148392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Corpor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3715920" y="5284800"/>
              <a:ext cx="100368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Biolo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282440" y="676440"/>
              <a:ext cx="108144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Indagar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7262280" y="1628640"/>
              <a:ext cx="111816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Propo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6953040" y="2620800"/>
              <a:ext cx="149904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Afirm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Organization Chart 33"/>
          <p:cNvGrpSpPr/>
          <p:nvPr/>
        </p:nvGrpSpPr>
        <p:grpSpPr>
          <a:xfrm>
            <a:off x="6099120" y="3213000"/>
            <a:ext cx="2378160" cy="3168720"/>
            <a:chOff x="6099120" y="3213000"/>
            <a:chExt cx="2378160" cy="3168720"/>
          </a:xfrm>
        </p:grpSpPr>
        <p:cxnSp>
          <p:nvCxnSpPr>
            <p:cNvPr id="70" name="_s1028"/>
            <p:cNvCxnSpPr/>
            <p:nvPr/>
          </p:nvCxnSpPr>
          <p:spPr>
            <a:xfrm flipV="1">
              <a:off x="7437240" y="5516280"/>
              <a:ext cx="276840" cy="66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29"/>
            <p:cNvCxnSpPr>
              <a:stCxn id="72" idx="3"/>
              <a:endCxn id="73" idx="2"/>
            </p:cNvCxnSpPr>
            <p:nvPr/>
          </p:nvCxnSpPr>
          <p:spPr>
            <a:xfrm flipV="1">
              <a:off x="7524720" y="3610080"/>
              <a:ext cx="189360" cy="1880640"/>
            </a:xfrm>
            <a:prstGeom prst="bentConnector4">
              <a:avLst>
                <a:gd name="adj1" fmla="val 122666"/>
                <a:gd name="adj2" fmla="val 55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3" idx="2"/>
            </p:cNvCxnSpPr>
            <p:nvPr/>
          </p:nvCxnSpPr>
          <p:spPr>
            <a:xfrm flipV="1">
              <a:off x="7524720" y="3610080"/>
              <a:ext cx="189360" cy="1187640"/>
            </a:xfrm>
            <a:prstGeom prst="bentConnector4">
              <a:avLst>
                <a:gd name="adj1" fmla="val 122666"/>
                <a:gd name="adj2" fmla="val 584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3" idx="2"/>
            </p:cNvCxnSpPr>
            <p:nvPr/>
          </p:nvCxnSpPr>
          <p:spPr>
            <a:xfrm flipV="1">
              <a:off x="7524720" y="3610080"/>
              <a:ext cx="189360" cy="49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2"/>
            <p:cNvSpPr/>
            <p:nvPr/>
          </p:nvSpPr>
          <p:spPr>
            <a:xfrm>
              <a:off x="6950160" y="3213000"/>
              <a:ext cx="1527120" cy="39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cla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6099120" y="3905280"/>
              <a:ext cx="1425600" cy="39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Juic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>
              <a:off x="6099120" y="4597560"/>
              <a:ext cx="1425600" cy="39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et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5"/>
            <p:cNvSpPr/>
            <p:nvPr/>
          </p:nvSpPr>
          <p:spPr>
            <a:xfrm>
              <a:off x="6099120" y="5291280"/>
              <a:ext cx="1425600" cy="398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Ofer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6099120" y="5985000"/>
              <a:ext cx="1425600" cy="396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me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AutoShape 47"/>
          <p:cNvCxnSpPr>
            <a:stCxn id="62" idx="3"/>
            <a:endCxn id="68" idx="1"/>
          </p:cNvCxnSpPr>
          <p:nvPr/>
        </p:nvCxnSpPr>
        <p:spPr>
          <a:xfrm>
            <a:off x="6508440" y="2804760"/>
            <a:ext cx="444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Line 49"/>
          <p:cNvSpPr/>
          <p:nvPr/>
        </p:nvSpPr>
        <p:spPr>
          <a:xfrm>
            <a:off x="7711920" y="299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í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cuch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cibir + Interpre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empre hay una brecha entre tu hablar y mi escuch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8101080" y="333360"/>
            <a:ext cx="3585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0"/>
          <p:cNvGrpSpPr/>
          <p:nvPr/>
        </p:nvGrpSpPr>
        <p:grpSpPr>
          <a:xfrm>
            <a:off x="900000" y="1484280"/>
            <a:ext cx="7200720" cy="3889080"/>
            <a:chOff x="900000" y="1484280"/>
            <a:chExt cx="7200720" cy="3889080"/>
          </a:xfrm>
        </p:grpSpPr>
        <p:sp>
          <p:nvSpPr>
            <p:cNvPr id="84" name="Rectangle 5"/>
            <p:cNvSpPr/>
            <p:nvPr/>
          </p:nvSpPr>
          <p:spPr>
            <a:xfrm>
              <a:off x="900000" y="2650680"/>
              <a:ext cx="136656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bserv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2773080" y="2650680"/>
              <a:ext cx="136692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6733800" y="2650680"/>
              <a:ext cx="136692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4644720" y="2650680"/>
              <a:ext cx="136692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266560" y="2941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4140000" y="294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6011640" y="29419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AutoShape 12"/>
            <p:cNvCxnSpPr>
              <a:stCxn id="86" idx="2"/>
              <a:endCxn id="85" idx="2"/>
            </p:cNvCxnSpPr>
            <p:nvPr/>
          </p:nvCxnSpPr>
          <p:spPr>
            <a:xfrm rot="5400000">
              <a:off x="5436720" y="1350720"/>
              <a:ext cx="2520" cy="3961080"/>
            </a:xfrm>
            <a:prstGeom prst="curvedConnector5">
              <a:avLst>
                <a:gd name="adj1" fmla="val 31400000"/>
                <a:gd name="adj2" fmla="val 50000"/>
                <a:gd name="adj3" fmla="val 31400000"/>
              </a:avLst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92" name="AutoShape 13"/>
            <p:cNvCxnSpPr>
              <a:stCxn id="86" idx="2"/>
              <a:endCxn id="84" idx="2"/>
            </p:cNvCxnSpPr>
            <p:nvPr/>
          </p:nvCxnSpPr>
          <p:spPr>
            <a:xfrm rot="5400000">
              <a:off x="4499640" y="414000"/>
              <a:ext cx="2520" cy="5834880"/>
            </a:xfrm>
            <a:prstGeom prst="curvedConnector5">
              <a:avLst>
                <a:gd name="adj1" fmla="val 61600000"/>
                <a:gd name="adj2" fmla="val 49996"/>
                <a:gd name="adj3" fmla="val 61600000"/>
              </a:avLst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3" name="Oval 14"/>
            <p:cNvSpPr/>
            <p:nvPr/>
          </p:nvSpPr>
          <p:spPr>
            <a:xfrm>
              <a:off x="4140000" y="3624120"/>
              <a:ext cx="1727280" cy="775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9019"/>
                  </a:srgbClr>
                </a:gs>
                <a:gs pos="100000">
                  <a:srgbClr val="576869">
                    <a:alpha val="4901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prendizaj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er or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5"/>
            <p:cNvSpPr/>
            <p:nvPr/>
          </p:nvSpPr>
          <p:spPr>
            <a:xfrm>
              <a:off x="2050920" y="4110840"/>
              <a:ext cx="1942920" cy="1262520"/>
            </a:xfrm>
            <a:prstGeom prst="ellipse">
              <a:avLst/>
            </a:prstGeom>
            <a:blipFill rotWithShape="0">
              <a:blip r:embed="rId1">
                <a:alphaModFix amt="49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prendizaj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º orde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0000"/>
                  </a:solidFill>
                  <a:latin typeface="Arial"/>
                </a:rPr>
                <a:t>Transform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AutoShape 16"/>
            <p:cNvCxnSpPr>
              <a:stCxn id="84" idx="0"/>
              <a:endCxn id="87" idx="0"/>
            </p:cNvCxnSpPr>
            <p:nvPr/>
          </p:nvCxnSpPr>
          <p:spPr>
            <a:xfrm flipH="1" rot="16200000">
              <a:off x="3455280" y="777960"/>
              <a:ext cx="2520" cy="3745800"/>
            </a:xfrm>
            <a:prstGeom prst="curvedConnector5">
              <a:avLst>
                <a:gd name="adj1" fmla="val -37900000"/>
                <a:gd name="adj2" fmla="val 50000"/>
                <a:gd name="adj3" fmla="val -37900000"/>
              </a:avLst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96" name="Oval 17"/>
            <p:cNvSpPr/>
            <p:nvPr/>
          </p:nvSpPr>
          <p:spPr>
            <a:xfrm>
              <a:off x="2266560" y="1484280"/>
              <a:ext cx="1727280" cy="775800"/>
            </a:xfrm>
            <a:prstGeom prst="ellipse">
              <a:avLst/>
            </a:prstGeom>
            <a:blipFill rotWithShape="0">
              <a:blip r:embed="rId2">
                <a:alphaModFix amt="49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19"/>
          <p:cNvSpPr/>
          <p:nvPr/>
        </p:nvSpPr>
        <p:spPr>
          <a:xfrm>
            <a:off x="7956720" y="404640"/>
            <a:ext cx="360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1:43:09Z</dcterms:created>
  <dc:creator>Antonio Reveco</dc:creator>
  <dc:description/>
  <dc:language>en-US</dc:language>
  <cp:lastModifiedBy>Mario Medina Gallardo</cp:lastModifiedBy>
  <dcterms:modified xsi:type="dcterms:W3CDTF">2010-09-01T03:11:41Z</dcterms:modified>
  <cp:revision>29</cp:revision>
  <dc:subject/>
  <dc:title>Conversaciones</dc:title>
</cp:coreProperties>
</file>