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52E-B7D7-4A0E-9CAE-485377D3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D2C-F568-4C78-81A6-0EB2A90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5FC-B5CB-4169-9082-80A49472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AF9-1ECB-45E2-9BCA-F33C7E94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826-131B-4034-9605-BC234DDD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694-6E2A-45EE-8EBF-DFBAE96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672-333F-4ABF-99B6-36B35CA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F1C-0884-492A-A4AC-9D5D210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20F-E149-4BA0-BC6E-3B76142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848-84E5-49C8-9EEC-60B1B58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0BB-F792-41BD-A90E-93726CA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E67-0C1A-47CF-A8FE-E0ECA04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613200"/>
            <a:ext cx="822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605A-32F1-4BD7-A3F7-52810CF9A4B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ordinación de Acciones y Negociación de Ro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28" descr=""/>
          <p:cNvPicPr/>
          <p:nvPr/>
        </p:nvPicPr>
        <p:blipFill>
          <a:blip r:embed="rId1"/>
          <a:stretch/>
        </p:blipFill>
        <p:spPr>
          <a:xfrm>
            <a:off x="7426440" y="3139920"/>
            <a:ext cx="922320" cy="1903680"/>
          </a:xfrm>
          <a:prstGeom prst="rect">
            <a:avLst/>
          </a:prstGeom>
          <a:ln w="0">
            <a:noFill/>
          </a:ln>
        </p:spPr>
      </p:pic>
      <p:pic>
        <p:nvPicPr>
          <p:cNvPr id="43" name="Object 29" descr=""/>
          <p:cNvPicPr/>
          <p:nvPr/>
        </p:nvPicPr>
        <p:blipFill>
          <a:blip r:embed="rId2"/>
          <a:stretch/>
        </p:blipFill>
        <p:spPr>
          <a:xfrm>
            <a:off x="1190520" y="3216240"/>
            <a:ext cx="665280" cy="1836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0"/>
          <p:cNvSpPr/>
          <p:nvPr/>
        </p:nvSpPr>
        <p:spPr>
          <a:xfrm>
            <a:off x="914400" y="5197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</a:rPr>
              <a:t>Cliente interno/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838080" y="1996920"/>
            <a:ext cx="17528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ndiciones de satisfacción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 que tiempo lo qui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 cuales recur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Quienes participar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Valor esper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2321280" y="565452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Requiere Desarrol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bilidades para 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anejo Construct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Conflicto Pot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14 Grupo"/>
          <p:cNvGrpSpPr/>
          <p:nvPr/>
        </p:nvGrpSpPr>
        <p:grpSpPr>
          <a:xfrm>
            <a:off x="1752480" y="1844640"/>
            <a:ext cx="7010640" cy="4495680"/>
            <a:chOff x="1752480" y="1844640"/>
            <a:chExt cx="7010640" cy="4495680"/>
          </a:xfrm>
        </p:grpSpPr>
        <p:graphicFrame>
          <p:nvGraphicFramePr>
            <p:cNvPr id="48" name="Object 25"/>
            <p:cNvGraphicFramePr/>
            <p:nvPr/>
          </p:nvGraphicFramePr>
          <p:xfrm>
            <a:off x="1752480" y="1844640"/>
            <a:ext cx="5600880" cy="4495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9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1844640"/>
                      <a:ext cx="56008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Text Box 31"/>
            <p:cNvSpPr/>
            <p:nvPr/>
          </p:nvSpPr>
          <p:spPr>
            <a:xfrm>
              <a:off x="6324840" y="519732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00"/>
                  </a:solidFill>
                  <a:latin typeface="Times New Roman"/>
                </a:rPr>
                <a:t>Proveedor interno/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33"/>
            <p:cNvSpPr/>
            <p:nvPr/>
          </p:nvSpPr>
          <p:spPr>
            <a:xfrm>
              <a:off x="6934320" y="1920600"/>
              <a:ext cx="17524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Oferta de realiz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En otro tiemp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Con algunos recurs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Participarán otr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Costo ofrecido may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11 Conector recto de flecha"/>
            <p:cNvCxnSpPr/>
            <p:nvPr/>
          </p:nvCxnSpPr>
          <p:spPr>
            <a:xfrm flipH="1">
              <a:off x="4643640" y="1988640"/>
              <a:ext cx="144720" cy="576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21:13:16Z</dcterms:created>
  <dc:creator>.</dc:creator>
  <dc:description/>
  <dc:language>en-US</dc:language>
  <cp:lastModifiedBy>Mario Medina Gallardo</cp:lastModifiedBy>
  <cp:lastPrinted>2000-04-12T17:39:44Z</cp:lastPrinted>
  <dcterms:modified xsi:type="dcterms:W3CDTF">2010-09-01T03:02:28Z</dcterms:modified>
  <cp:revision>86</cp:revision>
  <dc:subject/>
  <dc:title>Indice</dc:title>
</cp:coreProperties>
</file>