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70C-FC81-4506-9F8B-C1A1FD3D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76D-3D5A-4A57-92D5-F442932C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DEF-D8A3-4319-91D7-111F66EF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F1A-BAFF-4830-8DF4-E4B95F7F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6CD-F9F0-4ACE-B1CD-24DCF975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406-4C39-4E3F-9890-139315D5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C87-B2D4-4442-A09E-C7367E9E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934-E360-44F4-BFA0-E98CC66F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EF4-D0E8-4F5B-B231-3069FB0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272-5615-4A15-89B0-C2D4DFDA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976-5CDC-413C-8D5B-4E2D7F0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B8E-499E-4231-A813-6566665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613200"/>
            <a:ext cx="8229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5DD2-F250-4661-9F03-10EA6AEF2C6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ordinación de Acciones y Negociación de Ro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28" descr=""/>
          <p:cNvPicPr/>
          <p:nvPr/>
        </p:nvPicPr>
        <p:blipFill>
          <a:blip r:embed="rId1"/>
          <a:stretch/>
        </p:blipFill>
        <p:spPr>
          <a:xfrm>
            <a:off x="7426440" y="3139920"/>
            <a:ext cx="922320" cy="1903680"/>
          </a:xfrm>
          <a:prstGeom prst="rect">
            <a:avLst/>
          </a:prstGeom>
          <a:ln w="0">
            <a:noFill/>
          </a:ln>
        </p:spPr>
      </p:pic>
      <p:pic>
        <p:nvPicPr>
          <p:cNvPr id="43" name="Object 29" descr=""/>
          <p:cNvPicPr/>
          <p:nvPr/>
        </p:nvPicPr>
        <p:blipFill>
          <a:blip r:embed="rId2"/>
          <a:stretch/>
        </p:blipFill>
        <p:spPr>
          <a:xfrm>
            <a:off x="1190520" y="3216240"/>
            <a:ext cx="665280" cy="1836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0"/>
          <p:cNvSpPr/>
          <p:nvPr/>
        </p:nvSpPr>
        <p:spPr>
          <a:xfrm>
            <a:off x="914400" y="5197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</a:rPr>
              <a:t>Cliente interno/ex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838080" y="1996920"/>
            <a:ext cx="17528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ondiciones de satisfacción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n que tiempo lo quie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n cuales recurs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Quienes participar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Valor esper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2321280" y="5654520"/>
            <a:ext cx="178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Requiere Desarrol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bilidades para 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anejo Construct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Conflicto Pote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14 Grupo"/>
          <p:cNvGrpSpPr/>
          <p:nvPr/>
        </p:nvGrpSpPr>
        <p:grpSpPr>
          <a:xfrm>
            <a:off x="1752480" y="1844640"/>
            <a:ext cx="7010640" cy="4495680"/>
            <a:chOff x="1752480" y="1844640"/>
            <a:chExt cx="7010640" cy="4495680"/>
          </a:xfrm>
        </p:grpSpPr>
        <p:graphicFrame>
          <p:nvGraphicFramePr>
            <p:cNvPr id="48" name="Object 25"/>
            <p:cNvGraphicFramePr/>
            <p:nvPr/>
          </p:nvGraphicFramePr>
          <p:xfrm>
            <a:off x="1752480" y="1844640"/>
            <a:ext cx="5600880" cy="44956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9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1844640"/>
                      <a:ext cx="56008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Text Box 31"/>
            <p:cNvSpPr/>
            <p:nvPr/>
          </p:nvSpPr>
          <p:spPr>
            <a:xfrm>
              <a:off x="6324840" y="519732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0000"/>
                  </a:solidFill>
                  <a:latin typeface="Times New Roman"/>
                </a:rPr>
                <a:t>Proveedor interno/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33"/>
            <p:cNvSpPr/>
            <p:nvPr/>
          </p:nvSpPr>
          <p:spPr>
            <a:xfrm>
              <a:off x="6934320" y="1920600"/>
              <a:ext cx="17524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Oferta de realiz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En otro tiemp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Con algunos recurs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Participarán otr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Costo ofrecido may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11 Conector recto de flecha"/>
            <p:cNvCxnSpPr/>
            <p:nvPr/>
          </p:nvCxnSpPr>
          <p:spPr>
            <a:xfrm flipH="1">
              <a:off x="4643640" y="1988640"/>
              <a:ext cx="144720" cy="576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21:13:16Z</dcterms:created>
  <dc:creator>.</dc:creator>
  <dc:description/>
  <dc:language>en-US</dc:language>
  <cp:lastModifiedBy>Mario Medina Gallardo</cp:lastModifiedBy>
  <cp:lastPrinted>2000-04-12T17:39:44Z</cp:lastPrinted>
  <dcterms:modified xsi:type="dcterms:W3CDTF">2010-09-01T03:02:28Z</dcterms:modified>
  <cp:revision>86</cp:revision>
  <dc:subject/>
  <dc:title>Indice</dc:title>
</cp:coreProperties>
</file>