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FF30A-A139-4739-A334-266CAEA4D8FC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9796C-60C2-4066-A222-3A5D84C5E78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AFD-8DA3-4956-8BB5-4FFBB628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8CB-30A7-429D-9981-B3165B56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54E-0496-4581-9F64-BCC129F1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60C-72FD-4D64-A6C5-886C8CB7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DAE-2450-4BD2-B151-DDE5EDB9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882-374F-44AE-B637-76E993CE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472-136F-4C5C-A3DA-C49246F3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891-26D4-4BEE-AAF1-E40E4D3F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949-F481-46F0-BFC1-5C6C078B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B25-ED8B-45D4-A4FD-1AB9CCA4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35B-4F1A-4ED4-BC94-AFB441E8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0B0-5220-40A8-AD0F-548407FA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B512B-3BA2-472F-9F99-E2462499077B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540ED-F8BE-4057-9D4C-9834F341C20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78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5640" y="461916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8200" y="25502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71600" y="2405160"/>
            <a:ext cx="8264520" cy="790200"/>
            <a:chOff x="471600" y="2405160"/>
            <a:chExt cx="8264520" cy="790200"/>
          </a:xfrm>
        </p:grpSpPr>
        <p:sp>
          <p:nvSpPr>
            <p:cNvPr id="91" name="Rectangle 5"/>
            <p:cNvSpPr/>
            <p:nvPr/>
          </p:nvSpPr>
          <p:spPr>
            <a:xfrm>
              <a:off x="471600" y="2405160"/>
              <a:ext cx="129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83120" y="3270240"/>
            <a:ext cx="8435520" cy="1098720"/>
            <a:chOff x="483120" y="3270240"/>
            <a:chExt cx="8435520" cy="1098720"/>
          </a:xfrm>
        </p:grpSpPr>
        <p:sp>
          <p:nvSpPr>
            <p:cNvPr id="94" name="Rectangle 6"/>
            <p:cNvSpPr/>
            <p:nvPr/>
          </p:nvSpPr>
          <p:spPr>
            <a:xfrm>
              <a:off x="483120" y="3270240"/>
              <a:ext cx="18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2680" y="4357800"/>
            <a:ext cx="8445960" cy="1143000"/>
            <a:chOff x="472680" y="4357800"/>
            <a:chExt cx="8445960" cy="1143000"/>
          </a:xfrm>
        </p:grpSpPr>
        <p:sp>
          <p:nvSpPr>
            <p:cNvPr id="97" name="Rectangle 7"/>
            <p:cNvSpPr/>
            <p:nvPr/>
          </p:nvSpPr>
          <p:spPr>
            <a:xfrm>
              <a:off x="472680" y="435780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1960" y="5472000"/>
            <a:ext cx="8294040" cy="1410120"/>
            <a:chOff x="471960" y="5472000"/>
            <a:chExt cx="8294040" cy="1410120"/>
          </a:xfrm>
        </p:grpSpPr>
        <p:sp>
          <p:nvSpPr>
            <p:cNvPr id="100" name="Rectangle 8"/>
            <p:cNvSpPr/>
            <p:nvPr/>
          </p:nvSpPr>
          <p:spPr>
            <a:xfrm>
              <a:off x="471960" y="5502240"/>
              <a:ext cx="17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0b050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1f0d0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100000">
                <a:srgbClr val="151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Luis Zaviezo</cp:lastModifiedBy>
  <dcterms:modified xsi:type="dcterms:W3CDTF">2010-09-21T13:20:53Z</dcterms:modified>
  <cp:revision>1</cp:revision>
  <dc:subject/>
  <dc:title>Análisis Sectorial </dc:title>
</cp:coreProperties>
</file>