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32CB-BD41-42B0-A294-48FFD061A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E38B-14E8-45C5-8BC2-2FAA00929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F2EF-3E64-4264-9B16-6BF101DE1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CB71-9BEF-4C67-9875-C65141589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B6C1-8BD5-4654-A8D3-5121A6943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BE3C-7349-4A9B-9EA1-9B9E604A6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2DF4-2F65-43E5-86FC-22129B376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A2B9-C31A-4496-AC1C-7DA44BAA0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C499-FB16-4504-A453-E1C691EFF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5F6A-2020-435F-A186-EC9C96658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A2E0-2FD1-41C6-ABB1-CCAD9F479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13B2-6064-47F1-92D8-400C60FEB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E842-F8A2-478C-8CFD-EB16A5CAA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FECB-0B48-4AE5-A2EA-061C8C80B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A223-119A-4E23-A522-1035B43D4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B04C-3CBC-4005-868C-FCB41342F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CACB-BE74-425A-B451-78D8CEB56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CC1E-90A4-446F-AD34-01E46F82E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5FED-ABAC-4E2D-B2EA-28A15DA7E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28A0-3861-46AA-8936-6B2DA29C5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0C08-2D8F-4F72-9C6F-46C6B7D7F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D28E-C3FC-4058-827F-BF48C4DEE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5D71-5A11-4049-BCF6-17278A6D6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CA62-9EFA-4989-87E4-A912B42A3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A640-1673-453C-AE05-89E806B94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3CE68-7D25-4DA8-A9DB-A9DC2524EF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11939-C3DA-48EA-8F96-C964883E87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7C54A-B4EB-483F-8150-E797AD9763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01AE4-F53D-44C4-A5E0-825E4DBBDE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6996D-D539-4FE4-B055-06806709F9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80714-A2BF-4B13-88D3-35823545D2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F20A4-DFB7-4F87-B9C0-8A0197D894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292E0-5349-4AEF-AF26-7E60BA7424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A3BDF-427F-4F17-9DC9-C014FD6B63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DFA25-F5E7-4AB3-9272-C44FC02A67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300FD-F82A-47E8-BBF3-6E4D68EE42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5B054-1C5B-4591-A47E-C81E47242D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–</a:t>
            </a:r>
            <a:fld id="{98483133-1E79-459D-8747-1E0078B2016D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306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38400"/>
            <a:ext cx="2133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2044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6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rporate-Level Strategy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6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s for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436680" y="1074600"/>
            <a:ext cx="4135320" cy="52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Creat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es of scope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ring core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ower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ing competitors through multipoint 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economies (un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restruct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1066680"/>
            <a:ext cx="3886200" cy="49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Neutral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trus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 future cash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reduction for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Reduc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rsifying managerial employment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managerial 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1A9EA-A3A7-4A69-B1DE-39C73BF2557F}" type="slidenum">
              <a:t>10</a:t>
            </a:fld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458520" y="51084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65320" y="51084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alue-Creating Strategies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2986200" y="1508040"/>
            <a:ext cx="497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al and Corporate Related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54360" y="5530680"/>
            <a:ext cx="537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rate Relatedness: Transferring Skills into Businesses through Corporate Headqua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960" y="2852640"/>
            <a:ext cx="194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 Relatedness: Sharing Activities between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39520" y="21146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09000" y="4648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89120" y="2041560"/>
            <a:ext cx="2894040" cy="1511280"/>
            <a:chOff x="2589120" y="2041560"/>
            <a:chExt cx="2894040" cy="1511280"/>
          </a:xfrm>
        </p:grpSpPr>
        <p:sp>
          <p:nvSpPr>
            <p:cNvPr id="214" name=""/>
            <p:cNvSpPr/>
            <p:nvPr/>
          </p:nvSpPr>
          <p:spPr>
            <a:xfrm>
              <a:off x="2589120" y="204156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4000" y="212868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Constrain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ertical Integr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Market Powe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592360" y="3595680"/>
            <a:ext cx="2893680" cy="1511280"/>
            <a:chOff x="2592360" y="3595680"/>
            <a:chExt cx="2893680" cy="1511280"/>
          </a:xfrm>
        </p:grpSpPr>
        <p:grpSp>
          <p:nvGrpSpPr>
            <p:cNvPr id="217" name=""/>
            <p:cNvGrpSpPr/>
            <p:nvPr/>
          </p:nvGrpSpPr>
          <p:grpSpPr>
            <a:xfrm>
              <a:off x="2592360" y="3595680"/>
              <a:ext cx="2893680" cy="1511280"/>
              <a:chOff x="2592360" y="3595680"/>
              <a:chExt cx="2893680" cy="1511280"/>
            </a:xfrm>
          </p:grpSpPr>
          <p:sp>
            <p:nvSpPr>
              <p:cNvPr id="218" name=""/>
              <p:cNvSpPr/>
              <p:nvPr/>
            </p:nvSpPr>
            <p:spPr>
              <a:xfrm>
                <a:off x="2592360" y="359568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678400" y="364032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2705040" y="366552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nrelate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Financial Economi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514840" y="3595680"/>
            <a:ext cx="2894040" cy="1511280"/>
            <a:chOff x="5514840" y="3595680"/>
            <a:chExt cx="2894040" cy="1511280"/>
          </a:xfrm>
        </p:grpSpPr>
        <p:sp>
          <p:nvSpPr>
            <p:cNvPr id="222" name=""/>
            <p:cNvSpPr/>
            <p:nvPr/>
          </p:nvSpPr>
          <p:spPr>
            <a:xfrm>
              <a:off x="5514840" y="359568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89720" y="368280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Link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514840" y="2041560"/>
            <a:ext cx="2893680" cy="1511280"/>
            <a:chOff x="5514840" y="2041560"/>
            <a:chExt cx="2893680" cy="1511280"/>
          </a:xfrm>
        </p:grpSpPr>
        <p:grpSp>
          <p:nvGrpSpPr>
            <p:cNvPr id="225" name=""/>
            <p:cNvGrpSpPr/>
            <p:nvPr/>
          </p:nvGrpSpPr>
          <p:grpSpPr>
            <a:xfrm>
              <a:off x="5514840" y="2041560"/>
              <a:ext cx="2893680" cy="1511280"/>
              <a:chOff x="5514840" y="2041560"/>
              <a:chExt cx="2893680" cy="1511280"/>
            </a:xfrm>
          </p:grpSpPr>
          <p:sp>
            <p:nvSpPr>
              <p:cNvPr id="226" name=""/>
              <p:cNvSpPr/>
              <p:nvPr/>
            </p:nvSpPr>
            <p:spPr>
              <a:xfrm>
                <a:off x="5514840" y="204156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00880" y="208620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5627520" y="211140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oth Operational and Corporate Relatedness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Rare capability that creates dis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5D601-05A9-41A5-B9E1-28CA7DB18BE1}" type="slidenum">
              <a:t>11</a:t>
            </a:fld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934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-Creating Diversification Strategies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ional and Corporate Relatednes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74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48CB3-8F25-448D-B431-3EC9F54091C9}" type="slidenum">
              <a:t>12</a:t>
            </a:fld>
          </a:p>
        </p:txBody>
      </p:sp>
    </p:spTree>
  </p:cSld>
  <p:transition>
    <p:random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 creates value by building upon or extending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op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savings that occur when a firm transfers capabilities and competencies developed in one of its businesses to another of its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4E3B4-31B5-4D9B-8A76-40A88C95E6F2}" type="slidenum">
              <a:t>13</a:t>
            </a:fld>
          </a:p>
        </p:txBody>
      </p:sp>
    </p:spTree>
  </p:cSld>
  <p:transition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Economies of Sco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is created from economies of scope throug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onal relatedness in sharing activ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relatedness in transferring skills or corporate core competencies among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ifference between sharing activities and transferring competencies is based on how the resources are jointly used to create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F3D25-9649-4E80-8C6F-39E3CEA02968}" type="slidenum">
              <a:t>14</a:t>
            </a:fld>
          </a:p>
        </p:txBody>
      </p:sp>
    </p:spTree>
  </p:cSld>
  <p:transition>
    <p:random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haring Activ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al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d by sharing either a primary activity such as inventory delivery systems, or a support activity such as purchasing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requires sharing strategic control over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may create risk because business-unit ties create links between outcomes.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B9DFB-F3AB-4492-8F66-CF9BC4B1C411}" type="slidenum">
              <a:t>15</a:t>
            </a:fld>
          </a:p>
        </p:txBody>
      </p:sp>
    </p:spTree>
  </p:cSld>
  <p:transition>
    <p:random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ransferring Corporat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ing complex sets of resources and capabilities to link different businesses through managerial and technological knowledge, experience, and expertis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317F0-948B-4185-9071-485C3F4CB96D}" type="slidenum">
              <a:t>16</a:t>
            </a:fld>
          </a:p>
        </p:txBody>
      </p:sp>
    </p:spTree>
  </p:cSld>
  <p:transition>
    <p:random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 Relatedn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value in two way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liminates resource duplication in the need to allocate resources for a second unit to develop a competence that already exists in another un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intangible resources (resource intangibility) that are difficult for competitors to understand and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ransferred intangible resource gives the unit receiving it an immediate competitive advantage over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0E654-E552-408F-AD45-F5F4771D2671}" type="slidenum">
              <a:t>17</a:t>
            </a:fld>
          </a:p>
        </p:txBody>
      </p:sp>
    </p:spTree>
  </p:cSld>
  <p:transition>
    <p:random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 power exists when a firm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ll its products above the existing competitive level and/or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duce the costs of its primary and support activities below the competitive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829F6-0917-48AE-A56F-1A573A4FDF60}" type="slidenum">
              <a:t>18</a:t>
            </a:fld>
          </a:p>
        </p:txBody>
      </p:sp>
    </p:spTree>
  </p:cSld>
  <p:transition>
    <p:random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point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diversified firms simultaneously compete in the same product areas or geographic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Integr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produces its own in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operates its own distribution system for delivering its out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C8C01-5595-4665-B37F-7BC14F91416C}" type="slidenum">
              <a:t>19</a:t>
            </a:fld>
          </a:p>
        </p:txBody>
      </p:sp>
    </p:spTree>
  </p:cSld>
  <p:transition>
    <p:random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corporate-level strategy and discuss its purpose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different levels of diversification with different corporate-level strategi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ree primary reasons firms diversif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how firms can create value by using a 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two ways value can be created with an un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the incentives and resources that encourage diversification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motives that can encourage managers to overdiversify a firm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C6286-3372-415A-B46F-301C22C7C5CA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Complexit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multaneous Operational Relatedness and 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volves managing two sources of knowledge simultaneously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al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y such efforts often fail because of implementation difficul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2ED84-551C-4B44-9C70-415DB733468C}" type="slidenum">
              <a:t>20</a:t>
            </a:fld>
          </a:p>
        </p:txBody>
      </p:sp>
    </p:spTree>
  </p:cSld>
  <p:transition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st savings realized through improved allocations of financi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investments inside or outside the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 value through two types of financial economie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 of other corporations and the restructuring their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00755-7C0B-4674-A5FD-E516E3AE5CF0}" type="slidenum">
              <a:t>21</a:t>
            </a:fld>
          </a:p>
        </p:txBody>
      </p:sp>
    </p:spTree>
  </p:cSld>
  <p:transition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icient Internal Capital Market Allo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 distributes capital to business divisions to create value for overall compan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office gains access to information about those businesses’ actual and prospective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glomerates have a fairly short life cycle because financial economies are more easily duplicated by competitors than are gains from operational and corporate related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D1159-5593-4B3B-B115-37D52A852D09}" type="slidenum">
              <a:t>22</a:t>
            </a:fld>
          </a:p>
        </p:txBody>
      </p:sp>
    </p:spTree>
  </p:cSld>
  <p:transition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: Restructur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tructuring creates 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irm creates value by buying and selling other firms’ assets in the external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ource allocation decisions may become complex, so success often requir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mature, low-technology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businesses not reliant on a client orient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6B888-7E9C-48C0-A0B6-1B564D6FAC55}" type="slidenum">
              <a:t>23</a:t>
            </a:fld>
          </a:p>
        </p:txBody>
      </p:sp>
    </p:spTree>
  </p:cSld>
  <p:transition>
    <p:random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1469880"/>
            <a:ext cx="4952880" cy="42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ntitrust laws in 1960s and 1970s discouraged mergers that created increased market power (vertical or horizontal integ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ergers in the 1960s and 1970s thus tended to be unre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elaxation of antitrust enforcement results in more and larger horizontal mer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arly 2000: antitrust concerns seem to be emerging and mergers now more closely scrutin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0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131"/>
                </a:lnTo>
                <a:cubicBezTo>
                  <a:pt x="10800" y="2131"/>
                  <a:pt x="5400" y="2131"/>
                  <a:pt x="0" y="2131"/>
                </a:cubicBezTo>
                <a:cubicBezTo>
                  <a:pt x="5400" y="2131"/>
                  <a:pt x="10800" y="2131"/>
                  <a:pt x="10800" y="2131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5C232-D846-47F9-A03F-0BABACA01495}" type="slidenum">
              <a:t>24</a:t>
            </a:fld>
          </a:p>
        </p:txBody>
      </p:sp>
    </p:spTree>
  </p:cSld>
  <p:transition>
    <p:random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1469880"/>
            <a:ext cx="495288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igh tax rates on dividends cause a corporate shift from dividends to buying and building companies in high-performance indus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1986 Tax Reform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Reduced individual ordinary income tax rate from 50 to 28 per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reated capital gains as ordinary inc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hus created incentive for shareholders to prefer dividends to acquisition invest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6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732040" y="1393920"/>
            <a:ext cx="1295280" cy="4244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244760"/>
              <a:gd name="textAreaBottom" fmla="*/ 4245120 h 424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7020"/>
                </a:lnTo>
                <a:cubicBezTo>
                  <a:pt x="10800" y="7020"/>
                  <a:pt x="5400" y="7020"/>
                  <a:pt x="0" y="7020"/>
                </a:cubicBezTo>
                <a:cubicBezTo>
                  <a:pt x="5400" y="7020"/>
                  <a:pt x="10800" y="7020"/>
                  <a:pt x="10800" y="702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33520" y="2303640"/>
            <a:ext cx="2189160" cy="896760"/>
            <a:chOff x="533520" y="2303640"/>
            <a:chExt cx="2189160" cy="896760"/>
          </a:xfrm>
        </p:grpSpPr>
        <p:sp>
          <p:nvSpPr>
            <p:cNvPr id="270" name=""/>
            <p:cNvSpPr/>
            <p:nvPr/>
          </p:nvSpPr>
          <p:spPr>
            <a:xfrm>
              <a:off x="533520" y="230364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7120" y="238932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Tax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EC14E-0A62-4B95-90C2-0CABE5BF1FCF}" type="slidenum">
              <a:t>25</a:t>
            </a:fld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1438200"/>
            <a:ext cx="495288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igh performance eliminates the need for greate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w performance acts as incentive fo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irms plagued by poor performance often take higher risks (diversification is risk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75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804"/>
                </a:lnTo>
                <a:cubicBezTo>
                  <a:pt x="10800" y="2804"/>
                  <a:pt x="5400" y="2804"/>
                  <a:pt x="0" y="2804"/>
                </a:cubicBezTo>
                <a:cubicBezTo>
                  <a:pt x="5400" y="2804"/>
                  <a:pt x="10800" y="2804"/>
                  <a:pt x="10800" y="2804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FEC00-6B69-4BBA-96F0-516AFFB067D8}" type="slidenum">
              <a:t>26</a:t>
            </a:fld>
          </a:p>
        </p:txBody>
      </p:sp>
    </p:spTree>
  </p:cSld>
  <p:transition>
    <p:random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500"/>
                            </p:stCondLst>
                            <p:childTnLst>
                              <p:par>
                                <p:cTn id="7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629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Curvilinear Relationship between Diversification and Performanc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492200" y="1447920"/>
            <a:ext cx="6143760" cy="4782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flipV="1">
            <a:off x="1809720" y="2286000"/>
            <a:ext cx="0" cy="3124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57510-565B-4EE5-BCD6-8C7AC1CC75EC}" type="slidenum">
              <a:t>27</a:t>
            </a:fld>
          </a:p>
        </p:txBody>
      </p:sp>
    </p:spTree>
  </p:cSld>
  <p:transition>
    <p:random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3429000" y="1469880"/>
            <a:ext cx="4952880" cy="34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may be defensive strategy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m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is threate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is small and is in mature or maturing indu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88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9569"/>
                </a:lnTo>
                <a:cubicBezTo>
                  <a:pt x="10800" y="9569"/>
                  <a:pt x="5400" y="9569"/>
                  <a:pt x="0" y="9569"/>
                </a:cubicBezTo>
                <a:cubicBezTo>
                  <a:pt x="5400" y="9569"/>
                  <a:pt x="10800" y="9569"/>
                  <a:pt x="10800" y="956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292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D7FE4-7A78-4481-B515-51AE4ABED35A}" type="slidenum">
              <a:t>28</a:t>
            </a:fld>
          </a:p>
        </p:txBody>
      </p:sp>
    </p:spTree>
  </p:cSld>
  <p:transition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500"/>
                            </p:stCondLst>
                            <p:childTnLst>
                              <p:par>
                                <p:cTn id="7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1469880"/>
            <a:ext cx="50292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ynergy exists when the value created by businesses working together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exceeds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the value created by them working independ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but synergy creates joint interdependence between business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become risk averse and constrain its level of activity sha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reduce level of technological change by operating in more certain enviro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97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3865"/>
                </a:lnTo>
                <a:cubicBezTo>
                  <a:pt x="10800" y="13865"/>
                  <a:pt x="5400" y="13865"/>
                  <a:pt x="0" y="13865"/>
                </a:cubicBezTo>
                <a:cubicBezTo>
                  <a:pt x="5400" y="13865"/>
                  <a:pt x="10800" y="13865"/>
                  <a:pt x="10800" y="13865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301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33520" y="3603600"/>
            <a:ext cx="2189160" cy="1277640"/>
            <a:chOff x="533520" y="3603600"/>
            <a:chExt cx="2189160" cy="1277640"/>
          </a:xfrm>
        </p:grpSpPr>
        <p:sp>
          <p:nvSpPr>
            <p:cNvPr id="304" name=""/>
            <p:cNvSpPr/>
            <p:nvPr/>
          </p:nvSpPr>
          <p:spPr>
            <a:xfrm>
              <a:off x="533520" y="3603600"/>
              <a:ext cx="2189160" cy="12776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7120" y="3725640"/>
              <a:ext cx="2000160" cy="1031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Synergy and Risk 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4EE91-5CC7-4759-8748-5DCC20465ADE}" type="slidenum">
              <a:t>29</a:t>
            </a:fld>
          </a:p>
        </p:txBody>
      </p:sp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500"/>
                            </p:stCondLst>
                            <p:childTnLst>
                              <p:par>
                                <p:cTn id="8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000"/>
                            </p:stCondLst>
                            <p:childTnLst>
                              <p:par>
                                <p:cTn id="8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500"/>
                            </p:stCondLst>
                            <p:childTnLst>
                              <p:par>
                                <p:cTn id="8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ole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ies play a major role in the behavior of large firm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versification conc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cope of the industries and markets in which the firm compet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 managers buy, create and sell different businesses to match skills and strengths with opportunities presented to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348D6-42DA-4CAE-AB7B-530D689A082A}" type="slidenum">
              <a:t>3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 must have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entives to diversif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esources required to create value through diversification—cash and tangible resources (e.g., plant and equipment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creation is determined more by appropriate use of resources than by incentives to diversif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Motives to Diversif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risk reduc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increased compens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12D42-F86A-45B3-A1DE-ED20772B9EBA}" type="slidenum">
              <a:t>30</a:t>
            </a:fld>
          </a:p>
        </p:txBody>
      </p:sp>
    </p:spTree>
  </p:cSld>
  <p:transition>
    <p:random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6419880" cy="57736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867280" y="447840"/>
            <a:ext cx="2819520" cy="176184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477120" y="561960"/>
            <a:ext cx="2286000" cy="149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4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mmary Model of the Relationship between Firm Performance and Diversificatio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632448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9588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19920" y="59151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R. E. Hoskisson &amp; M. A. Hitt, 1990, Antecedents and performance outcomes of diversification: A review and critique of theoretical perspectives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ournal of Management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6: 498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0612F-14C8-49CE-A638-4B8924BB4788}" type="slidenum">
              <a:t>31</a:t>
            </a:fld>
          </a:p>
        </p:txBody>
      </p:sp>
    </p:spTree>
  </p:cSld>
  <p:transition>
    <p:random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wo Strategy Leve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siness-level Strategy (Competitiv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business unit in a diversified firm chooses a business-level strategy as its means of competing in individual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 (Companywid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actions taken by the firm to gain a competitive advantage by selecting and managing a group of different businesses competing in several industries and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C2147-279B-4D96-9961-F3FDB3BDEB94}" type="slidenum">
              <a:t>4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y: Key Ques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’s Valu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degree to which the businesses in the portfolio are worth more under the management of the company than they would be under other ownership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hat businesses should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 firm be in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ow should the corporat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office manage th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group of businesses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397560" y="3429000"/>
            <a:ext cx="811440" cy="517320"/>
            <a:chOff x="6397560" y="3429000"/>
            <a:chExt cx="811440" cy="517320"/>
          </a:xfrm>
        </p:grpSpPr>
        <p:sp>
          <p:nvSpPr>
            <p:cNvPr id="107" name=""/>
            <p:cNvSpPr/>
            <p:nvPr/>
          </p:nvSpPr>
          <p:spPr>
            <a:xfrm>
              <a:off x="6397560" y="3429000"/>
              <a:ext cx="811440" cy="517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56600" y="3484440"/>
              <a:ext cx="691920" cy="404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433840" y="4249800"/>
            <a:ext cx="2738520" cy="519120"/>
            <a:chOff x="5433840" y="4249800"/>
            <a:chExt cx="2738520" cy="519120"/>
          </a:xfrm>
        </p:grpSpPr>
        <p:grpSp>
          <p:nvGrpSpPr>
            <p:cNvPr id="110" name=""/>
            <p:cNvGrpSpPr/>
            <p:nvPr/>
          </p:nvGrpSpPr>
          <p:grpSpPr>
            <a:xfrm>
              <a:off x="7360920" y="4249800"/>
              <a:ext cx="811440" cy="517680"/>
              <a:chOff x="7360920" y="4249800"/>
              <a:chExt cx="811440" cy="517680"/>
            </a:xfrm>
          </p:grpSpPr>
          <p:sp>
            <p:nvSpPr>
              <p:cNvPr id="111" name=""/>
              <p:cNvSpPr/>
              <p:nvPr/>
            </p:nvSpPr>
            <p:spPr>
              <a:xfrm>
                <a:off x="7360920" y="424980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19600" y="4305600"/>
                <a:ext cx="692280" cy="4046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433840" y="4251600"/>
              <a:ext cx="811080" cy="517320"/>
              <a:chOff x="5433840" y="4251600"/>
              <a:chExt cx="811080" cy="517320"/>
            </a:xfrm>
          </p:grpSpPr>
          <p:sp>
            <p:nvSpPr>
              <p:cNvPr id="114" name=""/>
              <p:cNvSpPr/>
              <p:nvPr/>
            </p:nvSpPr>
            <p:spPr>
              <a:xfrm>
                <a:off x="5433840" y="425160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92520" y="4307040"/>
                <a:ext cx="692280" cy="4050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4952880" y="5073480"/>
            <a:ext cx="1774800" cy="519120"/>
            <a:chOff x="4952880" y="5073480"/>
            <a:chExt cx="1774800" cy="519120"/>
          </a:xfrm>
        </p:grpSpPr>
        <p:grpSp>
          <p:nvGrpSpPr>
            <p:cNvPr id="117" name=""/>
            <p:cNvGrpSpPr/>
            <p:nvPr/>
          </p:nvGrpSpPr>
          <p:grpSpPr>
            <a:xfrm>
              <a:off x="4952880" y="5074920"/>
              <a:ext cx="811080" cy="517680"/>
              <a:chOff x="4952880" y="5074920"/>
              <a:chExt cx="811080" cy="517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952880" y="5074920"/>
                <a:ext cx="81108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1560" y="5130720"/>
                <a:ext cx="691920" cy="40464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5916240" y="5073480"/>
              <a:ext cx="811440" cy="517680"/>
              <a:chOff x="5916240" y="5073480"/>
              <a:chExt cx="811440" cy="517680"/>
            </a:xfrm>
          </p:grpSpPr>
          <p:sp>
            <p:nvSpPr>
              <p:cNvPr id="121" name=""/>
              <p:cNvSpPr/>
              <p:nvPr/>
            </p:nvSpPr>
            <p:spPr>
              <a:xfrm>
                <a:off x="5916240" y="507348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975280" y="5128920"/>
                <a:ext cx="691920" cy="40500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6880320" y="5075280"/>
            <a:ext cx="1774800" cy="517320"/>
            <a:chOff x="6880320" y="5075280"/>
            <a:chExt cx="1774800" cy="517320"/>
          </a:xfrm>
        </p:grpSpPr>
        <p:grpSp>
          <p:nvGrpSpPr>
            <p:cNvPr id="124" name=""/>
            <p:cNvGrpSpPr/>
            <p:nvPr/>
          </p:nvGrpSpPr>
          <p:grpSpPr>
            <a:xfrm>
              <a:off x="6880320" y="5075280"/>
              <a:ext cx="811080" cy="517320"/>
              <a:chOff x="6880320" y="5075280"/>
              <a:chExt cx="811080" cy="517320"/>
            </a:xfrm>
          </p:grpSpPr>
          <p:sp>
            <p:nvSpPr>
              <p:cNvPr id="125" name=""/>
              <p:cNvSpPr/>
              <p:nvPr/>
            </p:nvSpPr>
            <p:spPr>
              <a:xfrm>
                <a:off x="688032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93900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7844040" y="5075280"/>
              <a:ext cx="811080" cy="517320"/>
              <a:chOff x="7844040" y="5075280"/>
              <a:chExt cx="811080" cy="517320"/>
            </a:xfrm>
          </p:grpSpPr>
          <p:sp>
            <p:nvSpPr>
              <p:cNvPr id="128" name=""/>
              <p:cNvSpPr/>
              <p:nvPr/>
            </p:nvSpPr>
            <p:spPr>
              <a:xfrm>
                <a:off x="784404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0272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839920" y="3946320"/>
            <a:ext cx="1926720" cy="305280"/>
            <a:chOff x="5839920" y="3946320"/>
            <a:chExt cx="1926720" cy="305280"/>
          </a:xfrm>
        </p:grpSpPr>
        <p:cxnSp>
          <p:nvCxnSpPr>
            <p:cNvPr id="131" name=""/>
            <p:cNvCxnSpPr>
              <a:stCxn id="107" idx="2"/>
              <a:endCxn id="114" idx="0"/>
            </p:cNvCxnSpPr>
            <p:nvPr/>
          </p:nvCxnSpPr>
          <p:spPr>
            <a:xfrm rot="5400000">
              <a:off x="6168960" y="3617280"/>
              <a:ext cx="305280" cy="964080"/>
            </a:xfrm>
            <a:prstGeom prst="bentConnector3">
              <a:avLst>
                <a:gd name="adj1" fmla="val 4994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2" name=""/>
            <p:cNvCxnSpPr>
              <a:stCxn id="107" idx="2"/>
              <a:endCxn id="111" idx="0"/>
            </p:cNvCxnSpPr>
            <p:nvPr/>
          </p:nvCxnSpPr>
          <p:spPr>
            <a:xfrm flipH="1" rot="16200000">
              <a:off x="7133400" y="3615480"/>
              <a:ext cx="303120" cy="964440"/>
            </a:xfrm>
            <a:prstGeom prst="bentConnector3">
              <a:avLst>
                <a:gd name="adj1" fmla="val 4970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5358960" y="4768560"/>
            <a:ext cx="964080" cy="306360"/>
            <a:chOff x="5358960" y="4768560"/>
            <a:chExt cx="964080" cy="306360"/>
          </a:xfrm>
        </p:grpSpPr>
        <p:cxnSp>
          <p:nvCxnSpPr>
            <p:cNvPr id="134" name=""/>
            <p:cNvCxnSpPr>
              <a:stCxn id="114" idx="2"/>
              <a:endCxn id="118" idx="0"/>
            </p:cNvCxnSpPr>
            <p:nvPr/>
          </p:nvCxnSpPr>
          <p:spPr>
            <a:xfrm rot="5400000">
              <a:off x="5446080" y="4681080"/>
              <a:ext cx="306720" cy="481680"/>
            </a:xfrm>
            <a:prstGeom prst="bentConnector3">
              <a:avLst>
                <a:gd name="adj1" fmla="val 4970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" name=""/>
            <p:cNvCxnSpPr>
              <a:stCxn id="114" idx="2"/>
              <a:endCxn id="121" idx="0"/>
            </p:cNvCxnSpPr>
            <p:nvPr/>
          </p:nvCxnSpPr>
          <p:spPr>
            <a:xfrm flipH="1" rot="16200000">
              <a:off x="5928840" y="4679640"/>
              <a:ext cx="305640" cy="4831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6" name=""/>
          <p:cNvGrpSpPr/>
          <p:nvPr/>
        </p:nvGrpSpPr>
        <p:grpSpPr>
          <a:xfrm>
            <a:off x="7286040" y="4710240"/>
            <a:ext cx="964080" cy="365400"/>
            <a:chOff x="7286040" y="4710240"/>
            <a:chExt cx="964080" cy="365400"/>
          </a:xfrm>
        </p:grpSpPr>
        <p:cxnSp>
          <p:nvCxnSpPr>
            <p:cNvPr id="137" name=""/>
            <p:cNvCxnSpPr>
              <a:endCxn id="125" idx="0"/>
            </p:cNvCxnSpPr>
            <p:nvPr/>
          </p:nvCxnSpPr>
          <p:spPr>
            <a:xfrm flipV="1" rot="10800000">
              <a:off x="7286040" y="4887720"/>
              <a:ext cx="513000" cy="18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>
              <a:stCxn id="112" idx="2"/>
              <a:endCxn id="128" idx="0"/>
            </p:cNvCxnSpPr>
            <p:nvPr/>
          </p:nvCxnSpPr>
          <p:spPr>
            <a:xfrm flipH="1" rot="16200000">
              <a:off x="7825320" y="4650480"/>
              <a:ext cx="365760" cy="484560"/>
            </a:xfrm>
            <a:prstGeom prst="bentConnector3">
              <a:avLst>
                <a:gd name="adj1" fmla="val 4995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39" name=""/>
          <p:cNvSpPr/>
          <p:nvPr/>
        </p:nvSpPr>
        <p:spPr>
          <a:xfrm>
            <a:off x="5942520" y="595476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495400" y="5594400"/>
            <a:ext cx="2683080" cy="396720"/>
            <a:chOff x="5495400" y="5594400"/>
            <a:chExt cx="2683080" cy="396720"/>
          </a:xfrm>
        </p:grpSpPr>
        <p:sp>
          <p:nvSpPr>
            <p:cNvPr id="141" name=""/>
            <p:cNvSpPr/>
            <p:nvPr/>
          </p:nvSpPr>
          <p:spPr>
            <a:xfrm flipH="1" flipV="1">
              <a:off x="5495400" y="5628600"/>
              <a:ext cx="1353960" cy="36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833880" y="5630760"/>
              <a:ext cx="1344600" cy="36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833880" y="5594400"/>
              <a:ext cx="397080" cy="39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470280" y="5611320"/>
              <a:ext cx="379440" cy="37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EC5A5-A78B-4F4A-B20D-C3B17EAB9F82}" type="slidenum">
              <a:t>5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Low Lev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411480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minant Busines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tween 70% and 95% of revenue comes from a single busin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791320" y="5315040"/>
            <a:ext cx="685800" cy="31896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248520" y="1371600"/>
            <a:ext cx="2132640" cy="2133000"/>
            <a:chOff x="6248520" y="1371600"/>
            <a:chExt cx="2132640" cy="2133000"/>
          </a:xfrm>
        </p:grpSpPr>
        <p:sp>
          <p:nvSpPr>
            <p:cNvPr id="149" name=""/>
            <p:cNvSpPr/>
            <p:nvPr/>
          </p:nvSpPr>
          <p:spPr>
            <a:xfrm>
              <a:off x="6248520" y="1371600"/>
              <a:ext cx="2132640" cy="21330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94320" y="1517400"/>
              <a:ext cx="1837800" cy="1838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400800" y="4038480"/>
            <a:ext cx="1904760" cy="1904760"/>
            <a:chOff x="6400800" y="4038480"/>
            <a:chExt cx="1904760" cy="1904760"/>
          </a:xfrm>
        </p:grpSpPr>
        <p:sp>
          <p:nvSpPr>
            <p:cNvPr id="152" name=""/>
            <p:cNvSpPr/>
            <p:nvPr/>
          </p:nvSpPr>
          <p:spPr>
            <a:xfrm>
              <a:off x="6400800" y="4038480"/>
              <a:ext cx="1904760" cy="19047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30760" y="4168440"/>
              <a:ext cx="1641240" cy="1641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952880" y="5410080"/>
            <a:ext cx="914400" cy="914400"/>
            <a:chOff x="4952880" y="5410080"/>
            <a:chExt cx="914400" cy="914400"/>
          </a:xfrm>
        </p:grpSpPr>
        <p:sp>
          <p:nvSpPr>
            <p:cNvPr id="155" name=""/>
            <p:cNvSpPr/>
            <p:nvPr/>
          </p:nvSpPr>
          <p:spPr>
            <a:xfrm>
              <a:off x="4952880" y="541008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15160" y="5472000"/>
              <a:ext cx="787680" cy="78804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85800" y="16318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ngle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re than 95% of revenue comes from a single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2F1C6-C677-4C27-B469-1FC5F63C78CA}" type="slidenum">
              <a:t>6</a:t>
            </a:fld>
          </a:p>
        </p:txBody>
      </p:sp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Moderate to High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07880"/>
            <a:ext cx="3886200" cy="24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Constrain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a single business and all businesses share product, technological and distribution linkag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403704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6680" indent="-1666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Linked (mixed related and unrelated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12640" indent="-231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only limited links between business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10080" y="3952800"/>
            <a:ext cx="2828880" cy="2371680"/>
            <a:chOff x="5410080" y="3952800"/>
            <a:chExt cx="2828880" cy="2371680"/>
          </a:xfrm>
        </p:grpSpPr>
        <p:sp>
          <p:nvSpPr>
            <p:cNvPr id="162" name=""/>
            <p:cNvSpPr/>
            <p:nvPr/>
          </p:nvSpPr>
          <p:spPr>
            <a:xfrm flipH="1">
              <a:off x="6165360" y="4714920"/>
              <a:ext cx="61596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53120" y="5781600"/>
              <a:ext cx="1447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7238880" y="5315040"/>
              <a:ext cx="1000080" cy="1000080"/>
              <a:chOff x="7238880" y="5315040"/>
              <a:chExt cx="1000080" cy="1000080"/>
            </a:xfrm>
          </p:grpSpPr>
          <p:sp>
            <p:nvSpPr>
              <p:cNvPr id="165" name=""/>
              <p:cNvSpPr/>
              <p:nvPr/>
            </p:nvSpPr>
            <p:spPr>
              <a:xfrm>
                <a:off x="7238880" y="531504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307280" y="538344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324480" y="3952800"/>
              <a:ext cx="1000080" cy="1000080"/>
              <a:chOff x="6324480" y="3952800"/>
              <a:chExt cx="1000080" cy="1000080"/>
            </a:xfrm>
          </p:grpSpPr>
          <p:sp>
            <p:nvSpPr>
              <p:cNvPr id="168" name=""/>
              <p:cNvSpPr/>
              <p:nvPr/>
            </p:nvSpPr>
            <p:spPr>
              <a:xfrm>
                <a:off x="632448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39288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5410080" y="5324400"/>
              <a:ext cx="1000080" cy="1000080"/>
              <a:chOff x="5410080" y="5324400"/>
              <a:chExt cx="1000080" cy="1000080"/>
            </a:xfrm>
          </p:grpSpPr>
          <p:sp>
            <p:nvSpPr>
              <p:cNvPr id="171" name=""/>
              <p:cNvSpPr/>
              <p:nvPr/>
            </p:nvSpPr>
            <p:spPr>
              <a:xfrm>
                <a:off x="541008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7848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971640" y="3952800"/>
            <a:ext cx="2838240" cy="2371680"/>
            <a:chOff x="971640" y="3952800"/>
            <a:chExt cx="2838240" cy="2371680"/>
          </a:xfrm>
        </p:grpSpPr>
        <p:sp>
          <p:nvSpPr>
            <p:cNvPr id="174" name=""/>
            <p:cNvSpPr/>
            <p:nvPr/>
          </p:nvSpPr>
          <p:spPr>
            <a:xfrm>
              <a:off x="1743120" y="4724280"/>
              <a:ext cx="1295280" cy="11206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809800" y="5324400"/>
              <a:ext cx="1000080" cy="1000080"/>
              <a:chOff x="2809800" y="5324400"/>
              <a:chExt cx="1000080" cy="1000080"/>
            </a:xfrm>
          </p:grpSpPr>
          <p:sp>
            <p:nvSpPr>
              <p:cNvPr id="176" name=""/>
              <p:cNvSpPr/>
              <p:nvPr/>
            </p:nvSpPr>
            <p:spPr>
              <a:xfrm>
                <a:off x="280980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78200" y="53928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895400" y="3952800"/>
              <a:ext cx="1000080" cy="1000080"/>
              <a:chOff x="1895400" y="3952800"/>
              <a:chExt cx="1000080" cy="1000080"/>
            </a:xfrm>
          </p:grpSpPr>
          <p:sp>
            <p:nvSpPr>
              <p:cNvPr id="179" name=""/>
              <p:cNvSpPr/>
              <p:nvPr/>
            </p:nvSpPr>
            <p:spPr>
              <a:xfrm>
                <a:off x="189540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6380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971640" y="5324400"/>
              <a:ext cx="1000080" cy="1000080"/>
              <a:chOff x="971640" y="5324400"/>
              <a:chExt cx="1000080" cy="1000080"/>
            </a:xfrm>
          </p:grpSpPr>
          <p:sp>
            <p:nvSpPr>
              <p:cNvPr id="182" name=""/>
              <p:cNvSpPr/>
              <p:nvPr/>
            </p:nvSpPr>
            <p:spPr>
              <a:xfrm>
                <a:off x="97164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04004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76F11-73C4-4175-A864-ED07C3C5D80B}" type="slidenum">
              <a:t>7</a:t>
            </a:fld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Very High Levels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related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no common links between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0080" y="4562640"/>
            <a:ext cx="1000080" cy="1000080"/>
            <a:chOff x="5410080" y="4562640"/>
            <a:chExt cx="1000080" cy="1000080"/>
          </a:xfrm>
        </p:grpSpPr>
        <p:sp>
          <p:nvSpPr>
            <p:cNvPr id="187" name=""/>
            <p:cNvSpPr/>
            <p:nvPr/>
          </p:nvSpPr>
          <p:spPr>
            <a:xfrm>
              <a:off x="541008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78480" y="4631040"/>
              <a:ext cx="861840" cy="8618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743200" y="4562640"/>
            <a:ext cx="1000080" cy="1000080"/>
            <a:chOff x="2743200" y="4562640"/>
            <a:chExt cx="1000080" cy="1000080"/>
          </a:xfrm>
        </p:grpSpPr>
        <p:sp>
          <p:nvSpPr>
            <p:cNvPr id="190" name=""/>
            <p:cNvSpPr/>
            <p:nvPr/>
          </p:nvSpPr>
          <p:spPr>
            <a:xfrm>
              <a:off x="274320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11600" y="4630680"/>
              <a:ext cx="861840" cy="86220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932280" y="3038400"/>
            <a:ext cx="1261800" cy="1261800"/>
            <a:chOff x="3932280" y="3038400"/>
            <a:chExt cx="1261800" cy="1261800"/>
          </a:xfrm>
        </p:grpSpPr>
        <p:sp>
          <p:nvSpPr>
            <p:cNvPr id="193" name=""/>
            <p:cNvSpPr/>
            <p:nvPr/>
          </p:nvSpPr>
          <p:spPr>
            <a:xfrm>
              <a:off x="3932280" y="3038400"/>
              <a:ext cx="1261800" cy="12618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18320" y="3124440"/>
              <a:ext cx="1087560" cy="10875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E4BAA-CC06-4F72-AFB1-8789BE2CD817}" type="slidenum">
              <a:t>8</a:t>
            </a:fld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49068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s and Types of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8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239240" cy="51721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" y="6324480"/>
            <a:ext cx="7010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Adapted from R. P. Rumelt, 1974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y, Structure and Economic Performance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ston: Harvard Business Schoo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71522-B9D1-48A2-9E56-685A74D08E95}" type="slidenum">
              <a:t>9</a:t>
            </a:fld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dii</cp:lastModifiedBy>
  <dcterms:modified xsi:type="dcterms:W3CDTF">2007-06-12T13:36:47Z</dcterms:modified>
  <cp:revision>42</cp:revision>
  <dc:subject>Chapter 6</dc:subject>
  <dc:title>Strategic Management 7e.</dc:title>
</cp:coreProperties>
</file>