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8AD1-4DB7-467F-9AA2-6571D9149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8131-5F2E-4AC0-8299-DF6BC4CE7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23AD-377A-4437-8C38-125F2B655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B825-03C2-44E8-BFD6-D1FD8CD41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DDAE-A41C-4EA8-B92F-C7B898E4D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DAB8-6066-45B1-88A3-432996424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6065-38D0-4F86-ABFD-80C3D32D4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6D23-6713-492F-8E29-46F4405FB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91C4-AB6D-4D00-8FEC-F929B9F14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2F9B-1385-42F5-8528-EE639BB67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5456-4643-4309-B876-A5F3CC57E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B92B-88DC-4091-B291-B35098818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D6C2-2A44-424C-9445-4151BA272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D0D6-51D4-41B8-9FD5-750CB3B58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EBA-4E7A-42C8-B22C-98A70A005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E4A9-5C37-4A45-BCEE-EBA3E120F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75ED-F0A4-456D-8AFE-C9B354C30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02D8-2961-4A43-833F-72F0C6FAA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44AD-FA61-4CD0-8125-210839097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8348-E9DB-4FB4-B808-31ED79E45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199C-EEE4-4D2F-BE78-257C9E6DD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64A4-534D-41D7-94CE-675B29CEC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54A-2161-4621-BBCA-62F986567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B96D-4B0E-45B3-B46B-1A88A545D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5FFA-7BEF-40DA-909E-7AF2431F7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829A-BF4C-47B0-B64F-D428CB47A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654A-E189-494F-AF59-98C5C1CD1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2572-786E-47F6-9198-B84702224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ECF9-7C94-451A-A625-C988CE5E5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A9FB-7EC1-49CF-BD41-08233FC82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C92D-38BD-4A8F-8427-F931CFC30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BD17-FFE8-4665-B2F7-F3B0423D3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85C7-9289-4CEC-8C81-7B1645597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52CB-609B-4BE8-8678-46DBBB615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A88D-E50A-42E4-935E-4807EFED5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FFCD-753F-43F5-8EA5-87459EC99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4AE9-B133-409C-8E37-6621A4336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7E9DA252-7113-40D5-A391-B20FF51703E7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6D0D-60EA-492E-9C09-F02BEE0289F5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B5CF-EF37-4FF2-AB19-11A82B6DB6D1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1A09-1E3D-4070-A6F9-A8308669F5CA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40F6-F954-477C-97AC-A9D5517FBF13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839D-16A0-4F58-9A14-2A2757AF53E8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3644-70B3-4EE8-B4F3-917A4238E709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7A90-42A3-4962-AD73-7B95A448B482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0A0C-89BA-4570-830A-F4AEC4346BAA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9B70-18B0-4A91-A0F0-CB1C60681403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F01F-5734-4589-987A-7A0784D3C0E3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FA51-187D-43B7-B7B0-39B0AADDBED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3A61A-93D3-4CBC-BE0F-79D43928861A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8060-0748-4083-B308-9568FBF4267F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0DB33-C480-4A58-82B6-147096DF1C61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BDFB-5D95-4E87-8493-5B44375D6905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2F82-6834-4FFF-8B35-4477B0A353A6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EB8F-0095-4D7E-A50B-5D738F26B902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9279-C69E-4CC9-8F21-4089575F4148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FE0C6-8EB0-437F-ABC4-7A9757905B71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A8E6-B82C-4D7F-B300-D9372A817719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BA2A2-6F71-4831-9A08-C7890042C0A5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7D45-5160-4AF9-8D5E-994380B15859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D2BC-CFFE-474A-BB84-3FB225BDD5A6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BCD6-B0AC-4AF6-A1D8-D6FE1BB94606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9926-C55F-414E-95FD-1BCFDF9BABEB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EB28-6109-4FD4-BC26-7910D190A857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6FDB-E898-44C6-B00A-45BEB869D071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1BF2-B782-469A-AA8D-9413CAECE638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F74AC-7213-4BC4-8657-0A9920C314AA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8933-D168-4A5A-8871-696311D034FA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6:47Z</dcterms:modified>
  <cp:revision>42</cp:revision>
  <dc:subject>Chapter 6</dc:subject>
  <dc:title>Strategic Management 7e.</dc:title>
</cp:coreProperties>
</file>