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F356E-D034-4614-9E44-FADC5DC13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3D5A4-6191-4F8A-8881-E8F4B0272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F0E24-F621-4F55-9621-DEBFCCD2D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6EB8D-3EC5-486F-9B9D-7EEF350342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7B1F4-6BCA-44C4-BD6C-6A52447FF3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D64E0-255B-44F8-9071-0D934C4408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4BCB0-0216-4EA7-A4C0-3594F560F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13305-D4E7-4AE3-A547-25BEB798C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D7951-1AE7-4899-8E18-3D1D9B7D03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E059F-DC3C-49ED-A167-F2BB8A7EB0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C017E-7D91-4359-A706-E4384EE7B0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B83F3-F3A9-40C7-8391-890EB2C09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5E614-5BFA-4C31-9DF8-28FD024E9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18F4D-DA28-44A9-94E1-154621D5C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C2420-461C-4C83-94EF-FE672A207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C1283-EF71-487A-8666-D69402FE4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B1EA1-F9AC-43E4-AF4D-DA052B548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7D2FD-1413-4F88-A265-FC9644419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DDB37-6A5A-4546-8B45-F4452D238C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EB410-9B29-4911-8672-79FC95FF6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F1E1A-5545-4B5B-BE92-D0311B505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7D47B-9A3D-478C-9E13-E1AE470427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0EC34-7A2C-429D-899C-0B0BEB90D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01E5B-B9F0-4920-AC31-CB6EC887E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B5D86-604F-4013-99E9-985FECDEF7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8912D-CDA3-4962-8060-248F56BBDC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56141-0F8F-4233-B5D0-680D311828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96970-E1E5-4B9B-9C71-714F5FDD13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9B810-6504-4EC7-81C1-9EA5F05DA1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61EFA-52C1-45BB-A4F0-F8B7C56F10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EF8B5-FCCF-486C-8EDC-68B80FBF5A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CF179-2F58-41D0-81A7-90F632D994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F5CC1-E8BB-4CCA-9EC6-B4193EF9BF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E6545-298D-473A-AEDD-02952E8B78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1F62D-9356-4680-90A9-B4686A5832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89380-61E1-4F14-BFBF-0BE4961224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D4C3F-B48D-4617-876D-3C9CE57D65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–</a:t>
            </a:r>
            <a:fld id="{20160654-0C24-45B6-B452-6B5166AE50A4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306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38400"/>
            <a:ext cx="213372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2620440"/>
            <a:ext cx="55627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CHAPTER 6</a:t>
            </a:r>
            <a:br>
              <a:rPr sz="24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Corporate-Level Strategy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6.1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s for Diversification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436680" y="1074600"/>
            <a:ext cx="4135320" cy="52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Creating Diver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ies of scope (related divers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erring core compet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power (related divers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ing competitors through multipoint compet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tical inte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ial economies (unrelated divers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 internal capital al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restructu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1066680"/>
            <a:ext cx="3886200" cy="49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Neutral Diver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trust reg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 l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ertain future cash 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 reduction for fi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ibl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angibl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Reducing Diver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ersifying managerial employment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ing managerial compen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79B5A-9A6D-4AE5-954B-A6DC552BCB4C}" type="slidenum">
              <a:t>10</a:t>
            </a:fld>
          </a:p>
        </p:txBody>
      </p:sp>
    </p:spTree>
  </p:cSld>
  <p:transition>
    <p:random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458520" y="510840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65320" y="51084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Value-Creating Strategies of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2986200" y="1508040"/>
            <a:ext cx="497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rational and Corporate Related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54360" y="5530680"/>
            <a:ext cx="537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porate Relatedness: Transferring Skills into Businesses through Corporate Headquar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5960" y="2852640"/>
            <a:ext cx="1940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onal Relatedness: Sharing Activities between Busin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39520" y="211464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09000" y="46483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589120" y="2041560"/>
            <a:ext cx="2894040" cy="1511280"/>
            <a:chOff x="2589120" y="2041560"/>
            <a:chExt cx="2894040" cy="1511280"/>
          </a:xfrm>
        </p:grpSpPr>
        <p:sp>
          <p:nvSpPr>
            <p:cNvPr id="214" name=""/>
            <p:cNvSpPr/>
            <p:nvPr/>
          </p:nvSpPr>
          <p:spPr>
            <a:xfrm>
              <a:off x="2589120" y="2041560"/>
              <a:ext cx="2894040" cy="1511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664000" y="2128680"/>
              <a:ext cx="2746080" cy="13352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lated Constrained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versif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Vertical Integration </a:t>
              </a:r>
              <a:br>
                <a:rPr sz="16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Market Power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2592360" y="3595680"/>
            <a:ext cx="2893680" cy="1511280"/>
            <a:chOff x="2592360" y="3595680"/>
            <a:chExt cx="2893680" cy="1511280"/>
          </a:xfrm>
        </p:grpSpPr>
        <p:grpSp>
          <p:nvGrpSpPr>
            <p:cNvPr id="217" name=""/>
            <p:cNvGrpSpPr/>
            <p:nvPr/>
          </p:nvGrpSpPr>
          <p:grpSpPr>
            <a:xfrm>
              <a:off x="2592360" y="3595680"/>
              <a:ext cx="2893680" cy="1511280"/>
              <a:chOff x="2592360" y="3595680"/>
              <a:chExt cx="2893680" cy="1511280"/>
            </a:xfrm>
          </p:grpSpPr>
          <p:sp>
            <p:nvSpPr>
              <p:cNvPr id="218" name=""/>
              <p:cNvSpPr/>
              <p:nvPr/>
            </p:nvSpPr>
            <p:spPr>
              <a:xfrm>
                <a:off x="2592360" y="3595680"/>
                <a:ext cx="2893680" cy="15112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678400" y="3640320"/>
                <a:ext cx="2720160" cy="142056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2705040" y="3665520"/>
              <a:ext cx="2667240" cy="13716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Unrelated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versification </a:t>
              </a:r>
              <a:br>
                <a:rPr sz="16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Financial Economie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5514840" y="3595680"/>
            <a:ext cx="2894040" cy="1511280"/>
            <a:chOff x="5514840" y="3595680"/>
            <a:chExt cx="2894040" cy="1511280"/>
          </a:xfrm>
        </p:grpSpPr>
        <p:sp>
          <p:nvSpPr>
            <p:cNvPr id="222" name=""/>
            <p:cNvSpPr/>
            <p:nvPr/>
          </p:nvSpPr>
          <p:spPr>
            <a:xfrm>
              <a:off x="5514840" y="3595680"/>
              <a:ext cx="2894040" cy="1511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89720" y="3682800"/>
              <a:ext cx="2746080" cy="13352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lated Linked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versif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Economies of Scop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514840" y="2041560"/>
            <a:ext cx="2893680" cy="1511280"/>
            <a:chOff x="5514840" y="2041560"/>
            <a:chExt cx="2893680" cy="1511280"/>
          </a:xfrm>
        </p:grpSpPr>
        <p:grpSp>
          <p:nvGrpSpPr>
            <p:cNvPr id="225" name=""/>
            <p:cNvGrpSpPr/>
            <p:nvPr/>
          </p:nvGrpSpPr>
          <p:grpSpPr>
            <a:xfrm>
              <a:off x="5514840" y="2041560"/>
              <a:ext cx="2893680" cy="1511280"/>
              <a:chOff x="5514840" y="2041560"/>
              <a:chExt cx="2893680" cy="1511280"/>
            </a:xfrm>
          </p:grpSpPr>
          <p:sp>
            <p:nvSpPr>
              <p:cNvPr id="226" name=""/>
              <p:cNvSpPr/>
              <p:nvPr/>
            </p:nvSpPr>
            <p:spPr>
              <a:xfrm>
                <a:off x="5514840" y="2041560"/>
                <a:ext cx="2893680" cy="15112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600880" y="2086200"/>
                <a:ext cx="2720160" cy="142056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5627520" y="2111400"/>
              <a:ext cx="2667240" cy="13716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oth Operational and Corporate Relatedness</a:t>
              </a:r>
              <a:br>
                <a:rPr sz="16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Rare capability that creates diseconomies of scop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532E5-5A53-4CA4-9AD6-FD36864F3C0A}" type="slidenum">
              <a:t>11</a:t>
            </a:fld>
          </a:p>
        </p:txBody>
      </p:sp>
    </p:spTree>
  </p:cSld>
  <p:transition>
    <p:random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0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5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4000"/>
                            </p:stCondLst>
                            <p:childTnLst>
                              <p:par>
                                <p:cTn id="2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9344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6.2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lue-Creating Diversification Strategies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ional and Corporate Relatednes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457200"/>
            <a:ext cx="8229600" cy="7621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32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629400" cy="474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5584A-324A-43A9-9921-B9DDF43FCE51}" type="slidenum">
              <a:t>12</a:t>
            </a:fld>
          </a:p>
        </p:txBody>
      </p:sp>
    </p:spTree>
  </p:cSld>
  <p:transition>
    <p:random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 creates value by building upon or extending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pa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e competen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conomies of Scop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st savings that occur when a firm transfers capabilities and competencies developed in one of its businesses to another of its business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28419-E04C-41A6-AD17-BDA0483A1257}" type="slidenum">
              <a:t>13</a:t>
            </a:fld>
          </a:p>
        </p:txBody>
      </p:sp>
    </p:spTree>
  </p:cSld>
  <p:transition>
    <p:random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Economies of Scop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alue is created from economies of scope through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perational relatedness in sharing activ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relatedness in transferring skills or corporate core competencies among uni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difference between sharing activities and transferring competencies is based on how the resources are jointly used to create economies of scop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AD5FE-4DEC-4FDF-9E62-427EEABAA332}" type="slidenum">
              <a:t>14</a:t>
            </a:fld>
          </a:p>
        </p:txBody>
      </p:sp>
    </p:spTree>
  </p:cSld>
  <p:transition>
    <p:random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haring Activit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perational Relatednes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ed by sharing either a primary activity such as inventory delivery systems, or a support activity such as purchasing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tivity sharing requires sharing strategic control over business uni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tivity sharing may create risk because business-unit ties create links between outcomes. 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306AF-C39E-4642-95CF-2395BDD2503B}" type="slidenum">
              <a:t>15</a:t>
            </a:fld>
          </a:p>
        </p:txBody>
      </p:sp>
    </p:spTree>
  </p:cSld>
  <p:transition>
    <p:random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ransferring Corporate Competenc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 Relatednes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Using complex sets of resources and capabilities to link different businesses through managerial and technological knowledge, experience, and expertis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73F31-06B1-4A9F-BD41-43D65E0AAA8B}" type="slidenum">
              <a:t>16</a:t>
            </a:fld>
          </a:p>
        </p:txBody>
      </p:sp>
    </p:spTree>
  </p:cSld>
  <p:transition>
    <p:random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 Relatednes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reates value in two way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liminates resource duplication in the need to allocate resources for a second unit to develop a competence that already exists in another uni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vides intangible resources (resource intangibility) that are difficult for competitors to understand and imitat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ransferred intangible resource gives the unit receiving it an immediate competitive advantage over its riv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0F606-390E-4DBA-BB19-B5FE54A520AF}" type="slidenum">
              <a:t>17</a:t>
            </a:fld>
          </a:p>
        </p:txBody>
      </p:sp>
    </p:spTree>
  </p:cSld>
  <p:transition>
    <p:random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Market Power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rket power exists when a firm ca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ll its products above the existing competitive level and/or 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duce the costs of its primary and support activities below the competitive leve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9D064-7C1F-4CC5-8D23-82A827690F62}" type="slidenum">
              <a:t>18</a:t>
            </a:fld>
          </a:p>
        </p:txBody>
      </p:sp>
    </p:spTree>
  </p:cSld>
  <p:transition>
    <p:random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Market Power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ultipoint Competi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wo or more diversified firms simultaneously compete in the same product areas or geographic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ertical Integr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ward integration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—a firm produces its own inpu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 integration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—a firm operates its own distribution system for delivering its outpu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ADC4B-5F46-4B36-97E1-F4AAD3C6DFB8}" type="slidenum">
              <a:t>19</a:t>
            </a:fld>
          </a:p>
        </p:txBody>
      </p:sp>
    </p:spTree>
  </p:cSld>
  <p:transition>
    <p:random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corporate-level strategy and discuss its purpose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different levels of diversification with different corporate-level strategies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ree primary reasons firms diversif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how firms can create value by using a related diversification strateg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two ways value can be created with an unrelated diversification strateg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 the incentives and resources that encourage diversification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motives that can encourage managers to overdiversify a firm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58F69-9BE0-43A9-AE33-A4D113771D60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Complexit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multaneous Operational Relatedness and Corporate Relatednes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volves managing two sources of knowledge simultaneously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al forms of economies of 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 forms of economies of 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y such efforts often fail because of implementation difficul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01ED0-BDC1-4624-B125-8CB3257F0397}" type="slidenum">
              <a:t>20</a:t>
            </a:fld>
          </a:p>
        </p:txBody>
      </p:sp>
    </p:spTree>
  </p:cSld>
  <p:transition>
    <p:random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nrelated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nancial Econom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cost savings realized through improved allocations of financial resourc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investments inside or outside the fi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e value through two types of financial economies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 internal capital al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chase of other corporations and the restructuring their 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E283F-0A50-42F5-9027-D423A56699B3}" type="slidenum">
              <a:t>21</a:t>
            </a:fld>
          </a:p>
        </p:txBody>
      </p:sp>
    </p:spTree>
  </p:cSld>
  <p:transition>
    <p:random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nrelated Diversification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icient Internal Capital Market Allo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office distributes capital to business divisions to create value for overall compan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 office gains access to information about those businesses’ actual and prospective perform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glomerates have a fairly short life cycle because financial economies are more easily duplicated by competitors than are gains from operational and corporate related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22071-3910-47BE-B2C9-29F8AFA20FC3}" type="slidenum">
              <a:t>22</a:t>
            </a:fld>
          </a:p>
        </p:txBody>
      </p:sp>
    </p:spTree>
  </p:cSld>
  <p:transition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6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nrelated Diversification: Restructuring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structuring creates financial econom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firm creates value by buying and selling other firms’ assets in the external marke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source allocation decisions may become complex, so success often requir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 on mature, low-technology business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 on businesses not reliant on a client orient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72200-88D1-40C1-B3D1-ED4822554CAE}" type="slidenum">
              <a:t>23</a:t>
            </a:fld>
          </a:p>
        </p:txBody>
      </p:sp>
    </p:spTree>
  </p:cSld>
  <p:transition>
    <p:random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0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xternal Incentives to Diversif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3429000" y="1469880"/>
            <a:ext cx="4952880" cy="42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ntitrust laws in 1960s and 1970s discouraged mergers that created increased market power (vertical or horizontal integ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Mergers in the 1960s and 1970s thus tended to be unrel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Relaxation of antitrust enforcement results in more and larger horizontal merg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Early 2000: antitrust concerns seem to be emerging and mergers now more closely scrutiniz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60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Anti-trust Legisl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2732040" y="1393920"/>
            <a:ext cx="1295280" cy="439740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4397400"/>
              <a:gd name="textAreaBottom" fmla="*/ 4397760 h 439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2131"/>
                </a:lnTo>
                <a:cubicBezTo>
                  <a:pt x="10800" y="2131"/>
                  <a:pt x="5400" y="2131"/>
                  <a:pt x="0" y="2131"/>
                </a:cubicBezTo>
                <a:cubicBezTo>
                  <a:pt x="5400" y="2131"/>
                  <a:pt x="10800" y="2131"/>
                  <a:pt x="10800" y="2131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FA06F-07E5-4352-9926-793C7E1F69BA}" type="slidenum">
              <a:t>24</a:t>
            </a:fld>
          </a:p>
        </p:txBody>
      </p:sp>
    </p:spTree>
  </p:cSld>
  <p:transition>
    <p:random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1000"/>
                            </p:stCondLst>
                            <p:childTnLst>
                              <p:par>
                                <p:cTn id="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500"/>
                            </p:stCondLst>
                            <p:childTnLst>
                              <p:par>
                                <p:cTn id="64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2000"/>
                            </p:stCondLst>
                            <p:childTnLst>
                              <p:par>
                                <p:cTn id="65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2500"/>
                            </p:stCondLst>
                            <p:childTnLst>
                              <p:par>
                                <p:cTn id="66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6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xternal Incentives to Diversif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3429000" y="1469880"/>
            <a:ext cx="4952880" cy="40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High tax rates on dividends cause a corporate shift from dividends to buying and building companies in high-performance indust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1986 Tax Reform 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Reduced individual ordinary income tax rate from 50 to 28 perc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Treated capital gains as ordinary inco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Thus created incentive for shareholders to prefer dividends to acquisition invest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66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Anti-trust Legisl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732040" y="1393920"/>
            <a:ext cx="1295280" cy="424476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4244760"/>
              <a:gd name="textAreaBottom" fmla="*/ 4245120 h 424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7020"/>
                </a:lnTo>
                <a:cubicBezTo>
                  <a:pt x="10800" y="7020"/>
                  <a:pt x="5400" y="7020"/>
                  <a:pt x="0" y="7020"/>
                </a:cubicBezTo>
                <a:cubicBezTo>
                  <a:pt x="5400" y="7020"/>
                  <a:pt x="10800" y="7020"/>
                  <a:pt x="10800" y="702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533520" y="2303640"/>
            <a:ext cx="2189160" cy="896760"/>
            <a:chOff x="533520" y="2303640"/>
            <a:chExt cx="2189160" cy="896760"/>
          </a:xfrm>
        </p:grpSpPr>
        <p:sp>
          <p:nvSpPr>
            <p:cNvPr id="270" name=""/>
            <p:cNvSpPr/>
            <p:nvPr/>
          </p:nvSpPr>
          <p:spPr>
            <a:xfrm>
              <a:off x="533520" y="230364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27120" y="238932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Tax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8D71B-BB61-4FFE-B390-2C1CCF4686A6}" type="slidenum">
              <a:t>25</a:t>
            </a:fld>
          </a:p>
        </p:txBody>
      </p:sp>
    </p:spTree>
  </p:cSld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500"/>
                            </p:stCondLst>
                            <p:childTnLst>
                              <p:par>
                                <p:cTn id="69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Incentives to Diversif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3429000" y="1438200"/>
            <a:ext cx="4952880" cy="30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igh performance eliminates the need for greater divers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Low performance acts as incentive for divers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Firms plagued by poor performance often take higher risks (diversification is risk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75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Low 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2732040" y="1393920"/>
            <a:ext cx="1295280" cy="310176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3101760"/>
              <a:gd name="textAreaBottom" fmla="*/ 3102120 h 310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2804"/>
                </a:lnTo>
                <a:cubicBezTo>
                  <a:pt x="10800" y="2804"/>
                  <a:pt x="5400" y="2804"/>
                  <a:pt x="0" y="2804"/>
                </a:cubicBezTo>
                <a:cubicBezTo>
                  <a:pt x="5400" y="2804"/>
                  <a:pt x="10800" y="2804"/>
                  <a:pt x="10800" y="2804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CB9D4-84D3-4608-9F1F-634C7ACCED99}" type="slidenum">
              <a:t>26</a:t>
            </a:fld>
          </a:p>
        </p:txBody>
      </p:sp>
    </p:spTree>
  </p:cSld>
  <p:transition>
    <p:random/>
  </p:transition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0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500"/>
                            </p:stCondLst>
                            <p:childTnLst>
                              <p:par>
                                <p:cTn id="7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000"/>
                            </p:stCondLst>
                            <p:childTnLst>
                              <p:par>
                                <p:cTn id="7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2000"/>
                            </p:stCondLst>
                            <p:childTnLst>
                              <p:par>
                                <p:cTn id="74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2500"/>
                            </p:stCondLst>
                            <p:childTnLst>
                              <p:par>
                                <p:cTn id="74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66294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6.3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Curvilinear Relationship between Diversification and Performance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81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492200" y="1447920"/>
            <a:ext cx="6143760" cy="47829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 flipV="1">
            <a:off x="1809720" y="2286000"/>
            <a:ext cx="0" cy="3124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46041-5544-43E6-BFBC-3CE9959B05D1}" type="slidenum">
              <a:t>27</a:t>
            </a:fld>
          </a:p>
        </p:txBody>
      </p:sp>
    </p:spTree>
  </p:cSld>
  <p:transition>
    <p:random/>
  </p:transition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0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500"/>
                            </p:stCondLst>
                            <p:childTnLst>
                              <p:par>
                                <p:cTn id="7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Incentives to Diversif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6" name=""/>
          <p:cNvSpPr/>
          <p:nvPr/>
        </p:nvSpPr>
        <p:spPr>
          <a:xfrm>
            <a:off x="3429000" y="1469880"/>
            <a:ext cx="4952880" cy="34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ersification may be defensive strategy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line m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line is threate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 is small and is in mature or maturing indus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88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Low 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2732040" y="1393920"/>
            <a:ext cx="1295280" cy="310176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3101760"/>
              <a:gd name="textAreaBottom" fmla="*/ 3102120 h 310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9569"/>
                </a:lnTo>
                <a:cubicBezTo>
                  <a:pt x="10800" y="9569"/>
                  <a:pt x="5400" y="9569"/>
                  <a:pt x="0" y="9569"/>
                </a:cubicBezTo>
                <a:cubicBezTo>
                  <a:pt x="5400" y="9569"/>
                  <a:pt x="10800" y="9569"/>
                  <a:pt x="10800" y="9569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533520" y="2303640"/>
            <a:ext cx="2189160" cy="1277280"/>
            <a:chOff x="533520" y="2303640"/>
            <a:chExt cx="2189160" cy="1277280"/>
          </a:xfrm>
        </p:grpSpPr>
        <p:sp>
          <p:nvSpPr>
            <p:cNvPr id="292" name=""/>
            <p:cNvSpPr/>
            <p:nvPr/>
          </p:nvSpPr>
          <p:spPr>
            <a:xfrm>
              <a:off x="533520" y="2303640"/>
              <a:ext cx="2189160" cy="1277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7120" y="2425680"/>
              <a:ext cx="2000160" cy="10306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Uncertain Future Cash Flo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EA47F-7143-4D01-83BB-5A48F4CCD044}" type="slidenum">
              <a:t>28</a:t>
            </a:fld>
          </a:p>
        </p:txBody>
      </p:sp>
    </p:spTree>
  </p:cSld>
  <p:transition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500"/>
                            </p:stCondLst>
                            <p:childTnLst>
                              <p:par>
                                <p:cTn id="77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000"/>
                            </p:stCondLst>
                            <p:childTnLst>
                              <p:par>
                                <p:cTn id="7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500"/>
                            </p:stCondLst>
                            <p:childTnLst>
                              <p:par>
                                <p:cTn id="78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Incentives to Diversif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3429000" y="1469880"/>
            <a:ext cx="502920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ynergy exists when the value created by businesses working together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exceeds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the value created by them working independen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but synergy creates joint interdependence between business un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 firm may become risk averse and constrain its level of activity sha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 firm may reduce level of technological change by operating in more certain environ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97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Low 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2732040" y="1393920"/>
            <a:ext cx="1295280" cy="439740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4397400"/>
              <a:gd name="textAreaBottom" fmla="*/ 4397760 h 439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3865"/>
                </a:lnTo>
                <a:cubicBezTo>
                  <a:pt x="10800" y="13865"/>
                  <a:pt x="5400" y="13865"/>
                  <a:pt x="0" y="13865"/>
                </a:cubicBezTo>
                <a:cubicBezTo>
                  <a:pt x="5400" y="13865"/>
                  <a:pt x="10800" y="13865"/>
                  <a:pt x="10800" y="13865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33520" y="2303640"/>
            <a:ext cx="2189160" cy="1277280"/>
            <a:chOff x="533520" y="2303640"/>
            <a:chExt cx="2189160" cy="1277280"/>
          </a:xfrm>
        </p:grpSpPr>
        <p:sp>
          <p:nvSpPr>
            <p:cNvPr id="301" name=""/>
            <p:cNvSpPr/>
            <p:nvPr/>
          </p:nvSpPr>
          <p:spPr>
            <a:xfrm>
              <a:off x="533520" y="2303640"/>
              <a:ext cx="2189160" cy="1277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27120" y="2425680"/>
              <a:ext cx="2000160" cy="10306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Uncertain Future Cash Flo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533520" y="3603600"/>
            <a:ext cx="2189160" cy="1277640"/>
            <a:chOff x="533520" y="3603600"/>
            <a:chExt cx="2189160" cy="1277640"/>
          </a:xfrm>
        </p:grpSpPr>
        <p:sp>
          <p:nvSpPr>
            <p:cNvPr id="304" name=""/>
            <p:cNvSpPr/>
            <p:nvPr/>
          </p:nvSpPr>
          <p:spPr>
            <a:xfrm>
              <a:off x="533520" y="3603600"/>
              <a:ext cx="2189160" cy="12776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27120" y="3725640"/>
              <a:ext cx="2000160" cy="1031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Synergy and Risk 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92D5E-E29A-4CE4-8C1D-542235C49DF5}" type="slidenum">
              <a:t>29</a:t>
            </a:fld>
          </a:p>
        </p:txBody>
      </p:sp>
    </p:spTree>
  </p:cSld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500"/>
                            </p:stCondLst>
                            <p:childTnLst>
                              <p:par>
                                <p:cTn id="8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1000"/>
                            </p:stCondLst>
                            <p:childTnLst>
                              <p:par>
                                <p:cTn id="82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500"/>
                            </p:stCondLst>
                            <p:childTnLst>
                              <p:par>
                                <p:cTn id="82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2000"/>
                            </p:stCondLst>
                            <p:childTnLst>
                              <p:par>
                                <p:cTn id="83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2500"/>
                            </p:stCondLst>
                            <p:childTnLst>
                              <p:par>
                                <p:cTn id="84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Role of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ersification strategies play a major role in the behavior of large firm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oduct diversification concern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cope of the industries and markets in which the firm compet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w managers buy, create and sell different businesses to match skills and strengths with opportunities presented to the fir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80412-A623-4F07-9D5D-7764DDD0A5E2}" type="slidenum">
              <a:t>3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s and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firm must have both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entives to diversif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resources required to create value through diversification—cash and tangible resources (e.g., plant and equipment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alue creation is determined more by appropriate use of resources than by incentives to diversif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nagerial Motives to Diversif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ial risk reduc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sire for increased compens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23A27-5D1C-419C-85E0-0D065FC61466}" type="slidenum">
              <a:t>30</a:t>
            </a:fld>
          </a:p>
        </p:txBody>
      </p:sp>
    </p:spTree>
  </p:cSld>
  <p:transition>
    <p:random/>
  </p:transition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0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500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6419880" cy="577368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867280" y="447840"/>
            <a:ext cx="2819520" cy="176184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477120" y="561960"/>
            <a:ext cx="2286000" cy="1496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6.4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mmary Model of the Relationship between Firm Performance and Diversification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1" name=""/>
          <p:cNvSpPr/>
          <p:nvPr/>
        </p:nvSpPr>
        <p:spPr>
          <a:xfrm>
            <a:off x="632448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09588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019920" y="59151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R. E. Hoskisson &amp; M. A. Hitt, 1990, Antecedents and performance outcomes of diversification: A review and critique of theoretical perspectives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ournal of Management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6: 498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86E86-000C-41EC-88F8-CDF43A84ED4E}" type="slidenum">
              <a:t>31</a:t>
            </a:fld>
          </a:p>
        </p:txBody>
      </p:sp>
    </p:spTree>
  </p:cSld>
  <p:transition>
    <p:random/>
  </p:transition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0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wo Strategy Leve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usiness-level Strategy (Competitive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ch business unit in a diversified firm chooses a business-level strategy as its means of competing in individual product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-level Strategy (Companywide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fies actions taken by the firm to gain a competitive advantage by selecting and managing a group of different businesses competing in several industries and product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58E14-F8EB-4E33-B981-ADABB6A64462}" type="slidenum">
              <a:t>4</a:t>
            </a:fld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-Level Strategy: Key Questio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-level Strategy’s Valu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degree to which the businesses in the portfolio are worth more under the management of the company than they would be under other ownership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hat businesses should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the firm be in?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ow should the corporate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office manage the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group of businesses?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6397560" y="3429000"/>
            <a:ext cx="811440" cy="517320"/>
            <a:chOff x="6397560" y="3429000"/>
            <a:chExt cx="811440" cy="517320"/>
          </a:xfrm>
        </p:grpSpPr>
        <p:sp>
          <p:nvSpPr>
            <p:cNvPr id="107" name=""/>
            <p:cNvSpPr/>
            <p:nvPr/>
          </p:nvSpPr>
          <p:spPr>
            <a:xfrm>
              <a:off x="6397560" y="3429000"/>
              <a:ext cx="811440" cy="5173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456600" y="3484440"/>
              <a:ext cx="691920" cy="404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5433840" y="4249800"/>
            <a:ext cx="2738520" cy="519120"/>
            <a:chOff x="5433840" y="4249800"/>
            <a:chExt cx="2738520" cy="519120"/>
          </a:xfrm>
        </p:grpSpPr>
        <p:grpSp>
          <p:nvGrpSpPr>
            <p:cNvPr id="110" name=""/>
            <p:cNvGrpSpPr/>
            <p:nvPr/>
          </p:nvGrpSpPr>
          <p:grpSpPr>
            <a:xfrm>
              <a:off x="7360920" y="4249800"/>
              <a:ext cx="811440" cy="517680"/>
              <a:chOff x="7360920" y="4249800"/>
              <a:chExt cx="811440" cy="517680"/>
            </a:xfrm>
          </p:grpSpPr>
          <p:sp>
            <p:nvSpPr>
              <p:cNvPr id="111" name=""/>
              <p:cNvSpPr/>
              <p:nvPr/>
            </p:nvSpPr>
            <p:spPr>
              <a:xfrm>
                <a:off x="7360920" y="4249800"/>
                <a:ext cx="811440" cy="517680"/>
              </a:xfrm>
              <a:prstGeom prst="rect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419600" y="4305600"/>
                <a:ext cx="692280" cy="40464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5433840" y="4251600"/>
              <a:ext cx="811080" cy="517320"/>
              <a:chOff x="5433840" y="4251600"/>
              <a:chExt cx="811080" cy="517320"/>
            </a:xfrm>
          </p:grpSpPr>
          <p:sp>
            <p:nvSpPr>
              <p:cNvPr id="114" name=""/>
              <p:cNvSpPr/>
              <p:nvPr/>
            </p:nvSpPr>
            <p:spPr>
              <a:xfrm>
                <a:off x="5433840" y="4251600"/>
                <a:ext cx="811080" cy="517320"/>
              </a:xfrm>
              <a:prstGeom prst="rect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492520" y="4307040"/>
                <a:ext cx="692280" cy="40500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4952880" y="5073480"/>
            <a:ext cx="1774800" cy="519120"/>
            <a:chOff x="4952880" y="5073480"/>
            <a:chExt cx="1774800" cy="519120"/>
          </a:xfrm>
        </p:grpSpPr>
        <p:grpSp>
          <p:nvGrpSpPr>
            <p:cNvPr id="117" name=""/>
            <p:cNvGrpSpPr/>
            <p:nvPr/>
          </p:nvGrpSpPr>
          <p:grpSpPr>
            <a:xfrm>
              <a:off x="4952880" y="5074920"/>
              <a:ext cx="811080" cy="517680"/>
              <a:chOff x="4952880" y="5074920"/>
              <a:chExt cx="811080" cy="517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952880" y="5074920"/>
                <a:ext cx="811080" cy="5176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1560" y="5130720"/>
                <a:ext cx="691920" cy="40464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5916240" y="5073480"/>
              <a:ext cx="811440" cy="517680"/>
              <a:chOff x="5916240" y="5073480"/>
              <a:chExt cx="811440" cy="517680"/>
            </a:xfrm>
          </p:grpSpPr>
          <p:sp>
            <p:nvSpPr>
              <p:cNvPr id="121" name=""/>
              <p:cNvSpPr/>
              <p:nvPr/>
            </p:nvSpPr>
            <p:spPr>
              <a:xfrm>
                <a:off x="5916240" y="5073480"/>
                <a:ext cx="811440" cy="5176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975280" y="5128920"/>
                <a:ext cx="691920" cy="40500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" name=""/>
          <p:cNvGrpSpPr/>
          <p:nvPr/>
        </p:nvGrpSpPr>
        <p:grpSpPr>
          <a:xfrm>
            <a:off x="6880320" y="5075280"/>
            <a:ext cx="1774800" cy="517320"/>
            <a:chOff x="6880320" y="5075280"/>
            <a:chExt cx="1774800" cy="517320"/>
          </a:xfrm>
        </p:grpSpPr>
        <p:grpSp>
          <p:nvGrpSpPr>
            <p:cNvPr id="124" name=""/>
            <p:cNvGrpSpPr/>
            <p:nvPr/>
          </p:nvGrpSpPr>
          <p:grpSpPr>
            <a:xfrm>
              <a:off x="6880320" y="5075280"/>
              <a:ext cx="811080" cy="517320"/>
              <a:chOff x="6880320" y="5075280"/>
              <a:chExt cx="811080" cy="517320"/>
            </a:xfrm>
          </p:grpSpPr>
          <p:sp>
            <p:nvSpPr>
              <p:cNvPr id="125" name=""/>
              <p:cNvSpPr/>
              <p:nvPr/>
            </p:nvSpPr>
            <p:spPr>
              <a:xfrm>
                <a:off x="6880320" y="5075280"/>
                <a:ext cx="811080" cy="51732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939000" y="5130720"/>
                <a:ext cx="692280" cy="40428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7844040" y="5075280"/>
              <a:ext cx="811080" cy="517320"/>
              <a:chOff x="7844040" y="5075280"/>
              <a:chExt cx="811080" cy="517320"/>
            </a:xfrm>
          </p:grpSpPr>
          <p:sp>
            <p:nvSpPr>
              <p:cNvPr id="128" name=""/>
              <p:cNvSpPr/>
              <p:nvPr/>
            </p:nvSpPr>
            <p:spPr>
              <a:xfrm>
                <a:off x="7844040" y="5075280"/>
                <a:ext cx="811080" cy="51732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902720" y="5130720"/>
                <a:ext cx="692280" cy="40428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5839920" y="3946320"/>
            <a:ext cx="1926720" cy="305280"/>
            <a:chOff x="5839920" y="3946320"/>
            <a:chExt cx="1926720" cy="305280"/>
          </a:xfrm>
        </p:grpSpPr>
        <p:cxnSp>
          <p:nvCxnSpPr>
            <p:cNvPr id="131" name=""/>
            <p:cNvCxnSpPr>
              <a:stCxn id="107" idx="2"/>
              <a:endCxn id="114" idx="0"/>
            </p:cNvCxnSpPr>
            <p:nvPr/>
          </p:nvCxnSpPr>
          <p:spPr>
            <a:xfrm rot="5400000">
              <a:off x="6168960" y="3617280"/>
              <a:ext cx="305280" cy="964080"/>
            </a:xfrm>
            <a:prstGeom prst="bentConnector3">
              <a:avLst>
                <a:gd name="adj1" fmla="val 4994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2" name=""/>
            <p:cNvCxnSpPr>
              <a:stCxn id="107" idx="2"/>
              <a:endCxn id="111" idx="0"/>
            </p:cNvCxnSpPr>
            <p:nvPr/>
          </p:nvCxnSpPr>
          <p:spPr>
            <a:xfrm flipH="1" rot="16200000">
              <a:off x="7133400" y="3615480"/>
              <a:ext cx="303120" cy="964440"/>
            </a:xfrm>
            <a:prstGeom prst="bentConnector3">
              <a:avLst>
                <a:gd name="adj1" fmla="val 4970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33" name=""/>
          <p:cNvGrpSpPr/>
          <p:nvPr/>
        </p:nvGrpSpPr>
        <p:grpSpPr>
          <a:xfrm>
            <a:off x="5358960" y="4768560"/>
            <a:ext cx="964080" cy="306360"/>
            <a:chOff x="5358960" y="4768560"/>
            <a:chExt cx="964080" cy="306360"/>
          </a:xfrm>
        </p:grpSpPr>
        <p:cxnSp>
          <p:nvCxnSpPr>
            <p:cNvPr id="134" name=""/>
            <p:cNvCxnSpPr>
              <a:stCxn id="114" idx="2"/>
              <a:endCxn id="118" idx="0"/>
            </p:cNvCxnSpPr>
            <p:nvPr/>
          </p:nvCxnSpPr>
          <p:spPr>
            <a:xfrm rot="5400000">
              <a:off x="5446080" y="4681080"/>
              <a:ext cx="306720" cy="481680"/>
            </a:xfrm>
            <a:prstGeom prst="bentConnector3">
              <a:avLst>
                <a:gd name="adj1" fmla="val 4970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5" name=""/>
            <p:cNvCxnSpPr>
              <a:stCxn id="114" idx="2"/>
              <a:endCxn id="121" idx="0"/>
            </p:cNvCxnSpPr>
            <p:nvPr/>
          </p:nvCxnSpPr>
          <p:spPr>
            <a:xfrm flipH="1" rot="16200000">
              <a:off x="5928840" y="4679640"/>
              <a:ext cx="305640" cy="4831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36" name=""/>
          <p:cNvGrpSpPr/>
          <p:nvPr/>
        </p:nvGrpSpPr>
        <p:grpSpPr>
          <a:xfrm>
            <a:off x="7286040" y="4710240"/>
            <a:ext cx="964080" cy="365400"/>
            <a:chOff x="7286040" y="4710240"/>
            <a:chExt cx="964080" cy="365400"/>
          </a:xfrm>
        </p:grpSpPr>
        <p:cxnSp>
          <p:nvCxnSpPr>
            <p:cNvPr id="137" name=""/>
            <p:cNvCxnSpPr>
              <a:endCxn id="125" idx="0"/>
            </p:cNvCxnSpPr>
            <p:nvPr/>
          </p:nvCxnSpPr>
          <p:spPr>
            <a:xfrm flipV="1" rot="10800000">
              <a:off x="7286040" y="4887720"/>
              <a:ext cx="513000" cy="1879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" name=""/>
            <p:cNvCxnSpPr>
              <a:stCxn id="112" idx="2"/>
              <a:endCxn id="128" idx="0"/>
            </p:cNvCxnSpPr>
            <p:nvPr/>
          </p:nvCxnSpPr>
          <p:spPr>
            <a:xfrm flipH="1" rot="16200000">
              <a:off x="7825320" y="4650480"/>
              <a:ext cx="365760" cy="484560"/>
            </a:xfrm>
            <a:prstGeom prst="bentConnector3">
              <a:avLst>
                <a:gd name="adj1" fmla="val 4995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139" name=""/>
          <p:cNvSpPr/>
          <p:nvPr/>
        </p:nvSpPr>
        <p:spPr>
          <a:xfrm>
            <a:off x="5942520" y="595476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siness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5495400" y="5594400"/>
            <a:ext cx="2683080" cy="396720"/>
            <a:chOff x="5495400" y="5594400"/>
            <a:chExt cx="2683080" cy="396720"/>
          </a:xfrm>
        </p:grpSpPr>
        <p:sp>
          <p:nvSpPr>
            <p:cNvPr id="141" name=""/>
            <p:cNvSpPr/>
            <p:nvPr/>
          </p:nvSpPr>
          <p:spPr>
            <a:xfrm flipH="1" flipV="1">
              <a:off x="5495400" y="5628600"/>
              <a:ext cx="1353960" cy="36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6833880" y="5630760"/>
              <a:ext cx="1344600" cy="360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6833880" y="5594400"/>
              <a:ext cx="397080" cy="39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6470280" y="5611320"/>
              <a:ext cx="379440" cy="37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F5323-8744-4A36-8FFD-AB5E82A8DA9E}" type="slidenum">
              <a:t>5</a:t>
            </a:fld>
          </a:p>
        </p:txBody>
      </p:sp>
    </p:spTree>
  </p:cSld>
  <p:transition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5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5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50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Levels of Diversification: Low Lev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3809520"/>
            <a:ext cx="411480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ominant Busines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etween 70% and 95% of revenue comes from a single busines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791320" y="5315040"/>
            <a:ext cx="685800" cy="31896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6248520" y="1371600"/>
            <a:ext cx="2132640" cy="2133000"/>
            <a:chOff x="6248520" y="1371600"/>
            <a:chExt cx="2132640" cy="2133000"/>
          </a:xfrm>
        </p:grpSpPr>
        <p:sp>
          <p:nvSpPr>
            <p:cNvPr id="149" name=""/>
            <p:cNvSpPr/>
            <p:nvPr/>
          </p:nvSpPr>
          <p:spPr>
            <a:xfrm>
              <a:off x="6248520" y="1371600"/>
              <a:ext cx="2132640" cy="213300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394320" y="1517400"/>
              <a:ext cx="1837800" cy="18381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400800" y="4038480"/>
            <a:ext cx="1904760" cy="1904760"/>
            <a:chOff x="6400800" y="4038480"/>
            <a:chExt cx="1904760" cy="1904760"/>
          </a:xfrm>
        </p:grpSpPr>
        <p:sp>
          <p:nvSpPr>
            <p:cNvPr id="152" name=""/>
            <p:cNvSpPr/>
            <p:nvPr/>
          </p:nvSpPr>
          <p:spPr>
            <a:xfrm>
              <a:off x="6400800" y="4038480"/>
              <a:ext cx="1904760" cy="190476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530760" y="4168440"/>
              <a:ext cx="1641240" cy="16412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952880" y="5410080"/>
            <a:ext cx="914400" cy="914400"/>
            <a:chOff x="4952880" y="5410080"/>
            <a:chExt cx="914400" cy="914400"/>
          </a:xfrm>
        </p:grpSpPr>
        <p:sp>
          <p:nvSpPr>
            <p:cNvPr id="155" name=""/>
            <p:cNvSpPr/>
            <p:nvPr/>
          </p:nvSpPr>
          <p:spPr>
            <a:xfrm>
              <a:off x="4952880" y="5410080"/>
              <a:ext cx="914400" cy="914400"/>
            </a:xfrm>
            <a:prstGeom prst="ellipse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15160" y="5472000"/>
              <a:ext cx="787680" cy="788040"/>
            </a:xfrm>
            <a:prstGeom prst="ellipse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685800" y="163188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ingle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re than 95% of revenue comes from a single busi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6A561-D13D-46B6-9F13-62F154F0C09E}" type="slidenum">
              <a:t>6</a:t>
            </a:fld>
          </a:p>
        </p:txBody>
      </p:sp>
    </p:spTree>
  </p:cSld>
  <p:transition>
    <p:random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5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Levels of Diversification: Moderate to High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07880"/>
            <a:ext cx="3886200" cy="24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Related Constrained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ess than 70% of revenue comes from a single business and all businesses share product, technological and distribution linkage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9760" y="1307880"/>
            <a:ext cx="403704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6680" indent="-1666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Related Linked (mixed related and unrelated)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512640" indent="-2314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ess than 70% of revenue comes from the dominant business, and there are only limited links between businesse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10080" y="3952800"/>
            <a:ext cx="2828880" cy="2371680"/>
            <a:chOff x="5410080" y="3952800"/>
            <a:chExt cx="2828880" cy="2371680"/>
          </a:xfrm>
        </p:grpSpPr>
        <p:sp>
          <p:nvSpPr>
            <p:cNvPr id="162" name=""/>
            <p:cNvSpPr/>
            <p:nvPr/>
          </p:nvSpPr>
          <p:spPr>
            <a:xfrm flipH="1">
              <a:off x="6165360" y="4714920"/>
              <a:ext cx="61596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53120" y="5781600"/>
              <a:ext cx="1447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7238880" y="5315040"/>
              <a:ext cx="1000080" cy="1000080"/>
              <a:chOff x="7238880" y="5315040"/>
              <a:chExt cx="1000080" cy="1000080"/>
            </a:xfrm>
          </p:grpSpPr>
          <p:sp>
            <p:nvSpPr>
              <p:cNvPr id="165" name=""/>
              <p:cNvSpPr/>
              <p:nvPr/>
            </p:nvSpPr>
            <p:spPr>
              <a:xfrm>
                <a:off x="7238880" y="531504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004646"/>
                  </a:gs>
                  <a:gs pos="100000">
                    <a:srgbClr val="0099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307280" y="538344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64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C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6324480" y="3952800"/>
              <a:ext cx="1000080" cy="1000080"/>
              <a:chOff x="6324480" y="3952800"/>
              <a:chExt cx="1000080" cy="1000080"/>
            </a:xfrm>
          </p:grpSpPr>
          <p:sp>
            <p:nvSpPr>
              <p:cNvPr id="168" name=""/>
              <p:cNvSpPr/>
              <p:nvPr/>
            </p:nvSpPr>
            <p:spPr>
              <a:xfrm>
                <a:off x="6324480" y="39528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392880" y="402120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5410080" y="5324400"/>
              <a:ext cx="1000080" cy="1000080"/>
              <a:chOff x="5410080" y="5324400"/>
              <a:chExt cx="1000080" cy="1000080"/>
            </a:xfrm>
          </p:grpSpPr>
          <p:sp>
            <p:nvSpPr>
              <p:cNvPr id="171" name=""/>
              <p:cNvSpPr/>
              <p:nvPr/>
            </p:nvSpPr>
            <p:spPr>
              <a:xfrm>
                <a:off x="5410080" y="53244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478480" y="5392440"/>
                <a:ext cx="861840" cy="862200"/>
              </a:xfrm>
              <a:prstGeom prst="ellipse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3" name=""/>
          <p:cNvGrpSpPr/>
          <p:nvPr/>
        </p:nvGrpSpPr>
        <p:grpSpPr>
          <a:xfrm>
            <a:off x="971640" y="3952800"/>
            <a:ext cx="2838240" cy="2371680"/>
            <a:chOff x="971640" y="3952800"/>
            <a:chExt cx="2838240" cy="2371680"/>
          </a:xfrm>
        </p:grpSpPr>
        <p:sp>
          <p:nvSpPr>
            <p:cNvPr id="174" name=""/>
            <p:cNvSpPr/>
            <p:nvPr/>
          </p:nvSpPr>
          <p:spPr>
            <a:xfrm>
              <a:off x="1743120" y="4724280"/>
              <a:ext cx="1295280" cy="112068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809800" y="5324400"/>
              <a:ext cx="1000080" cy="1000080"/>
              <a:chOff x="2809800" y="5324400"/>
              <a:chExt cx="1000080" cy="1000080"/>
            </a:xfrm>
          </p:grpSpPr>
          <p:sp>
            <p:nvSpPr>
              <p:cNvPr id="176" name=""/>
              <p:cNvSpPr/>
              <p:nvPr/>
            </p:nvSpPr>
            <p:spPr>
              <a:xfrm>
                <a:off x="2809800" y="53244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004646"/>
                  </a:gs>
                  <a:gs pos="100000">
                    <a:srgbClr val="0099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878200" y="539280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64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C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1895400" y="3952800"/>
              <a:ext cx="1000080" cy="1000080"/>
              <a:chOff x="1895400" y="3952800"/>
              <a:chExt cx="1000080" cy="1000080"/>
            </a:xfrm>
          </p:grpSpPr>
          <p:sp>
            <p:nvSpPr>
              <p:cNvPr id="179" name=""/>
              <p:cNvSpPr/>
              <p:nvPr/>
            </p:nvSpPr>
            <p:spPr>
              <a:xfrm>
                <a:off x="1895400" y="39528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963800" y="402120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971640" y="5324400"/>
              <a:ext cx="1000080" cy="1000080"/>
              <a:chOff x="971640" y="5324400"/>
              <a:chExt cx="1000080" cy="1000080"/>
            </a:xfrm>
          </p:grpSpPr>
          <p:sp>
            <p:nvSpPr>
              <p:cNvPr id="182" name=""/>
              <p:cNvSpPr/>
              <p:nvPr/>
            </p:nvSpPr>
            <p:spPr>
              <a:xfrm>
                <a:off x="971640" y="53244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040040" y="5392440"/>
                <a:ext cx="861840" cy="862200"/>
              </a:xfrm>
              <a:prstGeom prst="ellipse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8FB75-3BE2-4490-B9A9-19E8F114EC90}" type="slidenum">
              <a:t>7</a:t>
            </a:fld>
          </a:p>
        </p:txBody>
      </p:sp>
    </p:spTree>
  </p:cSld>
  <p:transition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Levels of Diversification: Very High Levels 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nrelated Diversifi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ess than 70% of revenue comes from the dominant business, and there are no common links between business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410080" y="4562640"/>
            <a:ext cx="1000080" cy="1000080"/>
            <a:chOff x="5410080" y="4562640"/>
            <a:chExt cx="1000080" cy="1000080"/>
          </a:xfrm>
        </p:grpSpPr>
        <p:sp>
          <p:nvSpPr>
            <p:cNvPr id="187" name=""/>
            <p:cNvSpPr/>
            <p:nvPr/>
          </p:nvSpPr>
          <p:spPr>
            <a:xfrm>
              <a:off x="5410080" y="456264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78480" y="4631040"/>
              <a:ext cx="861840" cy="86184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743200" y="4562640"/>
            <a:ext cx="1000080" cy="1000080"/>
            <a:chOff x="2743200" y="4562640"/>
            <a:chExt cx="1000080" cy="1000080"/>
          </a:xfrm>
        </p:grpSpPr>
        <p:sp>
          <p:nvSpPr>
            <p:cNvPr id="190" name=""/>
            <p:cNvSpPr/>
            <p:nvPr/>
          </p:nvSpPr>
          <p:spPr>
            <a:xfrm>
              <a:off x="2743200" y="456264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11600" y="4630680"/>
              <a:ext cx="861840" cy="862200"/>
            </a:xfrm>
            <a:prstGeom prst="ellipse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932280" y="3038400"/>
            <a:ext cx="1261800" cy="1261800"/>
            <a:chOff x="3932280" y="3038400"/>
            <a:chExt cx="1261800" cy="1261800"/>
          </a:xfrm>
        </p:grpSpPr>
        <p:sp>
          <p:nvSpPr>
            <p:cNvPr id="193" name=""/>
            <p:cNvSpPr/>
            <p:nvPr/>
          </p:nvSpPr>
          <p:spPr>
            <a:xfrm>
              <a:off x="3932280" y="3038400"/>
              <a:ext cx="1261800" cy="126180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018320" y="3124440"/>
              <a:ext cx="1087560" cy="10875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4EE85-A8E2-4333-9E30-79850390BA09}" type="slidenum">
              <a:t>8</a:t>
            </a:fld>
          </a:p>
        </p:txBody>
      </p:sp>
    </p:spTree>
  </p:cSld>
  <p:transition>
    <p:random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8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500"/>
                            </p:stCondLst>
                            <p:childTnLst>
                              <p:par>
                                <p:cTn id="2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8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500"/>
                            </p:stCondLst>
                            <p:childTnLst>
                              <p:par>
                                <p:cTn id="2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8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490680"/>
            <a:ext cx="793440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6.1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els and Types of Diversification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45720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98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7239240" cy="51721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57200" y="6324480"/>
            <a:ext cx="7010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Adapted from R. P. Rumelt, 1974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trategy, Structure and Economic Performance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oston: Harvard Business Schoo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7DD5D-5982-4D2B-9A8A-1F56F42EA56C}" type="slidenum">
              <a:t>9</a:t>
            </a:fld>
          </a:p>
        </p:txBody>
      </p:sp>
    </p:spTree>
  </p:cSld>
  <p:transition>
    <p:random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The University of West Alabama</dc:creator>
  <dc:description/>
  <dc:language>en-US</dc:language>
  <cp:lastModifiedBy>dii</cp:lastModifiedBy>
  <dcterms:modified xsi:type="dcterms:W3CDTF">2007-06-12T13:36:47Z</dcterms:modified>
  <cp:revision>42</cp:revision>
  <dc:subject>Chapter 6</dc:subject>
  <dc:title>Strategic Management 7e.</dc:title>
</cp:coreProperties>
</file>