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915B-76BB-4741-8178-6EDCF8310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17B0-6B74-4D2B-AC8E-5DC88CE7C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9AE9-37E5-478D-9247-3FC9647D6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17DE5-CF3A-4288-A48C-C74A27C92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813DD-4B54-4C40-BBC7-5B7FFF92B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CB5E-1220-4D98-A6D6-88A92CED2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EE2A-FB3D-496F-AECE-145B23016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4039-019B-4838-B896-354B747CC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AF7F-B1C9-45FC-BA46-950BB2A3C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4FE5C-4135-426E-85B9-64D0D5CE4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E09F-DAFF-41D1-9B85-1C1BA12E5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7752-2E30-47E5-AE05-0B4C87B520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88916-DB36-4A5E-924C-720581479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C246-426B-44D0-A269-527A815422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6885E-6A5F-4F45-8E29-CC7414B63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7E97-F43C-4327-BD73-CD12A1EDF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16D2-225B-441A-913A-7B8271F94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F889-11D2-4D56-8A17-BEED0DF62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DA600-FB2F-44D1-9F21-9A8813AE5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16CB-BD2E-4522-908D-DC8F4B153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5E335-CF59-4484-B9FB-47EA9BC38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95F0E-585D-4C67-ACFC-1574A92BF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C1CBB-26AA-474E-BB1D-1047C0D52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6ADB-B7A9-44F5-AB24-08FD0405A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1DBE-A3AC-4EFF-906B-A117ED416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98F9-5B74-4C76-86E8-36A528D9F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BBA3-00AC-43AD-ABA1-833E31659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6C8E-5850-4150-9A3D-A37FD8EE9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CAD7-BD60-4A4F-9324-2E2E22C54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E7AC-2EF7-41F3-AE57-C0D037EEC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4B33D-D5A6-4562-9811-E0736F9ED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20A97-0A16-4F09-9C58-54A51B4B1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3D78-69AD-489B-96A9-4C5C74C51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DB96D-FF6B-4495-B637-AE61796A10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D7F6-5A1F-4B9D-9E95-401A403874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02512-DC0D-4E22-B1EA-010284D3A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6354-2A74-4BA5-A1B6-3E689952F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E6A63-555D-4466-93BA-E2F985696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0A489-B8FA-43BE-A7B6-F56B90717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F8AC2-ADA0-4163-B902-9067C0F4D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EC4F-FDB8-4F91-BB52-CE4AA9B17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45C90-3C55-4F0B-B04A-A94234467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B11EF4-0899-4CB1-A743-B8663F18CB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5A8F2D-7990-47C0-AC1E-D90BC994C3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F71B3E2-4565-4D28-856A-25172D0A01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81A507-A2E2-40B1-8057-6F8F9A3B65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D6C258-8770-4BB7-A50E-43767D99E1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7B7C89-DF77-4781-B2A3-2E48E47B1D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8AE983-374A-4ACA-8412-EEE88786BE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2279B6-6562-40B8-8015-4DD62192D6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F51C22-368C-4559-A92E-F2C9A62038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26AC1E-002C-4909-BEED-AADAAD4C6D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15784C-9587-49BA-9255-855A3A0114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2B6543-BB4D-4B33-82B5-22DE334326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E5E1AF91-FF09-4F94-A32A-FE160304FD90}"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021F2AEC-D322-43E1-8627-A0D09DE1E81E}"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8503943B-C23F-4FFE-B645-67D5DD65C76A}"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B0398C4-AF80-477D-81CA-9A06BEAAD4D1}"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F43D86B-3E87-4C00-B7A8-6CD4166D58A7}"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EAB05D29-BF15-4EC1-A07B-912E76C3E488}"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31A0B30E-C800-43B1-ADD5-CC8294ACF23A}"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5ACDF0F-51A6-4775-87C2-81D6F899B131}"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716E3C60-438E-470E-AAFE-17B22FE0330B}"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9DD82E8-E213-413E-B364-71059E685B43}"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9B3AF63-B72C-4B75-A899-A00C8A45E4F2}"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414D8A-C25E-425C-A38B-5AEA93DB1CC4}"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A667FD4B-59EC-4D7E-80F7-E85B17A694BF}"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5E46027C-44B8-4E8B-9540-460A45D1409B}"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EBAE41FB-9734-483D-B01D-A8798FACAB1D}"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5AC9EB6-004B-44FD-A831-58125E91548B}"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C1B67B5-570B-47A7-ABFC-8A23D640FBBF}"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6E50F7-14E8-4C65-8275-98B6068FC60F}"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96471C-956E-47A6-965D-85B4399BEC6D}"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6568D0-B045-4260-BBA1-DB95C2AD308B}"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142EEF1-3AEB-4702-B830-BF5E40CA6814}"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7B444F4-B12C-4D9D-B642-B25EF6F24B77}"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4C54AE31-EAEA-4B84-B917-20E169C5CE46}"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A05177E0-1B1C-48C6-9783-520816B24517}"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30DBF4D4-F811-4744-AF48-467327571BC8}"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10C0EA26-789E-44F3-A35C-78D0DA162A4A}"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AFC173F-C787-4BD1-B373-DFE35A963424}"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E2FE96-822A-4C06-801E-D9617E76E0C4}"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741BB8-CF83-49D5-9A53-594F6E90DE0E}"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09107AD-6314-4063-8DE0-5763BD216DDC}"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372B7B-7CC2-4265-B19C-025D9D304CC2}"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1209BD5A-45EA-4145-AA0C-21D2C27932DD}"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1CA3712-5F08-4E2F-9BC3-A4CA0FC64CBA}"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CC19B14B-309C-49A3-929C-A19EFABA2BF7}"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564804D-1002-4231-8156-C4282E9E0C65}"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B04B001E-8B35-4135-A6DD-4DA42229763F}"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D6DE494F-FE5C-4AF0-A29C-CDE9DA20C260}"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D7F7FE0-4324-4B66-A5EE-E8BCF30D072C}"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1FB1D3A-6BC6-4470-B2E6-305C611DDCCA}"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07D0F31-6BFC-44B1-9A3D-D5F90B5A6ABA}"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2AB9E88-9D7C-423F-9058-09BDF7D43936}"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168C60E-7F8C-40C9-B4F8-E5E77263ABA4}"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F2DCE55-E870-4C4E-A1F4-05BFC626383E}"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A171215-28D5-4341-8F80-E65FC0DDD942}"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1ED5E34-12A0-45C0-8766-071FD2075441}"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C73EA9DB-106B-4224-A89C-7123B6B29561}"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19DB17D7-8860-42F9-A402-5BEE43A5AA65}"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D788587F-F10B-43F5-BFC5-C5FF814393D8}"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5:43Z</dcterms:modified>
  <cp:revision>46</cp:revision>
  <dc:subject>Chapter 4</dc:subject>
  <dc:title>Strategic Management 7e.</dc:title>
</cp:coreProperties>
</file>