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6.jpeg" ContentType="image/jpeg"/>
  <Override PartName="/ppt/media/image12.wmf" ContentType="image/x-wmf"/>
  <Override PartName="/ppt/media/image4.png" ContentType="image/png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167EE-FDED-423D-90A3-B0D5D8E183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3FA72-CE21-46A7-9747-A7E478926D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4804C-1BBE-4AFB-9048-9B5699DC2F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30542-8910-4843-BDD6-CA41C9133B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19972-5235-4D01-B90A-5770117243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45E28-D1A0-4504-9DA2-306E9A298F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D2E09-8920-416F-9B6D-5D5C5C8F90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35F72-10F8-4E07-80B5-9894E74F98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29B55-BCC2-4196-A61C-0DA0DFD10F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2C543-1F84-4CEA-A7DA-864C22B5FC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51126-6839-4E43-982A-413C9E5DFC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45D23-8063-4962-A412-7FE56D723A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36ECB-D426-407B-A7DD-9499267022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04230-6B19-4AAB-94F7-E97CE0A26D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B7F3C-D2BC-44B3-9A5D-532D805F24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45617-576E-495E-A8E2-239513FA01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903CE-90E8-4568-973E-68A6A687BB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3D9F0-1EC4-4597-A917-0F1A583BC9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18A29-75F4-4094-8416-E5C06E0738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B44DE-F6CE-4F00-8E2A-EC380E14DB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21163-7167-4106-8055-B2E22644AB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314ED-CFEB-42E1-8C2A-BF03963070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71974-5F3B-4F3E-9676-B3AC3E2165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FFF91-D867-40EA-8A2E-AFBA8B8010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3A47E-1C27-43CE-A0DD-AA2243DF41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F686A-757A-414F-B861-33C932E580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9CD53-DC1C-4C0A-81CF-DFD3AD2A9A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7B5B1-32CC-4020-A354-989A4F5682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6772F-D5F5-417C-8A96-3A80AC3328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0C9B2-5D6A-453F-B3D9-A4F1A2DCD6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77B01-032B-4043-AF33-14B60823B0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35167-71D8-468D-BA88-DF4481C20B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4A3DC-45FB-42E9-8329-D8722D3E47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D7B7A-1307-418B-970A-CB7D4F47BE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B72C3-7CA5-46FA-A4D4-3F0B018E9E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158C8-C5CD-417E-BA85-CF7AD58665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00204-1453-4FA1-A747-95B5B337DF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1043D-1EC3-4477-A9E5-21A7549873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98711-C8B0-49D4-9C98-B3D556A521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FFD4E-D398-4931-BB73-D967DCBB56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D2A4E-DB3A-44F0-9CFB-AC65C90A6E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B2D01-DD8A-4834-BE73-0F19334B78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151F4-475D-4BAF-9E21-500AC2566A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–</a:t>
            </a:r>
            <a:fld id="{1BC1638A-9DF0-4E2F-908E-357D5EA8A670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4328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048120"/>
            <a:ext cx="213372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AGEM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666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400" y="1197000"/>
            <a:ext cx="556272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CHAPTER 2</a:t>
            </a:r>
            <a:br>
              <a:rPr sz="2800"/>
            </a:b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 External Environment: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Opportunities, Threats,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dustry Competition,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nd Competitor Analysis</a:t>
            </a:r>
            <a:endParaRPr b="0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560" y="426600"/>
            <a:ext cx="838188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1941480" indent="0">
              <a:buNone/>
              <a:tabLst>
                <a:tab algn="l" pos="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ahoma"/>
              </a:rPr>
              <a:t>TABLE</a:t>
            </a:r>
            <a:r>
              <a:rPr b="0" lang="en-US" sz="18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2.2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onents of the External Environmental Analysi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378080"/>
            <a:ext cx="8458200" cy="48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405160" indent="-2405160">
              <a:spcBef>
                <a:spcPts val="1049"/>
              </a:spcBef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n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ing early signals of environmental changes and tr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5160" indent="-2405160">
              <a:spcBef>
                <a:spcPts val="1049"/>
              </a:spcBef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ito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ting meaning through ongoing observations of environmental changes and tr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5160" indent="-2405160">
              <a:spcBef>
                <a:spcPts val="1049"/>
              </a:spcBef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ecas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ing projections of anticipated outcomes based on monitored changes and tr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5160" indent="-2405160">
              <a:spcBef>
                <a:spcPts val="1049"/>
              </a:spcBef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ess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ing the timing and importance of environmental changes and trends for firms’ strategies and their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7FE3C-A1D0-4134-8485-AB8790708ADB}" type="slidenum">
              <a:t>10</a:t>
            </a:fld>
          </a:p>
        </p:txBody>
      </p:sp>
    </p:spTree>
  </p:cSld>
  <p:transition>
    <p:random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pportunities and Threat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53341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pportunit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condition in the general environment that, if exploited, helps a company achieve strategic competitive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re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condition in the general environment that may hinder a company’s efforts to achieve strategic competitive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486400" y="1731960"/>
            <a:ext cx="3048120" cy="2840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88431-6F86-4B93-8F2E-88ADCC9D1EA9}" type="slidenum">
              <a:t>11</a:t>
            </a:fld>
          </a:p>
        </p:txBody>
      </p:sp>
    </p:spTree>
  </p:cSld>
  <p:transition>
    <p:random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Aft>
                <a:spcPts val="1400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Demographic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pulation siz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ge struc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eographic distribu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thnic mix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ome distribu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952880" y="2322360"/>
            <a:ext cx="3311640" cy="331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9E5D7-3187-49EC-8B2E-0EF0B94EFF8B}" type="slidenum">
              <a:t>12</a:t>
            </a:fld>
          </a:p>
        </p:txBody>
      </p:sp>
    </p:spTree>
  </p:cSld>
  <p:transition>
    <p:random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5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5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Aft>
                <a:spcPts val="1400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Economic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flation ra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rest ra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rade deficits or surplus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dget deficits or surplus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ersonal savings rat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siness savings ra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ross domestic product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410080" y="2286000"/>
            <a:ext cx="2880000" cy="286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A14FF-D519-4B96-9E5A-4D70636C7DFD}" type="slidenum">
              <a:t>13</a:t>
            </a:fld>
          </a:p>
        </p:txBody>
      </p:sp>
    </p:spTree>
  </p:cSld>
  <p:transition>
    <p:random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30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35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52578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Aft>
                <a:spcPts val="1400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Political/Legal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titrust law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axation law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regulation philosoph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abor training law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ducational philosophies and polic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097680" y="4089240"/>
            <a:ext cx="2436840" cy="208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6160E-7BD8-43E5-AD22-891C80E86AFE}" type="slidenum">
              <a:t>14</a:t>
            </a:fld>
          </a:p>
        </p:txBody>
      </p:sp>
    </p:spTree>
  </p:cSld>
  <p:transition>
    <p:random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500"/>
                            </p:stCondLst>
                            <p:childTnLst>
                              <p:par>
                                <p:cTn id="2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500"/>
                            </p:stCondLst>
                            <p:childTnLst>
                              <p:par>
                                <p:cTn id="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Aft>
                <a:spcPts val="1400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Sociocultural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omen in the workplac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orkforce divers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ttitudes about quality of worklif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cerns about environment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hifts in work and career preferen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hifts in product and service preferen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A80DA-D12B-45D0-A979-CD6EF5378C38}" type="slidenum">
              <a:t>15</a:t>
            </a:fld>
          </a:p>
        </p:txBody>
      </p:sp>
    </p:spTree>
  </p:cSld>
  <p:transition>
    <p:random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5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30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Aft>
                <a:spcPts val="1400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Technological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innova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pplications of knowledg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 of private and government-supported R&amp;D expenditur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New communication technolo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CE5A6-A733-45DC-B6E5-652CFDEF5C15}" type="slidenum">
              <a:t>16</a:t>
            </a:fld>
          </a:p>
        </p:txBody>
      </p:sp>
    </p:spTree>
  </p:cSld>
  <p:transition>
    <p:random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5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563868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Global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mportant political eve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itical global marke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Newly industrialized countr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fferent cultural and institutional attribu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735520" y="4284720"/>
            <a:ext cx="2646360" cy="1827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187AC-7D56-4628-B6A6-A40CD53801A0}" type="slidenum">
              <a:t>17</a:t>
            </a:fld>
          </a:p>
        </p:txBody>
      </p:sp>
    </p:spTree>
  </p:cSld>
  <p:transition>
    <p:random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50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0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y Environment Analysi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dustry Define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group of firms producing products that are close substitu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ms that influence one 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a rich mix of competitive strategies that companies use in pursuing strategic competitiveness and above-average retu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709FE-EB56-41BB-9CC2-2A5EB265D273}" type="slidenum">
              <a:t>18</a:t>
            </a:fld>
          </a:p>
        </p:txBody>
      </p:sp>
    </p:spTree>
  </p:cSld>
  <p:transition>
    <p:random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466200"/>
            <a:ext cx="800100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2.2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Five Forces of Competition Model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44784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46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009880" y="1181160"/>
            <a:ext cx="5124240" cy="51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62029-DB65-48F6-B542-4E9F68C605E6}" type="slidenum">
              <a:t>19</a:t>
            </a:fld>
          </a:p>
        </p:txBody>
      </p:sp>
    </p:spTree>
  </p:cSld>
  <p:transition>
    <p:random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spcBef>
                <a:spcPts val="60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importance of analyzing and understanding the firm’s external environment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3680" indent="-463680">
              <a:spcBef>
                <a:spcPts val="60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nd describe the general environment and the industry environment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3680" indent="-463680">
              <a:spcBef>
                <a:spcPts val="60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four activities of the external environmental analysis proces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3680" indent="-463680">
              <a:spcBef>
                <a:spcPts val="60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 and describe the general environment’s six segment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3680" indent="-463680">
              <a:spcBef>
                <a:spcPts val="60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five competitive forces and explain how they determine an industry’s profit potential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B008D-CDCE-4630-AD94-F59728FBADED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reat of New Entrants: Barriers to Entr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conomies of scal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oduct differenti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apital requirement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witching cost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ccess to distribution channel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st disadvantages independent of scal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overnment polic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xpected retali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D7AD1-B990-4F10-B4A4-C33D3ED0B851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00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5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25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3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35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40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arriers to Entr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conomies of Scal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ginal improvements in efficiency that a firm experiences as it incrementally increases its siz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actors (advantages and disadvantages) related to large- and small-scale entr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lexibility in pricing and market sha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sts related to scale econom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tor retali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C55E6-7841-4D73-9982-4C94175B7E1F}" type="slidenum">
              <a:t>21</a:t>
            </a:fld>
          </a:p>
        </p:txBody>
      </p:sp>
    </p:spTree>
  </p:cSld>
  <p:transition>
    <p:random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arriers to Entr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roduct differentiatio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Unique product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Customer loyalty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ducts at competitive pric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apital Requirement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hysical faciliti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Inventori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Marketing activiti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Availability of capital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343040" y="1219320"/>
            <a:ext cx="43434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8640" indent="-27864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witching Cost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One-time costs customers incur when they buy from a different supplier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raining employ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ychic costs of ending a relation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8640" indent="-27864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ccess to Distribution Channel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tocking or shelf space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ice break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Cooperative advertising allowanc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F7B68-0E93-46F3-9C7A-98B80FBC3FFB}" type="slidenum">
              <a:t>22</a:t>
            </a:fld>
          </a:p>
        </p:txBody>
      </p:sp>
    </p:spTree>
  </p:cSld>
  <p:transition>
    <p:random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000"/>
                            </p:stCondLst>
                            <p:childTnLst>
                              <p:par>
                                <p:cTn id="5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500"/>
                            </p:stCondLst>
                            <p:childTnLst>
                              <p:par>
                                <p:cTn id="5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arriers to Entr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ost Disadvantages Independent of Scal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prietary product technology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Favorable access to raw material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esirable location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Government policy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Licensing and permit requirement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eregulation of industri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Expected retaliatio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Responses by existing competitors may depend on a firm’s present stake in the industry (available business options)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290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11106-CFF0-42C1-BC58-C9B204D9FE14}" type="slidenum">
              <a:t>23</a:t>
            </a:fld>
          </a:p>
        </p:txBody>
      </p:sp>
    </p:spTree>
  </p:cSld>
  <p:transition>
    <p:random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000"/>
                            </p:stCondLst>
                            <p:childTnLst>
                              <p:par>
                                <p:cTn id="5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500"/>
                            </p:stCondLst>
                            <p:childTnLst>
                              <p:par>
                                <p:cTn id="5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500"/>
                            </p:stCondLst>
                            <p:childTnLst>
                              <p:par>
                                <p:cTn id="6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argaining Power of Suppli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upplier power increases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 are large and few in numb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itable substitute products are not availabl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dividual buyers are not large customers of suppliers and there are many of the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’ goods are critical to the buyers’ marketplace succ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’ products create high switching cos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 pose a threat to integrate forward into buyers’ industr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BC8F7-1DCD-4B28-800B-55F651985E3A}" type="slidenum">
              <a:t>24</a:t>
            </a:fld>
          </a:p>
        </p:txBody>
      </p:sp>
    </p:spTree>
  </p:cSld>
  <p:transition>
    <p:random/>
  </p:transition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argaining Power of Buy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Buyer power increases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 are large and few in numb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 purchase a large portion of an industry’s total outpu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’ purchases are a significant portion of a supplier’s annual revenu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’ switching costs are low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 can pose threat to integrate backward into the sellers’ industr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B08B2-3564-406E-B8A8-DD8512610B98}" type="slidenum">
              <a:t>25</a:t>
            </a:fld>
          </a:p>
        </p:txBody>
      </p:sp>
    </p:spTree>
  </p:cSld>
  <p:transition>
    <p:random/>
  </p:transition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0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reat of Substitute Product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threat of substitute products increases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 face few switching cos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substitute product’s price is low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bstitute product’s quality and performance are equal to or greater than the existing produc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fferentiated industry products that are valued by customers reduce this threa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F4165-54D9-46CE-882A-3EC541F9C68C}" type="slidenum">
              <a:t>26</a:t>
            </a:fld>
          </a:p>
        </p:txBody>
      </p:sp>
    </p:spTree>
  </p:cSld>
  <p:transition>
    <p:random/>
  </p:transition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0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nsity of Rivalry Among Competito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dustry rivalry increases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re are numerous or equally balanced competit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dustry growth slows or declin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re are high fixed costs or high storage cos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re is a lack of differentiation opportunities or low switching cos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hen the strategic stakes are high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hen high exit barriers prevent competitors from leaving the industr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F2679-EBA3-4804-B497-01DD1014549C}" type="slidenum">
              <a:t>27</a:t>
            </a:fld>
          </a:p>
        </p:txBody>
      </p:sp>
    </p:spTree>
  </p:cSld>
  <p:transition>
    <p:random/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0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971640" y="1606680"/>
            <a:ext cx="29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entry b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preting Industry Analys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4871880" y="2633760"/>
            <a:ext cx="3538440" cy="2000160"/>
            <a:chOff x="4871880" y="2633760"/>
            <a:chExt cx="3538440" cy="2000160"/>
          </a:xfrm>
        </p:grpSpPr>
        <p:sp>
          <p:nvSpPr>
            <p:cNvPr id="170" name=""/>
            <p:cNvSpPr/>
            <p:nvPr/>
          </p:nvSpPr>
          <p:spPr>
            <a:xfrm>
              <a:off x="4871880" y="2633760"/>
              <a:ext cx="3538440" cy="200016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974840" y="2754360"/>
              <a:ext cx="3330720" cy="1758960"/>
            </a:xfrm>
            <a:prstGeom prst="ellipse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Tahoma"/>
                </a:rPr>
                <a:t>Unattractive</a:t>
              </a:r>
              <a:br>
                <a:rPr sz="3200"/>
              </a:br>
              <a:r>
                <a:rPr b="0" lang="en-US" sz="3200" spc="-1" strike="noStrike">
                  <a:solidFill>
                    <a:srgbClr val="ffffcc"/>
                  </a:solidFill>
                  <a:latin typeface="Tahoma"/>
                </a:rPr>
                <a:t>Indust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609480" y="2414520"/>
            <a:ext cx="32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iers and buyers have strong po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43040" y="3618000"/>
            <a:ext cx="28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ong threats from substitute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309680" y="4773600"/>
            <a:ext cx="28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nse rivalry among compet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027760" y="4956120"/>
            <a:ext cx="32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Low profit pot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86320" y="1935000"/>
            <a:ext cx="1761840" cy="1017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592440" y="2865600"/>
            <a:ext cx="138420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3568680" y="3735000"/>
            <a:ext cx="1314360" cy="352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3603600" y="4167000"/>
            <a:ext cx="1552680" cy="896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3FF2E-80B7-409D-AE5C-4F12B5464BB8}" type="slidenum">
              <a:t>28</a:t>
            </a:fld>
          </a:p>
        </p:txBody>
      </p:sp>
    </p:spTree>
  </p:cSld>
  <p:transition>
    <p:random/>
  </p:transition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0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500"/>
                            </p:stCondLst>
                            <p:childTnLst>
                              <p:par>
                                <p:cTn id="7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500"/>
                            </p:stCondLst>
                            <p:childTnLst>
                              <p:par>
                                <p:cTn id="7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500"/>
                            </p:stCondLst>
                            <p:childTnLst>
                              <p:par>
                                <p:cTn id="7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500"/>
                            </p:stCondLst>
                            <p:childTnLst>
                              <p:par>
                                <p:cTn id="8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1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preting Industry Analys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4871880" y="2637000"/>
            <a:ext cx="3538440" cy="2000160"/>
            <a:chOff x="4871880" y="2637000"/>
            <a:chExt cx="3538440" cy="2000160"/>
          </a:xfrm>
        </p:grpSpPr>
        <p:sp>
          <p:nvSpPr>
            <p:cNvPr id="182" name=""/>
            <p:cNvSpPr/>
            <p:nvPr/>
          </p:nvSpPr>
          <p:spPr>
            <a:xfrm>
              <a:off x="4871880" y="2637000"/>
              <a:ext cx="3538440" cy="20001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974840" y="2757600"/>
              <a:ext cx="3330720" cy="175896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Tahoma"/>
                </a:rPr>
                <a:t>Attractive</a:t>
              </a:r>
              <a:br>
                <a:rPr sz="3200"/>
              </a:br>
              <a:r>
                <a:rPr b="0" lang="en-US" sz="3200" spc="-1" strike="noStrike">
                  <a:solidFill>
                    <a:srgbClr val="ffffcc"/>
                  </a:solidFill>
                  <a:latin typeface="Tahoma"/>
                </a:rPr>
                <a:t>Indust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880920" y="1600200"/>
            <a:ext cx="28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entry b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1120" y="2394000"/>
            <a:ext cx="32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iers and buyers have weak po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42840" y="3749760"/>
            <a:ext cx="28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 threats from substitute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262160" y="4740120"/>
            <a:ext cx="28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rivalry among compet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027760" y="4959360"/>
            <a:ext cx="32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High profit pot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586320" y="1938240"/>
            <a:ext cx="1761840" cy="1017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18000" y="2868480"/>
            <a:ext cx="138420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3568680" y="3738240"/>
            <a:ext cx="1314360" cy="352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45000" y="4208400"/>
            <a:ext cx="1552320" cy="897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CB85B-6E46-45D3-BE77-B6699B694755}" type="slidenum">
              <a:t>29</a:t>
            </a:fld>
          </a:p>
        </p:txBody>
      </p:sp>
    </p:spTree>
  </p:cSld>
  <p:transition>
    <p:random/>
  </p:transition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0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500"/>
                            </p:stCondLst>
                            <p:childTnLst>
                              <p:par>
                                <p:cTn id="8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500"/>
                            </p:stCondLst>
                            <p:childTnLst>
                              <p:par>
                                <p:cTn id="8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500"/>
                            </p:stCondLst>
                            <p:childTnLst>
                              <p:par>
                                <p:cTn id="8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500"/>
                            </p:stCondLst>
                            <p:childTnLst>
                              <p:par>
                                <p:cTn id="8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1000"/>
                            </p:stCondLst>
                            <p:childTnLst>
                              <p:par>
                                <p:cTn id="859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51814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904760"/>
            <a:ext cx="822960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spcBef>
                <a:spcPts val="1500"/>
              </a:spcBef>
              <a:buClr>
                <a:srgbClr val="0066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rategic groups and describe their influence on the firm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3680" indent="-463680">
              <a:spcBef>
                <a:spcPts val="1500"/>
              </a:spcBef>
              <a:buClr>
                <a:srgbClr val="0066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what firms need to know about their competitors and different methods (including ethical standards) used to collect intelligence about them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960" y="104472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76BE5-E8C9-47DF-B3F5-8E8E44D9270B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Group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Group Define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set of firms emphasizing similar strategic dimensions and using similar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l competition between strategic group firms is greater than between firms outside that strategic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more heterogeneity in the performance of firms within strategic grou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66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Similar market positions</a:t>
            </a:r>
            <a:endParaRPr b="0" lang="en-US" sz="2400" spc="-1" strike="noStrike">
              <a:solidFill>
                <a:srgbClr val="6666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66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Similar products</a:t>
            </a:r>
            <a:endParaRPr b="0" lang="en-US" sz="2400" spc="-1" strike="noStrike">
              <a:solidFill>
                <a:srgbClr val="6666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66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Similar strategic actions</a:t>
            </a:r>
            <a:endParaRPr b="0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D4875-A2E4-46F5-B502-2202349BEB5A}" type="slidenum">
              <a:t>30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500"/>
                            </p:stCondLst>
                            <p:childTnLst>
                              <p:par>
                                <p:cTn id="8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8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1" dur="5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4" dur="5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500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Group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Dimension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tent of technological leadership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qual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icing Polic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stribution channe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ustomer servic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07988-12E9-44E7-AD96-4D9FCC14ADA1}" type="slidenum">
              <a:t>31</a:t>
            </a:fld>
          </a:p>
        </p:txBody>
      </p:sp>
    </p:spTree>
  </p:cSld>
  <p:transition>
    <p:random/>
  </p:transition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0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9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4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9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4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9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4" dur="5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petitor Intelligenc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ethical gathering of needed information and data that provides insight into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etitor’s direction (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future objective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etitor’s capabilities and intentions (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current strateg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etitor’s beliefs about the industry (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i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assump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etitor’s 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cap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E93D3-8554-4097-B177-7E8A6939FB2A}" type="slidenum">
              <a:t>32</a:t>
            </a:fld>
          </a:p>
        </p:txBody>
      </p:sp>
    </p:spTree>
  </p:cSld>
  <p:transition>
    <p:random/>
  </p:transition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fill="hold">
                      <p:stCondLst>
                        <p:cond delay="0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6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1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6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1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6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1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8324640" cy="5607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6324480" y="457200"/>
            <a:ext cx="2156040" cy="153828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934320" y="597960"/>
            <a:ext cx="1752480" cy="1343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2.2</a:t>
            </a:r>
            <a:r>
              <a:rPr b="1" i="1" lang="en-US" sz="1200" spc="-1" strike="noStrike">
                <a:solidFill>
                  <a:srgbClr val="cc6600"/>
                </a:solidFill>
                <a:latin typeface="Tahoma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etitor Analysis Component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>
            <a:off x="6781680" y="622440"/>
            <a:ext cx="0" cy="47916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553080" y="92880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9D68A-85AB-4ABA-90AF-4332577CB5C5}" type="slidenum">
              <a:t>33</a:t>
            </a:fld>
          </a:p>
        </p:txBody>
      </p:sp>
    </p:spTree>
  </p:cSld>
  <p:transition>
    <p:random/>
  </p:transition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0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4419720" y="1600200"/>
            <a:ext cx="3916080" cy="26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w do our goals compare with our competitors’ goa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ere will the emphasis be placed in the fu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at is the attitude toward ris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561960" y="1492200"/>
            <a:ext cx="3400200" cy="932040"/>
            <a:chOff x="561960" y="1492200"/>
            <a:chExt cx="3400200" cy="932040"/>
          </a:xfrm>
        </p:grpSpPr>
        <p:sp>
          <p:nvSpPr>
            <p:cNvPr id="207" name=""/>
            <p:cNvSpPr/>
            <p:nvPr/>
          </p:nvSpPr>
          <p:spPr>
            <a:xfrm>
              <a:off x="561960" y="1492200"/>
              <a:ext cx="3400200" cy="932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89400" y="1595520"/>
              <a:ext cx="3144960" cy="7239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Future Obj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3962520" y="1523880"/>
            <a:ext cx="838080" cy="2895840"/>
          </a:xfrm>
          <a:custGeom>
            <a:avLst/>
            <a:gdLst>
              <a:gd name="textAreaLeft" fmla="*/ 535320 w 838080"/>
              <a:gd name="textAreaRight" fmla="*/ 838440 w 838080"/>
              <a:gd name="textAreaTop" fmla="*/ 1440 h 2895840"/>
              <a:gd name="textAreaBottom" fmla="*/ 2894400 h 289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"/>
                  <a:pt x="10800" y="42"/>
                </a:cubicBezTo>
                <a:lnTo>
                  <a:pt x="10800" y="3297"/>
                </a:lnTo>
                <a:cubicBezTo>
                  <a:pt x="10800" y="3318"/>
                  <a:pt x="5400" y="3339"/>
                  <a:pt x="0" y="3339"/>
                </a:cubicBezTo>
                <a:cubicBezTo>
                  <a:pt x="5400" y="3339"/>
                  <a:pt x="10800" y="3360"/>
                  <a:pt x="10800" y="3381"/>
                </a:cubicBezTo>
                <a:lnTo>
                  <a:pt x="10800" y="21558"/>
                </a:lnTo>
                <a:cubicBezTo>
                  <a:pt x="10800" y="2157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EA3C8-5213-4FF8-9ABC-1225126FBB06}" type="slidenum">
              <a:t>34</a:t>
            </a:fld>
          </a:p>
        </p:txBody>
      </p:sp>
    </p:spTree>
  </p:cSld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fill="hold">
                      <p:stCondLst>
                        <p:cond delay="0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8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500"/>
                            </p:stCondLst>
                            <p:childTnLst>
                              <p:par>
                                <p:cTn id="9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4397400" y="2055960"/>
            <a:ext cx="3881520" cy="20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w are we currently compet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oes this strategy support changes in the competitive struc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539640" y="1481040"/>
            <a:ext cx="3422520" cy="932040"/>
            <a:chOff x="539640" y="1481040"/>
            <a:chExt cx="3422520" cy="932040"/>
          </a:xfrm>
        </p:grpSpPr>
        <p:sp>
          <p:nvSpPr>
            <p:cNvPr id="213" name=""/>
            <p:cNvSpPr/>
            <p:nvPr/>
          </p:nvSpPr>
          <p:spPr>
            <a:xfrm>
              <a:off x="539640" y="148104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67800" y="1584360"/>
              <a:ext cx="3165840" cy="7239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uture Obj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539640" y="2496960"/>
            <a:ext cx="3422520" cy="932040"/>
            <a:chOff x="539640" y="2496960"/>
            <a:chExt cx="3422520" cy="932040"/>
          </a:xfrm>
        </p:grpSpPr>
        <p:sp>
          <p:nvSpPr>
            <p:cNvPr id="216" name=""/>
            <p:cNvSpPr/>
            <p:nvPr/>
          </p:nvSpPr>
          <p:spPr>
            <a:xfrm>
              <a:off x="539640" y="249696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68520" y="26002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Current Strate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3962520" y="1981080"/>
            <a:ext cx="838080" cy="2133720"/>
          </a:xfrm>
          <a:custGeom>
            <a:avLst/>
            <a:gdLst>
              <a:gd name="textAreaLeft" fmla="*/ 535320 w 838080"/>
              <a:gd name="textAreaRight" fmla="*/ 838440 w 838080"/>
              <a:gd name="textAreaTop" fmla="*/ 1080 h 2133720"/>
              <a:gd name="textAreaBottom" fmla="*/ 213264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"/>
                  <a:pt x="10800" y="42"/>
                </a:cubicBezTo>
                <a:lnTo>
                  <a:pt x="10800" y="9938"/>
                </a:lnTo>
                <a:cubicBezTo>
                  <a:pt x="10800" y="9959"/>
                  <a:pt x="5400" y="9980"/>
                  <a:pt x="0" y="9980"/>
                </a:cubicBezTo>
                <a:cubicBezTo>
                  <a:pt x="5400" y="9980"/>
                  <a:pt x="10800" y="10001"/>
                  <a:pt x="10800" y="10022"/>
                </a:cubicBezTo>
                <a:lnTo>
                  <a:pt x="10800" y="21558"/>
                </a:lnTo>
                <a:cubicBezTo>
                  <a:pt x="10800" y="2157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68B7D-8CF0-46D7-9351-FB2870CDA802}" type="slidenum">
              <a:t>35</a:t>
            </a:fld>
          </a:p>
        </p:txBody>
      </p:sp>
    </p:spTree>
  </p:cSld>
  <p:timing>
    <p:tnLst>
      <p:par>
        <p:cTn id="994" dur="indefinite" restart="never" nodeType="tmRoot">
          <p:childTnLst>
            <p:seq>
              <p:cTn id="995" dur="indefinite" nodeType="mainSeq">
                <p:childTnLst>
                  <p:par>
                    <p:cTn id="996" fill="hold">
                      <p:stCondLst>
                        <p:cond delay="0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0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4427640" y="2514600"/>
            <a:ext cx="39164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o we assume the future will be volati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re we operating under a status qu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at assumptions do our competitors hold about the industry and themselv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533520" y="1486080"/>
            <a:ext cx="3422160" cy="931680"/>
            <a:chOff x="533520" y="1486080"/>
            <a:chExt cx="3422160" cy="931680"/>
          </a:xfrm>
        </p:grpSpPr>
        <p:sp>
          <p:nvSpPr>
            <p:cNvPr id="222" name=""/>
            <p:cNvSpPr/>
            <p:nvPr/>
          </p:nvSpPr>
          <p:spPr>
            <a:xfrm>
              <a:off x="533520" y="1486080"/>
              <a:ext cx="3422160" cy="9316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61680" y="1589040"/>
              <a:ext cx="3165480" cy="72360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uture Obj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39640" y="2496960"/>
            <a:ext cx="3422520" cy="932040"/>
            <a:chOff x="539640" y="2496960"/>
            <a:chExt cx="3422520" cy="932040"/>
          </a:xfrm>
        </p:grpSpPr>
        <p:sp>
          <p:nvSpPr>
            <p:cNvPr id="225" name=""/>
            <p:cNvSpPr/>
            <p:nvPr/>
          </p:nvSpPr>
          <p:spPr>
            <a:xfrm>
              <a:off x="539640" y="249696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68520" y="26002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urrent Strate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533520" y="3519360"/>
            <a:ext cx="3422160" cy="932040"/>
            <a:chOff x="533520" y="3519360"/>
            <a:chExt cx="3422160" cy="932040"/>
          </a:xfrm>
        </p:grpSpPr>
        <p:sp>
          <p:nvSpPr>
            <p:cNvPr id="228" name=""/>
            <p:cNvSpPr/>
            <p:nvPr/>
          </p:nvSpPr>
          <p:spPr>
            <a:xfrm>
              <a:off x="533520" y="3519360"/>
              <a:ext cx="3422160" cy="93204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2040" y="36226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Assump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3962520" y="2514600"/>
            <a:ext cx="838080" cy="3124080"/>
          </a:xfrm>
          <a:custGeom>
            <a:avLst/>
            <a:gdLst>
              <a:gd name="textAreaLeft" fmla="*/ 535320 w 838080"/>
              <a:gd name="textAreaRight" fmla="*/ 838440 w 838080"/>
              <a:gd name="textAreaTop" fmla="*/ 1800 h 3124080"/>
              <a:gd name="textAreaBottom" fmla="*/ 3122280 h 312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"/>
                  <a:pt x="10800" y="42"/>
                </a:cubicBezTo>
                <a:lnTo>
                  <a:pt x="10800" y="10140"/>
                </a:lnTo>
                <a:cubicBezTo>
                  <a:pt x="10800" y="10161"/>
                  <a:pt x="5400" y="10182"/>
                  <a:pt x="0" y="10182"/>
                </a:cubicBezTo>
                <a:cubicBezTo>
                  <a:pt x="5400" y="10182"/>
                  <a:pt x="10800" y="10203"/>
                  <a:pt x="10800" y="10224"/>
                </a:cubicBezTo>
                <a:lnTo>
                  <a:pt x="10800" y="21558"/>
                </a:lnTo>
                <a:cubicBezTo>
                  <a:pt x="10800" y="2157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474F4-5B2A-4F84-9151-F2730D76BA55}" type="slidenum">
              <a:t>36</a:t>
            </a:fld>
          </a:p>
        </p:txBody>
      </p:sp>
    </p:spTree>
  </p:cSld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fill="hold">
                      <p:stCondLst>
                        <p:cond delay="0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1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500"/>
                            </p:stCondLst>
                            <p:childTnLst>
                              <p:par>
                                <p:cTn id="10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>
            <a:off x="4438800" y="3962520"/>
            <a:ext cx="39211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at are our strengths and weakn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w do we rate compared to our competit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539640" y="1481040"/>
            <a:ext cx="3422520" cy="932040"/>
            <a:chOff x="539640" y="1481040"/>
            <a:chExt cx="3422520" cy="932040"/>
          </a:xfrm>
        </p:grpSpPr>
        <p:sp>
          <p:nvSpPr>
            <p:cNvPr id="234" name=""/>
            <p:cNvSpPr/>
            <p:nvPr/>
          </p:nvSpPr>
          <p:spPr>
            <a:xfrm>
              <a:off x="539640" y="148104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67800" y="1584360"/>
              <a:ext cx="3165840" cy="7239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uture Obj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539640" y="2496960"/>
            <a:ext cx="3422520" cy="932040"/>
            <a:chOff x="539640" y="2496960"/>
            <a:chExt cx="3422520" cy="932040"/>
          </a:xfrm>
        </p:grpSpPr>
        <p:sp>
          <p:nvSpPr>
            <p:cNvPr id="237" name=""/>
            <p:cNvSpPr/>
            <p:nvPr/>
          </p:nvSpPr>
          <p:spPr>
            <a:xfrm>
              <a:off x="539640" y="249696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68520" y="26002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urrent Strate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533520" y="3519360"/>
            <a:ext cx="3422160" cy="932040"/>
            <a:chOff x="533520" y="3519360"/>
            <a:chExt cx="3422160" cy="932040"/>
          </a:xfrm>
        </p:grpSpPr>
        <p:sp>
          <p:nvSpPr>
            <p:cNvPr id="240" name=""/>
            <p:cNvSpPr/>
            <p:nvPr/>
          </p:nvSpPr>
          <p:spPr>
            <a:xfrm>
              <a:off x="533520" y="3519360"/>
              <a:ext cx="3422160" cy="93204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62040" y="36226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ssump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533520" y="4540320"/>
            <a:ext cx="3422160" cy="931680"/>
            <a:chOff x="533520" y="4540320"/>
            <a:chExt cx="3422160" cy="931680"/>
          </a:xfrm>
        </p:grpSpPr>
        <p:sp>
          <p:nvSpPr>
            <p:cNvPr id="243" name=""/>
            <p:cNvSpPr/>
            <p:nvPr/>
          </p:nvSpPr>
          <p:spPr>
            <a:xfrm>
              <a:off x="533520" y="4540320"/>
              <a:ext cx="3422160" cy="93168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462f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62040" y="4643280"/>
              <a:ext cx="3165120" cy="723600"/>
            </a:xfrm>
            <a:prstGeom prst="rect">
              <a:avLst/>
            </a:prstGeom>
            <a:gradFill rotWithShape="0">
              <a:gsLst>
                <a:gs pos="0">
                  <a:srgbClr val="462f17"/>
                </a:gs>
                <a:gs pos="100000">
                  <a:srgbClr val="9966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Capabilit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3962520" y="3886200"/>
            <a:ext cx="838080" cy="2133720"/>
          </a:xfrm>
          <a:custGeom>
            <a:avLst/>
            <a:gdLst>
              <a:gd name="textAreaLeft" fmla="*/ 535320 w 838080"/>
              <a:gd name="textAreaRight" fmla="*/ 838440 w 838080"/>
              <a:gd name="textAreaTop" fmla="*/ 1080 h 2133720"/>
              <a:gd name="textAreaBottom" fmla="*/ 213264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"/>
                  <a:pt x="10800" y="42"/>
                </a:cubicBezTo>
                <a:lnTo>
                  <a:pt x="10800" y="11142"/>
                </a:lnTo>
                <a:cubicBezTo>
                  <a:pt x="10800" y="11163"/>
                  <a:pt x="5400" y="11184"/>
                  <a:pt x="0" y="11184"/>
                </a:cubicBezTo>
                <a:cubicBezTo>
                  <a:pt x="5400" y="11184"/>
                  <a:pt x="10800" y="11205"/>
                  <a:pt x="10800" y="11226"/>
                </a:cubicBezTo>
                <a:lnTo>
                  <a:pt x="10800" y="21558"/>
                </a:lnTo>
                <a:cubicBezTo>
                  <a:pt x="10800" y="2157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420CB-922A-4799-95A7-B251E80AEA16}" type="slidenum">
              <a:t>37</a:t>
            </a:fld>
          </a:p>
        </p:txBody>
      </p:sp>
    </p:spTree>
  </p:cSld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fill="hold">
                      <p:stCondLst>
                        <p:cond delay="0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3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500"/>
                            </p:stCondLst>
                            <p:childTnLst>
                              <p:par>
                                <p:cTn id="10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2514600"/>
            <a:ext cx="3619440" cy="36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at will our competitors do in the fu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ere do we hold an advantage over our competit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w will this change our relationship with our competit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091120" y="1447920"/>
            <a:ext cx="3002040" cy="931680"/>
            <a:chOff x="5091120" y="1447920"/>
            <a:chExt cx="3002040" cy="931680"/>
          </a:xfrm>
        </p:grpSpPr>
        <p:sp>
          <p:nvSpPr>
            <p:cNvPr id="249" name=""/>
            <p:cNvSpPr/>
            <p:nvPr/>
          </p:nvSpPr>
          <p:spPr>
            <a:xfrm>
              <a:off x="5091120" y="1447920"/>
              <a:ext cx="3002040" cy="93168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03800" y="1550880"/>
              <a:ext cx="2776680" cy="723600"/>
            </a:xfrm>
            <a:prstGeom prst="rect">
              <a:avLst/>
            </a:prstGeom>
            <a:gradFill rotWithShape="0">
              <a:gsLst>
                <a:gs pos="0">
                  <a:srgbClr val="754617"/>
                </a:gs>
                <a:gs pos="100000">
                  <a:srgbClr val="ff99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Respon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3948120" y="1709640"/>
            <a:ext cx="1143360" cy="3242520"/>
            <a:chOff x="3948120" y="1709640"/>
            <a:chExt cx="1143360" cy="3242520"/>
          </a:xfrm>
        </p:grpSpPr>
        <p:cxnSp>
          <p:nvCxnSpPr>
            <p:cNvPr id="252" name=""/>
            <p:cNvCxnSpPr/>
            <p:nvPr/>
          </p:nvCxnSpPr>
          <p:spPr>
            <a:xfrm flipV="1">
              <a:off x="3951360" y="2154960"/>
              <a:ext cx="1140480" cy="2797560"/>
            </a:xfrm>
            <a:prstGeom prst="bentConnector3">
              <a:avLst>
                <a:gd name="adj1" fmla="val 39090"/>
              </a:avLst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</p:cxnSp>
        <p:cxnSp>
          <p:nvCxnSpPr>
            <p:cNvPr id="253" name=""/>
            <p:cNvCxnSpPr/>
            <p:nvPr/>
          </p:nvCxnSpPr>
          <p:spPr>
            <a:xfrm flipV="1">
              <a:off x="3951360" y="2004480"/>
              <a:ext cx="1140480" cy="1896840"/>
            </a:xfrm>
            <a:prstGeom prst="bentConnector3">
              <a:avLst>
                <a:gd name="adj1" fmla="val 27123"/>
              </a:avLst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</p:cxnSp>
        <p:cxnSp>
          <p:nvCxnSpPr>
            <p:cNvPr id="254" name=""/>
            <p:cNvCxnSpPr/>
            <p:nvPr/>
          </p:nvCxnSpPr>
          <p:spPr>
            <a:xfrm flipV="1">
              <a:off x="3951360" y="1866600"/>
              <a:ext cx="1140480" cy="995400"/>
            </a:xfrm>
            <a:prstGeom prst="bentConnector3">
              <a:avLst>
                <a:gd name="adj1" fmla="val 15219"/>
              </a:avLst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</p:cxnSp>
        <p:sp>
          <p:nvSpPr>
            <p:cNvPr id="255" name=""/>
            <p:cNvSpPr/>
            <p:nvPr/>
          </p:nvSpPr>
          <p:spPr>
            <a:xfrm>
              <a:off x="3948120" y="1709640"/>
              <a:ext cx="1140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539640" y="1481040"/>
            <a:ext cx="3422520" cy="932040"/>
            <a:chOff x="539640" y="1481040"/>
            <a:chExt cx="3422520" cy="932040"/>
          </a:xfrm>
        </p:grpSpPr>
        <p:sp>
          <p:nvSpPr>
            <p:cNvPr id="257" name=""/>
            <p:cNvSpPr/>
            <p:nvPr/>
          </p:nvSpPr>
          <p:spPr>
            <a:xfrm>
              <a:off x="539640" y="148104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67800" y="1584360"/>
              <a:ext cx="3165840" cy="7239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uture Obj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539640" y="2496960"/>
            <a:ext cx="3422520" cy="932040"/>
            <a:chOff x="539640" y="2496960"/>
            <a:chExt cx="3422520" cy="932040"/>
          </a:xfrm>
        </p:grpSpPr>
        <p:sp>
          <p:nvSpPr>
            <p:cNvPr id="260" name=""/>
            <p:cNvSpPr/>
            <p:nvPr/>
          </p:nvSpPr>
          <p:spPr>
            <a:xfrm>
              <a:off x="539640" y="249696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68520" y="26002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urrent Strate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533520" y="3519360"/>
            <a:ext cx="3422160" cy="932040"/>
            <a:chOff x="533520" y="3519360"/>
            <a:chExt cx="3422160" cy="932040"/>
          </a:xfrm>
        </p:grpSpPr>
        <p:sp>
          <p:nvSpPr>
            <p:cNvPr id="263" name=""/>
            <p:cNvSpPr/>
            <p:nvPr/>
          </p:nvSpPr>
          <p:spPr>
            <a:xfrm>
              <a:off x="533520" y="3519360"/>
              <a:ext cx="3422160" cy="93204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62040" y="36226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ssump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533520" y="4538520"/>
            <a:ext cx="3422160" cy="932040"/>
            <a:chOff x="533520" y="4538520"/>
            <a:chExt cx="3422160" cy="932040"/>
          </a:xfrm>
        </p:grpSpPr>
        <p:sp>
          <p:nvSpPr>
            <p:cNvPr id="266" name=""/>
            <p:cNvSpPr/>
            <p:nvPr/>
          </p:nvSpPr>
          <p:spPr>
            <a:xfrm>
              <a:off x="533520" y="4538520"/>
              <a:ext cx="3422160" cy="93204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462f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62040" y="464184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462f17"/>
                </a:gs>
                <a:gs pos="100000">
                  <a:srgbClr val="9966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apabilit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7CBE9-EDB3-46FD-B87C-69A152648DA9}" type="slidenum">
              <a:t>38</a:t>
            </a:fld>
          </a:p>
        </p:txBody>
      </p:sp>
    </p:spTree>
  </p:cSld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fill="hold">
                      <p:stCondLst>
                        <p:cond delay="0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4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500"/>
                            </p:stCondLst>
                            <p:childTnLst>
                              <p:par>
                                <p:cTn id="10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lemento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plementor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network of companies that sell complementary products or services or are compatible with the focal firm’s own product or servi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complementor’s product or service adds value to the sale of the focal firm’s product or service, it is likely to create value for the focal fi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if a complementor’s product or service is in a market into which the focal firm intends to expand, the complementor can represent a formidable competi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464C2-693A-4BC3-87F6-794DD1953C92}" type="slidenum">
              <a:t>39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479520"/>
            <a:ext cx="800100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2.1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xternal Environment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49536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06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523880" y="1295280"/>
            <a:ext cx="6324840" cy="5059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65133-DBAB-455F-97DF-EC4052EF93AB}" type="slidenum">
              <a:t>4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thical Consideratio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actices considered both legal and ethical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btaining publicly available inform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ttending trade fairs and shows to obtain competitors’ brochures, view their exhibits, and listen to discussions about their produc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actices considered both unethical and illegal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lackmai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respassing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avesdropping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ealing drawings, samples, or docume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F8F33-E701-43B2-9331-3FE25E4CDAE0}" type="slidenum">
              <a:t>40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eneral Environmen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mensions in the broader society that influence an industry and the firms within it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mographic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conomic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litical/leg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ociocultur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ic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lob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9F13A-DBBE-47BE-9981-5707FFEC6663}" type="slidenum">
              <a:t>5</a:t>
            </a:fld>
          </a:p>
        </p:txBody>
      </p:sp>
    </p:spTree>
  </p:cSld>
  <p:transition>
    <p:random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5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560" y="426600"/>
            <a:ext cx="838188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1941480" indent="0">
              <a:buNone/>
              <a:tabLst>
                <a:tab algn="l" pos="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2.1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General Environment: Segments and Element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80880" y="1143000"/>
            <a:ext cx="8382240" cy="516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6C422-6C6A-4FA8-AB86-97EB000FBC04}" type="slidenum">
              <a:t>6</a:t>
            </a:fld>
          </a:p>
        </p:txBody>
      </p:sp>
    </p:spTree>
  </p:cSld>
  <p:transition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y Environmen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set of factors directly influencing a firm and its competitive actions and competitive respons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reat of new entra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wer of suppli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wer of buy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reat of product substitu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nsity of rivalry among competito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025E9-9D09-449E-AABC-EA2933D2D8C3}" type="slidenum">
              <a:t>7</a:t>
            </a:fld>
          </a:p>
        </p:txBody>
      </p:sp>
    </p:spTree>
  </p:cSld>
  <p:transition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8769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athering and interpreting information about all of the companies that the firm competes agains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nderstanding the firm’s competitor environment complements the insights provided by studying the general and industry environment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486400" y="1343160"/>
            <a:ext cx="3124080" cy="338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66B1C-0FAE-46D3-AAB1-96629ED0221B}" type="slidenum">
              <a:t>8</a:t>
            </a:fld>
          </a:p>
        </p:txBody>
      </p:sp>
    </p:spTree>
  </p:cSld>
  <p:transition>
    <p:random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nalysis of the External Environment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eneral environ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d on the fu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dustry environ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d on factors and conditions influencing a firm’s profitability within an indus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petitor environ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d on predicting the dynamics of competitors’ actions, responses and inten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EE5A8-7387-49AF-A41F-6F75DD56B7D5}" type="slidenum">
              <a:t>9</a:t>
            </a:fld>
          </a:p>
        </p:txBody>
      </p:sp>
    </p:spTree>
  </p:cSld>
  <p:transition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University of West Alabama</dc:creator>
  <dc:description/>
  <dc:language>en-US</dc:language>
  <cp:lastModifiedBy>dii</cp:lastModifiedBy>
  <dcterms:modified xsi:type="dcterms:W3CDTF">2007-06-12T13:34:20Z</dcterms:modified>
  <cp:revision>44</cp:revision>
  <dc:subject>Chapter 2</dc:subject>
  <dc:title>Strategic Management 7e.</dc:title>
</cp:coreProperties>
</file>