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16.pct" ContentType="image/x-pict"/>
  <Override PartName="/ppt/media/image14.pct" ContentType="image/x-pict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ct" ContentType="image/x-pict"/>
  <Override PartName="/ppt/media/image13.png" ContentType="image/png"/>
  <Override PartName="/ppt/media/image6.png" ContentType="image/png"/>
  <Override PartName="/ppt/media/image9.pct" ContentType="image/x-pict"/>
  <Override PartName="/ppt/media/image11.png" ContentType="image/png"/>
  <Override PartName="/ppt/media/image7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F86B-F231-4B1A-8416-BEE1E649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AE9-9C99-411C-8455-04D6ED73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DD29-6574-4F3B-8733-3717C1EFF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8288-FF00-4BD1-983C-424BEFB97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E022-2700-4A40-9EAA-744DC4702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8976-D210-4887-A0F1-AFB861EC7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7D10-3A51-45A9-850A-78FD72F1B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F4A9-C388-49CB-B080-64BF74371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1707-E9F1-4545-A985-666559593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C8A5-C5AB-444B-B46E-00DCE7A72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D738E-A989-4106-859D-3D2761E55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7112-1C72-40BA-83EA-C28526FCB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0CEC-8158-4DD0-865A-2FD7D8401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6ECD-4FDE-41F1-B44B-B6ACA2B8F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3D48B15D-4469-4FC0-B20A-D74C387B6EA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7075-E003-4EF3-9842-7B77513861BE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02C9-148B-4003-8509-1D06EBACC71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7309-F221-49D9-9797-3CAADFEDC190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1A44-1EC0-4575-87D4-92041F57D00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252B-36E3-4A70-9AAC-41775C53AE43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499A-C9FD-4DE9-A75F-D03555CB86F5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808EC-9BDB-4A78-9507-D84D42344D7F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BADB-81EE-4F91-BC3C-BB829807F82A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382D-F440-405F-84A8-C765D13799B4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DEE35-B514-4231-A2CE-DEBBBF8C6C84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AAD9-3967-4B7B-B769-4FE4969F25C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BA2B-2D5B-420A-987E-0891530161B8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292E-90F0-4C81-A1C1-E840AAE181B6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FBF2-13D6-4ACB-BE9B-22E9817D62AD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29DA-F073-45CA-A3F1-48EC0E0BF06A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30DC-5307-4F8B-9917-EE6946443C5A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2E2B-EE96-48B1-9AAA-7AC9CEDA00D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505F-107D-453F-90B6-7970EF56AF6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847A-0196-41EE-8A42-8595BDBA1BD0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C3E8-F889-4E4A-9732-D3FC1350D408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BA86D-7812-4A12-9B5E-4944AF395ADA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1B55-DF03-4D7B-85A5-EDDA8FE600C8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7B9D-73B4-41A2-8CDE-4BAA1B93C1F8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80FDF-D09A-462A-843C-A062CDC9CFBF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C3E0-41B2-4735-8A4B-2D8D6D6E200C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5586-AD5A-41EC-946F-B78A78B5347D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2BBE-1EEA-4628-8343-B7BF7BF89845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18BF3-B6F5-4BFD-A53B-78138143761B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0F5E-4135-4B74-8FF9-BE8D6EED5A21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808A6-CC11-4F55-8B30-C8DE59FCE717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77DB1-AD99-48C0-AB30-2C7F9A693060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0CC4-7D9C-4CD0-B9B2-5D1D88203EDA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CED4-6578-4AAF-84BF-7B9D5AEC3D4D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7D86-FE41-4D7F-8D20-20682D341B93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44FF-148A-4D14-8D49-5E63920D097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687E-B179-4783-BB8B-8C5819BABE00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E24E-FE42-419E-BA86-AF0A29144CD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1A8A-DCB8-4C00-BFC0-86418A7FCB48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15CA-C994-4875-ACBD-F76C712B2724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7C76-D392-4270-B644-4294535A378B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5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7F6F-6221-4167-812A-2F6BDCBB7E9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4CF9-DF4D-4550-9D47-4433FCC88052}" type="slidenum">
              <a:t>48</a:t>
            </a:fld>
          </a:p>
        </p:txBody>
      </p:sp>
    </p:spTree>
  </p:cSld>
  <p:transition>
    <p:random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754F-115E-4D6E-B86F-91F4206E0362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B0BF-DF8B-4CE1-9054-AB000A2CA60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BCAE-8B8B-45CA-81C1-2107E034AF80}" type="slidenum">
              <a:t>50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18" presetSubtype="9">
                                  <p:stCondLst>
                                    <p:cond delay="0"/>
                                  </p:stCondLst>
                                  <p:childTnLst>
                                    <p:animEffect filter="strips(upLeft)" transition="out">
                                      <p:cBhvr additive="repl">
                                        <p:cTn id="6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6BEE-C4AE-48B5-A132-EE3E8F394109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3079-01C7-45B2-AD11-32475BE6D12B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9D0B-BF99-4652-8B20-18443E97BADB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2789-DB08-420A-A894-5E8E4C2047AC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825F-5115-4449-B4F7-864BE8E018CD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837C4-33EC-44FB-84CF-78C4DB6C4FEC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5087-D4E2-4F23-8279-46981EBCCD11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mplementing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84C6-40E6-4BB9-B3DD-6D298833A0E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020E6-D480-4B3F-AE72-CB7A6A3DCA44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Luis Zaviezo</cp:lastModifiedBy>
  <dcterms:modified xsi:type="dcterms:W3CDTF">2007-07-11T22:11:52Z</dcterms:modified>
  <cp:revision>54</cp:revision>
  <dc:subject>Chapter 1</dc:subject>
  <dc:title>Strategic Management 7e.</dc:title>
</cp:coreProperties>
</file>