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5172D-4450-4229-961B-746D44CD09D1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8D80B-4375-49BC-8A89-3371D044760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82D-D7CE-4589-A2C5-9433DD07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FBA-3497-422B-88CE-722446FC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77A-769E-4BF3-A850-4F8FF708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9F5-91E6-4D03-8A8D-A0AF5D21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97B-F245-4902-9F9C-21125ED0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653-60B7-488F-AECE-1916AB85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343-4466-4F82-9318-1E511586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57F-DB3D-4D9C-B3A3-43371C21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93A-85C8-488B-B345-58080C62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40D-4321-4C5B-B372-3E8FF317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58C-F391-4CA0-AEF2-34F8ABDF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848-2361-4C32-BBDD-00998145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A6320-AE8E-4A87-AEE6-A18073B45AA1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DE9CD-69B8-4401-B1E8-4129DF50064C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78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5640" y="461916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8200" y="25502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71600" y="2405160"/>
            <a:ext cx="8264520" cy="790200"/>
            <a:chOff x="471600" y="2405160"/>
            <a:chExt cx="8264520" cy="790200"/>
          </a:xfrm>
        </p:grpSpPr>
        <p:sp>
          <p:nvSpPr>
            <p:cNvPr id="91" name="Rectangle 5"/>
            <p:cNvSpPr/>
            <p:nvPr/>
          </p:nvSpPr>
          <p:spPr>
            <a:xfrm>
              <a:off x="471600" y="2405160"/>
              <a:ext cx="129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83120" y="3270240"/>
            <a:ext cx="8435520" cy="1098720"/>
            <a:chOff x="483120" y="3270240"/>
            <a:chExt cx="8435520" cy="1098720"/>
          </a:xfrm>
        </p:grpSpPr>
        <p:sp>
          <p:nvSpPr>
            <p:cNvPr id="94" name="Rectangle 6"/>
            <p:cNvSpPr/>
            <p:nvPr/>
          </p:nvSpPr>
          <p:spPr>
            <a:xfrm>
              <a:off x="483120" y="327024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2680" y="4357800"/>
            <a:ext cx="8445960" cy="1143000"/>
            <a:chOff x="472680" y="4357800"/>
            <a:chExt cx="8445960" cy="1143000"/>
          </a:xfrm>
        </p:grpSpPr>
        <p:sp>
          <p:nvSpPr>
            <p:cNvPr id="97" name="Rectangle 7"/>
            <p:cNvSpPr/>
            <p:nvPr/>
          </p:nvSpPr>
          <p:spPr>
            <a:xfrm>
              <a:off x="472680" y="435780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1960" y="5472000"/>
            <a:ext cx="8294040" cy="1410120"/>
            <a:chOff x="471960" y="5472000"/>
            <a:chExt cx="8294040" cy="1410120"/>
          </a:xfrm>
        </p:grpSpPr>
        <p:sp>
          <p:nvSpPr>
            <p:cNvPr id="100" name="Rectangle 8"/>
            <p:cNvSpPr/>
            <p:nvPr/>
          </p:nvSpPr>
          <p:spPr>
            <a:xfrm>
              <a:off x="471960" y="5502240"/>
              <a:ext cx="17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0b05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1f0d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151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Luis Zaviezo</cp:lastModifiedBy>
  <dcterms:modified xsi:type="dcterms:W3CDTF">2010-09-21T13:20:53Z</dcterms:modified>
  <cp:revision>1</cp:revision>
  <dc:subject/>
  <dc:title>Análisis Sectorial </dc:title>
</cp:coreProperties>
</file>