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4A104-F080-48CC-A0A3-B159DDAF6924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2E8CF-621B-44A2-B525-5755AB79108F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A00-5DF9-4F5D-8EDB-C02AE4E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2AE-F54F-433D-8215-68C2B5A9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9DA6-2237-46AE-9E28-158EA79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D7F-EFF4-4481-8B93-04432CEF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C79-57CC-4294-AEBB-957C0947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DD2-BF1D-40A9-963C-0D478723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9BD-9F9C-4401-A34E-F86459A5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854-8C19-40E6-9EC3-4566B27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D3E-6546-40B7-BB31-24ABFE81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277-4579-4939-BF4A-BA49532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F94-607D-4644-A32C-470BD22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B38-3766-4629-9B89-DA75589F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C7BDF9-FAE5-43A5-AAED-180446B17263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E7FFA2-B9C7-4B7D-91B8-81667824C41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álisis Sector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aller de Ingeniería Industrial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imaver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5532480" cy="7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Político/Leg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39920" y="2519280"/>
            <a:ext cx="6832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Antimonopol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Tribu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de regulación y desregu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yes Laborales y de capaci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ilosofía y política educa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468360" y="1370160"/>
            <a:ext cx="54957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Tecnológ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06360" y="2278080"/>
            <a:ext cx="74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novaciones en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plicación de conoc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fasis de gastos en I&amp;D del sector privado o de fondos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as tecnologías de información y comun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77360" y="1341000"/>
            <a:ext cx="40338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77920" y="2036880"/>
            <a:ext cx="713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ventos políticos importa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rcados globales crí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uevos países  industrializ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culturales y características institucion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539640" y="1325520"/>
            <a:ext cx="52246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27120" indent="-62712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2082960"/>
            <a:ext cx="43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maño de poblac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structura e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geográf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Et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1720" indent="-531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stribución del ingre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03440" y="1486080"/>
            <a:ext cx="820728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n conjunto de Factores que influyen directamente en una firma y sus acciones y respuestas competiti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2739960"/>
                <a:tab algn="l" pos="3027240"/>
                <a:tab algn="l" pos="429264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interacción entre estos Factores determina el potencial de beneficios de una indust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031760" y="4102200"/>
            <a:ext cx="6021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enaza de nuevos competi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provee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der de comprado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23960" indent="-5461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tensidad de la 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Industri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54160"/>
            <a:ext cx="8761320" cy="79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odelo de Competencia de Cinco Fuerza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0080" y="1599840"/>
            <a:ext cx="78393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dentificar competidores actuales y potenciales y determinar que firmas les sirv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arrollar análisis de compet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que proveedores y compradores puede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conocer a los productores de potenciales sustitutos que puedan convertirse en competid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9"/>
          <p:cNvGrpSpPr/>
          <p:nvPr/>
        </p:nvGrpSpPr>
        <p:grpSpPr>
          <a:xfrm>
            <a:off x="3189240" y="4882680"/>
            <a:ext cx="2895480" cy="1823040"/>
            <a:chOff x="3189240" y="4882680"/>
            <a:chExt cx="2895480" cy="1823040"/>
          </a:xfrm>
        </p:grpSpPr>
        <p:sp>
          <p:nvSpPr>
            <p:cNvPr id="137" name="Rectangle 2"/>
            <p:cNvSpPr/>
            <p:nvPr/>
          </p:nvSpPr>
          <p:spPr>
            <a:xfrm>
              <a:off x="3189240" y="62485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 rot="16200000">
              <a:off x="3696480" y="4882680"/>
              <a:ext cx="1816200" cy="18158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108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3750840" y="5240160"/>
              <a:ext cx="17492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productos substitut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3484440" y="1490760"/>
            <a:ext cx="2239920" cy="1866960"/>
            <a:chOff x="3484440" y="1490760"/>
            <a:chExt cx="2239920" cy="1866960"/>
          </a:xfrm>
        </p:grpSpPr>
        <p:sp>
          <p:nvSpPr>
            <p:cNvPr id="141" name="AutoShape 6"/>
            <p:cNvSpPr/>
            <p:nvPr/>
          </p:nvSpPr>
          <p:spPr>
            <a:xfrm flipH="1" rot="16200000">
              <a:off x="3696120" y="1329480"/>
              <a:ext cx="1816200" cy="2239920"/>
            </a:xfrm>
            <a:custGeom>
              <a:avLst/>
              <a:gdLst>
                <a:gd name="textAreaLeft" fmla="*/ -360 w 1816200"/>
                <a:gd name="textAreaRight" fmla="*/ 1816200 w 181620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3522600" y="1490760"/>
              <a:ext cx="2129040" cy="14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Amenaza de los competidores potencial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0"/>
          <p:cNvGrpSpPr/>
          <p:nvPr/>
        </p:nvGrpSpPr>
        <p:grpSpPr>
          <a:xfrm>
            <a:off x="3103560" y="3408480"/>
            <a:ext cx="2980800" cy="1460160"/>
            <a:chOff x="3103560" y="3408480"/>
            <a:chExt cx="2980800" cy="1460160"/>
          </a:xfrm>
        </p:grpSpPr>
        <p:sp>
          <p:nvSpPr>
            <p:cNvPr id="144" name="AutoShape 11"/>
            <p:cNvSpPr/>
            <p:nvPr/>
          </p:nvSpPr>
          <p:spPr>
            <a:xfrm>
              <a:off x="3103560" y="3408480"/>
              <a:ext cx="2980800" cy="1460160"/>
            </a:xfrm>
            <a:prstGeom prst="octagon">
              <a:avLst>
                <a:gd name="adj" fmla="val 29264"/>
              </a:avLst>
            </a:prstGeom>
            <a:solidFill>
              <a:srgbClr val="cc3300"/>
            </a:solidFill>
            <a:ln w="0">
              <a:noFill/>
            </a:ln>
            <a:effectLst>
              <a:outerShdw dist="53966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3139920" y="3493080"/>
              <a:ext cx="29080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eeece1"/>
                  </a:solidFill>
                  <a:latin typeface="Calibri"/>
                </a:rPr>
                <a:t>Rivalidad entre las empresas competidora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18"/>
          <p:cNvGrpSpPr/>
          <p:nvPr/>
        </p:nvGrpSpPr>
        <p:grpSpPr>
          <a:xfrm>
            <a:off x="6527520" y="3197160"/>
            <a:ext cx="2292120" cy="1815840"/>
            <a:chOff x="6527520" y="3197160"/>
            <a:chExt cx="2292120" cy="1815840"/>
          </a:xfrm>
        </p:grpSpPr>
        <p:sp>
          <p:nvSpPr>
            <p:cNvPr id="147" name="AutoShape 8"/>
            <p:cNvSpPr/>
            <p:nvPr/>
          </p:nvSpPr>
          <p:spPr>
            <a:xfrm flipH="1">
              <a:off x="6527160" y="3197160"/>
              <a:ext cx="2292120" cy="1815840"/>
            </a:xfrm>
            <a:custGeom>
              <a:avLst/>
              <a:gdLst>
                <a:gd name="textAreaLeft" fmla="*/ -360 w 2292120"/>
                <a:gd name="textAreaRight" fmla="*/ 2292120 w 229212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13"/>
            <p:cNvSpPr/>
            <p:nvPr/>
          </p:nvSpPr>
          <p:spPr>
            <a:xfrm>
              <a:off x="7019640" y="3400200"/>
              <a:ext cx="17492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oder de negociación de los compra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17"/>
          <p:cNvGrpSpPr/>
          <p:nvPr/>
        </p:nvGrpSpPr>
        <p:grpSpPr>
          <a:xfrm>
            <a:off x="684360" y="3268800"/>
            <a:ext cx="2296800" cy="1815840"/>
            <a:chOff x="684360" y="3268800"/>
            <a:chExt cx="2296800" cy="1815840"/>
          </a:xfrm>
        </p:grpSpPr>
        <p:sp>
          <p:nvSpPr>
            <p:cNvPr id="150" name="AutoShape 9"/>
            <p:cNvSpPr/>
            <p:nvPr/>
          </p:nvSpPr>
          <p:spPr>
            <a:xfrm>
              <a:off x="684360" y="3268800"/>
              <a:ext cx="2296800" cy="1815840"/>
            </a:xfrm>
            <a:custGeom>
              <a:avLst/>
              <a:gdLst>
                <a:gd name="textAreaLeft" fmla="*/ 0 w 2296800"/>
                <a:gd name="textAreaRight" fmla="*/ 2297160 w 2296800"/>
                <a:gd name="textAreaTop" fmla="*/ 0 h 1815840"/>
                <a:gd name="textAreaBottom" fmla="*/ 1816200 h 181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cc33"/>
                </a:gs>
                <a:gs pos="100000">
                  <a:srgbClr val="0d340d"/>
                </a:gs>
              </a:gsLst>
              <a:lin ang="5400000"/>
            </a:gradFill>
            <a:ln w="12600">
              <a:solidFill>
                <a:srgbClr val="143c2e"/>
              </a:solidFill>
              <a:miter/>
            </a:ln>
            <a:effectLst>
              <a:outerShdw dist="17819" dir="2700000" blurRad="0" rotWithShape="0">
                <a:srgbClr val="91919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>
              <a:off x="718920" y="3424320"/>
              <a:ext cx="2125440" cy="1094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Calibri"/>
                </a:rPr>
                <a:t>Poder de negociación de los proveedore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Rectangle 15"/>
          <p:cNvSpPr/>
          <p:nvPr/>
        </p:nvSpPr>
        <p:spPr>
          <a:xfrm>
            <a:off x="0" y="0"/>
            <a:ext cx="914400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Las 5 fuerzas de Por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Modelo de Competen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-36360" y="19836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Amenaza de los competidores potenci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4"/>
          <p:cNvSpPr/>
          <p:nvPr/>
        </p:nvSpPr>
        <p:spPr>
          <a:xfrm rot="5400000">
            <a:off x="3634200" y="352800"/>
            <a:ext cx="1839960" cy="3095640"/>
          </a:xfrm>
          <a:custGeom>
            <a:avLst/>
            <a:gdLst>
              <a:gd name="textAreaLeft" fmla="*/ 0 w 1839960"/>
              <a:gd name="textAreaRight" fmla="*/ 1840320 w 183996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321" y="0"/>
                </a:lnTo>
                <a:lnTo>
                  <a:pt x="21600" y="10800"/>
                </a:lnTo>
                <a:lnTo>
                  <a:pt x="133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d340d"/>
              </a:gs>
            </a:gsLst>
            <a:lin ang="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5"/>
          <p:cNvSpPr/>
          <p:nvPr/>
        </p:nvSpPr>
        <p:spPr>
          <a:xfrm rot="16200000">
            <a:off x="4239000" y="61560"/>
            <a:ext cx="546840" cy="289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 de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992240" y="6215040"/>
            <a:ext cx="411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Represalias esper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1984680" y="5781600"/>
            <a:ext cx="310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lítica Gubernamen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985760" y="2811600"/>
            <a:ext cx="273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conomías de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85400" y="3303720"/>
            <a:ext cx="3673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ción de Produc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5040" y="3794040"/>
            <a:ext cx="3464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querimientos de Capit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1985040" y="4286160"/>
            <a:ext cx="2363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camb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996560" y="4776840"/>
            <a:ext cx="459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ceso a los canales de distribu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1978200" y="5315040"/>
            <a:ext cx="748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esventajas de costos independientes de la esca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1763640" y="300204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1763640" y="3505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1763640" y="401004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19"/>
          <p:cNvSpPr/>
          <p:nvPr/>
        </p:nvSpPr>
        <p:spPr>
          <a:xfrm>
            <a:off x="1763640" y="4513320"/>
            <a:ext cx="171360" cy="13788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Oval 20"/>
          <p:cNvSpPr/>
          <p:nvPr/>
        </p:nvSpPr>
        <p:spPr>
          <a:xfrm>
            <a:off x="1763640" y="501156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Oval 21"/>
          <p:cNvSpPr/>
          <p:nvPr/>
        </p:nvSpPr>
        <p:spPr>
          <a:xfrm>
            <a:off x="1763640" y="541800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Oval 22"/>
          <p:cNvSpPr/>
          <p:nvPr/>
        </p:nvSpPr>
        <p:spPr>
          <a:xfrm>
            <a:off x="1763640" y="5948280"/>
            <a:ext cx="171360" cy="13824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23"/>
          <p:cNvSpPr/>
          <p:nvPr/>
        </p:nvSpPr>
        <p:spPr>
          <a:xfrm>
            <a:off x="1763640" y="634032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68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Poder de negociación de los prov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210960" y="1627200"/>
            <a:ext cx="3522960" cy="3673440"/>
          </a:xfrm>
          <a:custGeom>
            <a:avLst/>
            <a:gdLst>
              <a:gd name="textAreaLeft" fmla="*/ 0 w 3522960"/>
              <a:gd name="textAreaRight" fmla="*/ 3523320 w 352296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5" y="0"/>
                </a:lnTo>
                <a:lnTo>
                  <a:pt x="21600" y="10800"/>
                </a:lnTo>
                <a:lnTo>
                  <a:pt x="1560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79280" y="1736640"/>
            <a:ext cx="2692440" cy="11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ejercen poder en la industria si suben precios y/o reducen 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36600" y="2921040"/>
            <a:ext cx="306072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79280" y="2871720"/>
            <a:ext cx="2527560" cy="200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oveedores poderosos pueden reducir utilidades de compañías si éstas no se recuperan de los incrementos de costos mediante estructura de prec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745280" y="905040"/>
            <a:ext cx="5712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veedores tienden a ser más poderoso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 10"/>
          <p:cNvGrpSpPr/>
          <p:nvPr/>
        </p:nvGrpSpPr>
        <p:grpSpPr>
          <a:xfrm>
            <a:off x="3562200" y="1490760"/>
            <a:ext cx="5567400" cy="5106240"/>
            <a:chOff x="3562200" y="1490760"/>
            <a:chExt cx="5567400" cy="5106240"/>
          </a:xfrm>
        </p:grpSpPr>
        <p:sp>
          <p:nvSpPr>
            <p:cNvPr id="179" name="Rectangle 11"/>
            <p:cNvSpPr/>
            <p:nvPr/>
          </p:nvSpPr>
          <p:spPr>
            <a:xfrm>
              <a:off x="3836880" y="14907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l mercado está dominado por unas cuantas compañías grand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3836880" y="2260440"/>
              <a:ext cx="5292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Empresas de la Industria no tienen productos sustitutos satisfactori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3836880" y="2976480"/>
              <a:ext cx="48610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Compañías no son clientes importantes para proveedor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836880" y="3774960"/>
              <a:ext cx="4813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son críticos para el éxito de compañía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3836880" y="4613400"/>
              <a:ext cx="529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Insumos están diferenciados entre s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3836880" y="5095800"/>
              <a:ext cx="4670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ductos de proveedores dan lugar a altos costos de camb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3836880" y="5959440"/>
              <a:ext cx="46609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Calibri"/>
                </a:rPr>
                <a:t>Proveedor posee amenaza creíble de integración hacia adelan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3562200" y="160020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Oval 19"/>
            <p:cNvSpPr/>
            <p:nvPr/>
          </p:nvSpPr>
          <p:spPr>
            <a:xfrm>
              <a:off x="3562200" y="23623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Oval 20"/>
            <p:cNvSpPr/>
            <p:nvPr/>
          </p:nvSpPr>
          <p:spPr>
            <a:xfrm>
              <a:off x="3562200" y="31050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3562200" y="3867120"/>
              <a:ext cx="17172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22"/>
            <p:cNvSpPr/>
            <p:nvPr/>
          </p:nvSpPr>
          <p:spPr>
            <a:xfrm>
              <a:off x="3562200" y="47242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23"/>
            <p:cNvSpPr/>
            <p:nvPr/>
          </p:nvSpPr>
          <p:spPr>
            <a:xfrm>
              <a:off x="3562200" y="518148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562200" y="6076800"/>
              <a:ext cx="17172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-36360" y="115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Poder de negociación de los compra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4"/>
          <p:cNvSpPr/>
          <p:nvPr/>
        </p:nvSpPr>
        <p:spPr>
          <a:xfrm flipH="1">
            <a:off x="5196600" y="1557360"/>
            <a:ext cx="3552840" cy="3587760"/>
          </a:xfrm>
          <a:custGeom>
            <a:avLst/>
            <a:gdLst>
              <a:gd name="textAreaLeft" fmla="*/ -360 w 3552840"/>
              <a:gd name="textAreaRight" fmla="*/ 3552840 w 355284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100000">
                <a:srgbClr val="33cc33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31"/>
          <p:cNvGrpSpPr/>
          <p:nvPr/>
        </p:nvGrpSpPr>
        <p:grpSpPr>
          <a:xfrm>
            <a:off x="5392800" y="1544760"/>
            <a:ext cx="3355560" cy="3539520"/>
            <a:chOff x="5392800" y="1544760"/>
            <a:chExt cx="3355560" cy="3539520"/>
          </a:xfrm>
        </p:grpSpPr>
        <p:sp>
          <p:nvSpPr>
            <p:cNvPr id="196" name="Rectangle 6"/>
            <p:cNvSpPr/>
            <p:nvPr/>
          </p:nvSpPr>
          <p:spPr>
            <a:xfrm>
              <a:off x="5791680" y="1544760"/>
              <a:ext cx="292788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mpiten con la oferta de la industria cuando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7"/>
            <p:cNvSpPr/>
            <p:nvPr/>
          </p:nvSpPr>
          <p:spPr>
            <a:xfrm>
              <a:off x="5820480" y="3039840"/>
              <a:ext cx="28753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Negocian precios bajo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8"/>
            <p:cNvSpPr/>
            <p:nvPr/>
          </p:nvSpPr>
          <p:spPr>
            <a:xfrm>
              <a:off x="5392800" y="3475080"/>
              <a:ext cx="3355560" cy="69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Exigen mayor calida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y/o servic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Rectangle 9"/>
            <p:cNvSpPr/>
            <p:nvPr/>
          </p:nvSpPr>
          <p:spPr>
            <a:xfrm>
              <a:off x="5974920" y="4081320"/>
              <a:ext cx="2730960" cy="100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buClr>
                  <a:srgbClr val="000000"/>
                </a:buClr>
                <a:buFont typeface="Calibri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i="1" lang="es-ES" sz="2000" spc="-1" strike="noStrike">
                  <a:solidFill>
                    <a:srgbClr val="000000"/>
                  </a:solidFill>
                  <a:latin typeface="Calibri"/>
                </a:rPr>
                <a:t>Hacen que las empresas oferentes compitan entre 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Rectangle 11"/>
          <p:cNvSpPr/>
          <p:nvPr/>
        </p:nvSpPr>
        <p:spPr>
          <a:xfrm>
            <a:off x="215280" y="857160"/>
            <a:ext cx="5414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radores tienden a ser más fuertes s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32"/>
          <p:cNvGrpSpPr/>
          <p:nvPr/>
        </p:nvGrpSpPr>
        <p:grpSpPr>
          <a:xfrm>
            <a:off x="368280" y="1461960"/>
            <a:ext cx="5499000" cy="5207400"/>
            <a:chOff x="368280" y="1461960"/>
            <a:chExt cx="5499000" cy="5207400"/>
          </a:xfrm>
        </p:grpSpPr>
        <p:sp>
          <p:nvSpPr>
            <p:cNvPr id="202" name="Rectangle 13"/>
            <p:cNvSpPr/>
            <p:nvPr/>
          </p:nvSpPr>
          <p:spPr>
            <a:xfrm>
              <a:off x="668160" y="1461960"/>
              <a:ext cx="5127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Están concentrado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660240" y="1994040"/>
              <a:ext cx="520704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as compras representan una fracción importantes de las ventas de una compañí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646200" y="3068640"/>
              <a:ext cx="43207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Productos no están diferenci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35040" y="3619440"/>
              <a:ext cx="4800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con bajo costo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Rectangle 17"/>
            <p:cNvSpPr/>
            <p:nvPr/>
          </p:nvSpPr>
          <p:spPr>
            <a:xfrm>
              <a:off x="637560" y="4365720"/>
              <a:ext cx="47412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tienen bajos marge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606600" y="4879800"/>
              <a:ext cx="49021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es presentan amenazas creíbles de integración hacia atrá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19"/>
            <p:cNvSpPr/>
            <p:nvPr/>
          </p:nvSpPr>
          <p:spPr>
            <a:xfrm>
              <a:off x="621000" y="5718240"/>
              <a:ext cx="25437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lidad no import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625680" y="6251400"/>
              <a:ext cx="47808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rador tiene toda la inform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68280" y="16016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2"/>
            <p:cNvSpPr/>
            <p:nvPr/>
          </p:nvSpPr>
          <p:spPr>
            <a:xfrm>
              <a:off x="368280" y="21337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3"/>
            <p:cNvSpPr/>
            <p:nvPr/>
          </p:nvSpPr>
          <p:spPr>
            <a:xfrm>
              <a:off x="368280" y="318600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8280" y="371628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25"/>
            <p:cNvSpPr/>
            <p:nvPr/>
          </p:nvSpPr>
          <p:spPr>
            <a:xfrm>
              <a:off x="368280" y="44816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368280" y="49737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368280" y="58118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368280" y="63453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mentos de anál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Determinar primero los productos o servicios que este sector brin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on productos uniformes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odities)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o diferenciados, segmentados con marcas relev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Los clientes, quiénes son, cuánto y cómo consumen. Hay estratos o segmen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maño de este mercado. Cantidades y valores transad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Zona geográfica del merc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ha evolucionado este sector a lo largo de los últimos 10 años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mo influye el entorno en este sector: demografía, economía, geografía y megatendencias (globalización y TICs, principalmen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tipo de proveedores tiene este sector?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Quiénes so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Cómo producen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¿Hay proveedores nacionales y extranjeros?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Qué regulaciones principales rigen este secto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¿Cómo evoluciona este sector en el mundo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3031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Amenaza de productos sustitu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4"/>
          <p:cNvSpPr/>
          <p:nvPr/>
        </p:nvSpPr>
        <p:spPr>
          <a:xfrm rot="16200000">
            <a:off x="3502800" y="3223080"/>
            <a:ext cx="2149560" cy="488772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4887720"/>
              <a:gd name="textAreaBottom" fmla="*/ 4888080 h 488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d340d"/>
              </a:gs>
              <a:gs pos="50000">
                <a:srgbClr val="33cc33"/>
              </a:gs>
              <a:gs pos="100000">
                <a:srgbClr val="0d340d"/>
              </a:gs>
            </a:gsLst>
            <a:lin ang="10800000"/>
          </a:gradFill>
          <a:ln w="0">
            <a:noFill/>
          </a:ln>
          <a:effectLst>
            <a:outerShdw dist="53966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438280" y="5419800"/>
            <a:ext cx="4388040" cy="109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roductos con funciones similares limitan estrategias de precios de las fir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271160" y="1052640"/>
            <a:ext cx="5274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laves al evaluar productos sustit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1349280" y="1628640"/>
            <a:ext cx="7794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con potencial para mejorar relación precio/rendimiento, respecto de los actuales productos de la Indust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422360" y="2781360"/>
            <a:ext cx="444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400" spc="-1" strike="noStrike">
                <a:solidFill>
                  <a:srgbClr val="1f497d"/>
                </a:solidFill>
                <a:latin typeface="Calibri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839960" y="3213000"/>
            <a:ext cx="7053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istemas de seguridad electrónicos en lugar de guard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1835280" y="4049640"/>
            <a:ext cx="705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áquinas de Fax en lugar de  despacho de correo noctu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Oval 12"/>
          <p:cNvSpPr/>
          <p:nvPr/>
        </p:nvSpPr>
        <p:spPr>
          <a:xfrm>
            <a:off x="1592280" y="335772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Oval 13"/>
          <p:cNvSpPr/>
          <p:nvPr/>
        </p:nvSpPr>
        <p:spPr>
          <a:xfrm>
            <a:off x="1547640" y="4149720"/>
            <a:ext cx="17172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50920" y="277920"/>
            <a:ext cx="8621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1f497d"/>
                </a:solidFill>
                <a:latin typeface="Calibri"/>
              </a:rPr>
              <a:t>Rivalidad entre las empresas competido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68360" y="990720"/>
            <a:ext cx="728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validad queda en evidencia de las formas siguien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397160" y="182736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r buscando una mejor posi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397160" y="225252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competir en pre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397160" y="2709720"/>
            <a:ext cx="7153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mantener importantes campañas publicitar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397160" y="3622680"/>
            <a:ext cx="663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hacer nuevas presentaciones del produc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397160" y="3166920"/>
            <a:ext cx="563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l incrementar garantías o servicio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1035000" y="19731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1"/>
          <p:cNvSpPr/>
          <p:nvPr/>
        </p:nvSpPr>
        <p:spPr>
          <a:xfrm>
            <a:off x="1035000" y="24303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2"/>
          <p:cNvSpPr/>
          <p:nvPr/>
        </p:nvSpPr>
        <p:spPr>
          <a:xfrm>
            <a:off x="1035000" y="288756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3"/>
          <p:cNvSpPr/>
          <p:nvPr/>
        </p:nvSpPr>
        <p:spPr>
          <a:xfrm>
            <a:off x="1035000" y="33256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4"/>
          <p:cNvSpPr/>
          <p:nvPr/>
        </p:nvSpPr>
        <p:spPr>
          <a:xfrm>
            <a:off x="1035000" y="3782880"/>
            <a:ext cx="23328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25"/>
          <p:cNvGrpSpPr/>
          <p:nvPr/>
        </p:nvGrpSpPr>
        <p:grpSpPr>
          <a:xfrm>
            <a:off x="420840" y="4114800"/>
            <a:ext cx="8843760" cy="2588040"/>
            <a:chOff x="420840" y="4114800"/>
            <a:chExt cx="8843760" cy="2588040"/>
          </a:xfrm>
        </p:grpSpPr>
        <p:sp>
          <p:nvSpPr>
            <p:cNvPr id="241" name="Rectangle 16"/>
            <p:cNvSpPr/>
            <p:nvPr/>
          </p:nvSpPr>
          <p:spPr>
            <a:xfrm>
              <a:off x="420840" y="4114800"/>
              <a:ext cx="8619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uando las empresas sienten presión o ven oportunidad para mejorar posi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403280" y="4941720"/>
              <a:ext cx="786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encia por prec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403280" y="5516640"/>
              <a:ext cx="71470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mpañas publicitarias pueden incrementar demanda total en la industria, pero muy costoso para los competidores minoritari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 rot="5400000">
              <a:off x="1026720" y="5068800"/>
              <a:ext cx="196920" cy="2667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Oval 24"/>
          <p:cNvSpPr/>
          <p:nvPr/>
        </p:nvSpPr>
        <p:spPr>
          <a:xfrm rot="5400000">
            <a:off x="1026720" y="5554440"/>
            <a:ext cx="196560" cy="2667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25600" y="60008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87520" y="1297080"/>
            <a:ext cx="8013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Rivalidad es función 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277920"/>
            <a:ext cx="9144000" cy="63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1332000" y="1935000"/>
            <a:ext cx="7543800" cy="4425120"/>
            <a:chOff x="1332000" y="1935000"/>
            <a:chExt cx="7543800" cy="4425120"/>
          </a:xfrm>
        </p:grpSpPr>
        <p:sp>
          <p:nvSpPr>
            <p:cNvPr id="250" name="Rectangle 6"/>
            <p:cNvSpPr/>
            <p:nvPr/>
          </p:nvSpPr>
          <p:spPr>
            <a:xfrm>
              <a:off x="1332000" y="193500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numerosos o equilibr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>
              <a:off x="1333800" y="2440080"/>
              <a:ext cx="4483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Lento crecimiento indust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>
              <a:off x="1333800" y="3014640"/>
              <a:ext cx="2573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fij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>
              <a:off x="1332000" y="3951360"/>
              <a:ext cx="7161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Falta de diferenciación o bajos costos de cambi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333800" y="3519360"/>
              <a:ext cx="520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Altos costos de almacenamient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>
              <a:off x="1332000" y="4456080"/>
              <a:ext cx="7543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apacidad que aumenta en porcentajes importan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1332000" y="5464080"/>
              <a:ext cx="361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Gran interés estratégico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1332000" y="5905440"/>
              <a:ext cx="47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mportantes barreras para sali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1332000" y="4959360"/>
              <a:ext cx="3476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Competidores divers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1000080" y="2073240"/>
            <a:ext cx="171360" cy="4159080"/>
            <a:chOff x="1000080" y="2073240"/>
            <a:chExt cx="171360" cy="4159080"/>
          </a:xfrm>
        </p:grpSpPr>
        <p:sp>
          <p:nvSpPr>
            <p:cNvPr id="260" name="Oval 16"/>
            <p:cNvSpPr/>
            <p:nvPr/>
          </p:nvSpPr>
          <p:spPr>
            <a:xfrm>
              <a:off x="1000080" y="207324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Oval 17"/>
            <p:cNvSpPr/>
            <p:nvPr/>
          </p:nvSpPr>
          <p:spPr>
            <a:xfrm>
              <a:off x="1000080" y="257796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Oval 18"/>
            <p:cNvSpPr/>
            <p:nvPr/>
          </p:nvSpPr>
          <p:spPr>
            <a:xfrm>
              <a:off x="1000080" y="315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Oval 19"/>
            <p:cNvSpPr/>
            <p:nvPr/>
          </p:nvSpPr>
          <p:spPr>
            <a:xfrm>
              <a:off x="1000080" y="365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Oval 20"/>
            <p:cNvSpPr/>
            <p:nvPr/>
          </p:nvSpPr>
          <p:spPr>
            <a:xfrm>
              <a:off x="1000080" y="4089240"/>
              <a:ext cx="171360" cy="171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Oval 21"/>
            <p:cNvSpPr/>
            <p:nvPr/>
          </p:nvSpPr>
          <p:spPr>
            <a:xfrm>
              <a:off x="1000080" y="4594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Oval 22"/>
            <p:cNvSpPr/>
            <p:nvPr/>
          </p:nvSpPr>
          <p:spPr>
            <a:xfrm>
              <a:off x="1000080" y="509760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Oval 23"/>
            <p:cNvSpPr/>
            <p:nvPr/>
          </p:nvSpPr>
          <p:spPr>
            <a:xfrm>
              <a:off x="1000080" y="560232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24"/>
            <p:cNvSpPr/>
            <p:nvPr/>
          </p:nvSpPr>
          <p:spPr>
            <a:xfrm>
              <a:off x="1000080" y="6060960"/>
              <a:ext cx="171360" cy="1713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  <a:effectLst>
              <a:outerShdw dist="17819" dir="2700000" blurRad="0" rotWithShape="0">
                <a:srgbClr val="eeece1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1106640" y="1204920"/>
            <a:ext cx="72104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Altas barreras de salida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son Factor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conómicos, estratégicos y emocionales</a:t>
            </a:r>
            <a:r>
              <a:rPr b="0" i="1" lang="es-ES" sz="2800" spc="-1" strike="noStrike">
                <a:solidFill>
                  <a:srgbClr val="0000ff"/>
                </a:solidFill>
                <a:latin typeface="Calibri"/>
              </a:rPr>
              <a:t> que pueden lograr que las empresas permanezcan en la industria aún cuando sus utilidades futuras sean inciert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1549440" y="35830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vos especializados asociados a un negocio o una ub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1549440" y="434340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stos de salida fijos (acuerdos labor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550880" y="5638680"/>
            <a:ext cx="546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emocionales, lealt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549440" y="6143760"/>
            <a:ext cx="70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tricciones sociales y gubernamen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549440" y="4846680"/>
            <a:ext cx="712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laciones estratégicas de dependencia, de instalaciones comunes o de acceso a merc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0" y="277920"/>
            <a:ext cx="91440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ivalidad entre los competidores exist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1258920" y="37623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Oval 12"/>
          <p:cNvSpPr/>
          <p:nvPr/>
        </p:nvSpPr>
        <p:spPr>
          <a:xfrm>
            <a:off x="1258920" y="448164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1258920" y="5000760"/>
            <a:ext cx="171360" cy="17136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1258920" y="577836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258920" y="6281640"/>
            <a:ext cx="171360" cy="171720"/>
          </a:xfrm>
          <a:prstGeom prst="ellipse">
            <a:avLst/>
          </a:pr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5"/>
          <p:cNvSpPr/>
          <p:nvPr/>
        </p:nvSpPr>
        <p:spPr>
          <a:xfrm>
            <a:off x="5383080" y="1844640"/>
            <a:ext cx="2718000" cy="18795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5619600" y="211284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alt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95280" y="3429000"/>
            <a:ext cx="16556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a la entr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030920" y="5734080"/>
            <a:ext cx="241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rreras de Sali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897840" y="270828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158120" y="472428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6146280" y="6215040"/>
            <a:ext cx="1156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ch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2"/>
          <p:cNvSpPr/>
          <p:nvPr/>
        </p:nvSpPr>
        <p:spPr>
          <a:xfrm>
            <a:off x="3522240" y="6192720"/>
            <a:ext cx="893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c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2563920" y="3854520"/>
            <a:ext cx="2717640" cy="1879560"/>
          </a:xfrm>
          <a:prstGeom prst="rect">
            <a:avLst/>
          </a:prstGeom>
          <a:solidFill>
            <a:srgbClr val="d9ff6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800440" y="4086360"/>
            <a:ext cx="224460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bajo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563920" y="1844640"/>
            <a:ext cx="2717640" cy="18795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14"/>
          <p:cNvSpPr/>
          <p:nvPr/>
        </p:nvSpPr>
        <p:spPr>
          <a:xfrm>
            <a:off x="2800440" y="2112840"/>
            <a:ext cx="2244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tornos altos, 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383080" y="3860640"/>
            <a:ext cx="2718000" cy="1879920"/>
          </a:xfrm>
          <a:prstGeom prst="rect">
            <a:avLst/>
          </a:prstGeom>
          <a:solidFill>
            <a:srgbClr val="91919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5619600" y="4092480"/>
            <a:ext cx="2244960" cy="13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tornos bajos, ines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16"/>
          <p:cNvSpPr/>
          <p:nvPr/>
        </p:nvSpPr>
        <p:spPr>
          <a:xfrm>
            <a:off x="0" y="154080"/>
            <a:ext cx="9144000" cy="106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fectos de las barreras a la entrada y la salida sobre las utilidades de la indust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114480"/>
            <a:ext cx="9144000" cy="57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nálisis de los competido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179280" y="836640"/>
            <a:ext cx="4800600" cy="1450440"/>
            <a:chOff x="179280" y="836640"/>
            <a:chExt cx="4800600" cy="1450440"/>
          </a:xfrm>
        </p:grpSpPr>
        <p:sp>
          <p:nvSpPr>
            <p:cNvPr id="298" name="AutoShape 5"/>
            <p:cNvSpPr/>
            <p:nvPr/>
          </p:nvSpPr>
          <p:spPr>
            <a:xfrm>
              <a:off x="179280" y="836640"/>
              <a:ext cx="4800600" cy="1450440"/>
            </a:xfrm>
            <a:prstGeom prst="bevel">
              <a:avLst>
                <a:gd name="adj" fmla="val 5681"/>
              </a:avLst>
            </a:prstGeom>
            <a:solidFill>
              <a:srgbClr val="cc33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264960" y="836640"/>
              <a:ext cx="2124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ffffff"/>
                  </a:solidFill>
                  <a:latin typeface="Calibri"/>
                </a:rPr>
                <a:t>Supuest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7"/>
          <p:cNvSpPr/>
          <p:nvPr/>
        </p:nvSpPr>
        <p:spPr>
          <a:xfrm>
            <a:off x="270000" y="1220760"/>
            <a:ext cx="4589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Qué supuestos hacemos sobre nuestros competidores y sobre el futuro de éstos y de la industria en conjunt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152280" y="2492280"/>
            <a:ext cx="4800600" cy="1447920"/>
          </a:xfrm>
          <a:prstGeom prst="bevel">
            <a:avLst>
              <a:gd name="adj" fmla="val 5681"/>
            </a:avLst>
          </a:prstGeom>
          <a:solidFill>
            <a:srgbClr val="800080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237960" y="256536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Estrategia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324000" y="2924280"/>
            <a:ext cx="455292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uestra estrategia actual, ¿soporta cambios en un entorno competitiv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152280" y="4017960"/>
            <a:ext cx="4800600" cy="1282680"/>
          </a:xfrm>
          <a:prstGeom prst="bevel">
            <a:avLst>
              <a:gd name="adj" fmla="val 5681"/>
            </a:avLst>
          </a:prstGeom>
          <a:solidFill>
            <a:srgbClr val="3366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37960" y="4076640"/>
            <a:ext cx="433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Objetivos</a:t>
            </a:r>
            <a:r>
              <a:rPr b="0" lang="es-ES" sz="24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363600" y="4465800"/>
            <a:ext cx="449568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¿Cómo comparar nuestras metas con las de nuestros competidor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152280" y="5356080"/>
            <a:ext cx="4800600" cy="1457640"/>
          </a:xfrm>
          <a:prstGeom prst="bevel">
            <a:avLst>
              <a:gd name="adj" fmla="val 5681"/>
            </a:avLst>
          </a:prstGeom>
          <a:solidFill>
            <a:srgbClr val="ffff99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237960" y="5373720"/>
            <a:ext cx="302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318960" y="5821200"/>
            <a:ext cx="4353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¿Cómo comparar nuestras capacidades con las de nuestros competidor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21"/>
          <p:cNvSpPr/>
          <p:nvPr/>
        </p:nvSpPr>
        <p:spPr>
          <a:xfrm>
            <a:off x="5486400" y="1677960"/>
            <a:ext cx="3390840" cy="4178160"/>
          </a:xfrm>
          <a:custGeom>
            <a:avLst/>
            <a:gdLst>
              <a:gd name="textAreaLeft" fmla="*/ 123480 w 3390840"/>
              <a:gd name="textAreaRight" fmla="*/ 3267360 w 3390840"/>
              <a:gd name="textAreaTop" fmla="*/ 123480 h 4178160"/>
              <a:gd name="textAreaBottom" fmla="*/ 4054680 h 4178160"/>
            </a:gdLst>
            <a:ahLst/>
            <a:rect l="textAreaLeft" t="textAreaTop" r="textAreaRight" b="textAreaBottom"/>
            <a:pathLst>
              <a:path w="21600" h="26615">
                <a:moveTo>
                  <a:pt x="2691" y="0"/>
                </a:moveTo>
                <a:arcTo wR="2691" hR="2691" stAng="16200000" swAng="-5400000"/>
                <a:lnTo>
                  <a:pt x="0" y="23924"/>
                </a:lnTo>
                <a:arcTo wR="2691" hR="2691" stAng="10800000" swAng="-5400000"/>
                <a:lnTo>
                  <a:pt x="18909" y="26615"/>
                </a:lnTo>
                <a:arcTo wR="2691" hR="2691" stAng="5400000" swAng="-5400000"/>
                <a:lnTo>
                  <a:pt x="21600" y="2691"/>
                </a:lnTo>
                <a:arcTo wR="2691" hR="2691" stAng="0" swAng="-5400000"/>
                <a:close/>
              </a:path>
            </a:pathLst>
          </a:custGeom>
          <a:solidFill>
            <a:srgbClr val="ff9933"/>
          </a:solidFill>
          <a:ln w="12600">
            <a:solidFill>
              <a:srgbClr val="800080"/>
            </a:solidFill>
            <a:miter/>
          </a:ln>
          <a:effectLst>
            <a:outerShdw dist="143570" dir="2700000" blurRad="0" rotWithShape="0">
              <a:srgbClr val="cc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6218280" y="1676520"/>
            <a:ext cx="2124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800080"/>
                </a:solidFill>
                <a:latin typeface="Calibri"/>
              </a:rPr>
              <a:t>Rea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5613480" y="2173320"/>
            <a:ext cx="3249360" cy="1033920"/>
            <a:chOff x="5613480" y="2173320"/>
            <a:chExt cx="3249360" cy="1033920"/>
          </a:xfrm>
        </p:grpSpPr>
        <p:sp>
          <p:nvSpPr>
            <p:cNvPr id="313" name="Oval 24"/>
            <p:cNvSpPr/>
            <p:nvPr/>
          </p:nvSpPr>
          <p:spPr>
            <a:xfrm>
              <a:off x="5613480" y="2287440"/>
              <a:ext cx="152280" cy="15192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Rectangle 25"/>
            <p:cNvSpPr/>
            <p:nvPr/>
          </p:nvSpPr>
          <p:spPr>
            <a:xfrm>
              <a:off x="5799240" y="2173320"/>
              <a:ext cx="306360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Qué harán nuestros competidores en el futuro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Group 26"/>
          <p:cNvGrpSpPr/>
          <p:nvPr/>
        </p:nvGrpSpPr>
        <p:grpSpPr>
          <a:xfrm>
            <a:off x="5613480" y="3328920"/>
            <a:ext cx="3173400" cy="1033920"/>
            <a:chOff x="5613480" y="3328920"/>
            <a:chExt cx="3173400" cy="1033920"/>
          </a:xfrm>
        </p:grpSpPr>
        <p:sp>
          <p:nvSpPr>
            <p:cNvPr id="316" name="Oval 27"/>
            <p:cNvSpPr/>
            <p:nvPr/>
          </p:nvSpPr>
          <p:spPr>
            <a:xfrm>
              <a:off x="5613480" y="343080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5799240" y="3328920"/>
              <a:ext cx="2987640" cy="10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uándo obtenemos una ventaja competitiva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Group 29"/>
          <p:cNvGrpSpPr/>
          <p:nvPr/>
        </p:nvGrpSpPr>
        <p:grpSpPr>
          <a:xfrm>
            <a:off x="5613480" y="4476600"/>
            <a:ext cx="3173400" cy="1348920"/>
            <a:chOff x="5613480" y="4476600"/>
            <a:chExt cx="3173400" cy="1348920"/>
          </a:xfrm>
        </p:grpSpPr>
        <p:sp>
          <p:nvSpPr>
            <p:cNvPr id="319" name="Oval 30"/>
            <p:cNvSpPr/>
            <p:nvPr/>
          </p:nvSpPr>
          <p:spPr>
            <a:xfrm>
              <a:off x="5613480" y="4578480"/>
              <a:ext cx="152280" cy="152280"/>
            </a:xfrm>
            <a:prstGeom prst="ellips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31"/>
            <p:cNvSpPr/>
            <p:nvPr/>
          </p:nvSpPr>
          <p:spPr>
            <a:xfrm>
              <a:off x="5799240" y="4476600"/>
              <a:ext cx="2987640" cy="13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300" spc="-1" strike="noStrike">
                  <a:solidFill>
                    <a:srgbClr val="800080"/>
                  </a:solidFill>
                  <a:latin typeface="Calibri"/>
                </a:rPr>
                <a:t>Cómo cambia esta ventaja, nuestra relación con nuestros competidores?</a:t>
              </a:r>
              <a:endParaRPr b="0" lang="en-US" sz="23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trips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01840" y="303120"/>
            <a:ext cx="627696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mbiente competit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239480"/>
            <a:ext cx="8505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teligencia del Competidor es un conjunto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ético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 información y datos relevantes acerca de los  competidores respecto de sus objetivos, estrategias, supuestos y capacida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88880" y="3265560"/>
            <a:ext cx="8197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39840" indent="-33984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orienta a los competidores, visto como sus 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objetivos fut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hacen los competidores y puede ser revelado como su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estrategia act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creen de si mismos y de la industria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que los competidores son capaces de hacer, visto como sus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dencias y Oportun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 sector, comparativamente con otros o con sectores similares en el resto del mundo, ¿está desarrollado o no en la zona donde hacemos este análisis?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ómo pensamos que evolucionará este sector. Cómo crecerá? Cuánto? Cómo se especializará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do todo lo visto, qué oportunidades se aprecian en este secto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un inversionista los contrata para definir si conviene o no entrar en este mercad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Es recomendable invertir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Dónde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Haciendo qué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Con qué tipo de estrategia genérica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¿Qué factores son críticos a su juici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anización Industr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e estructuran las empresas que participan en este sector; tamaños, focos, segmentos, posicionamientos. Especializacion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Cómo son las rentas que obtienen las empresas de este sector? ¿Qué varianza existe entre las empresas y temporalmente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¿Qué estrategias podemos intuir o ver en las empresas de este sector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clientes?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o en eficiencia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as monopólicas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y líderes y seguidores?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Medio Exter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4"/>
          <p:cNvSpPr/>
          <p:nvPr/>
        </p:nvSpPr>
        <p:spPr>
          <a:xfrm rot="3654000">
            <a:off x="6571800" y="22813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35"/>
          <p:cNvSpPr/>
          <p:nvPr/>
        </p:nvSpPr>
        <p:spPr>
          <a:xfrm rot="17899800">
            <a:off x="6006240" y="49532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6"/>
          <p:cNvSpPr/>
          <p:nvPr/>
        </p:nvSpPr>
        <p:spPr>
          <a:xfrm>
            <a:off x="4366080" y="621180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7"/>
          <p:cNvSpPr/>
          <p:nvPr/>
        </p:nvSpPr>
        <p:spPr>
          <a:xfrm>
            <a:off x="4225320" y="9478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38"/>
          <p:cNvSpPr/>
          <p:nvPr/>
        </p:nvSpPr>
        <p:spPr>
          <a:xfrm rot="17990400">
            <a:off x="1965600" y="2157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9"/>
          <p:cNvSpPr/>
          <p:nvPr/>
        </p:nvSpPr>
        <p:spPr>
          <a:xfrm rot="3636600">
            <a:off x="1566000" y="498060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40"/>
          <p:cNvSpPr/>
          <p:nvPr/>
        </p:nvSpPr>
        <p:spPr>
          <a:xfrm>
            <a:off x="2171880" y="1411200"/>
            <a:ext cx="5495760" cy="4862520"/>
          </a:xfrm>
          <a:prstGeom prst="hexagon">
            <a:avLst>
              <a:gd name="adj" fmla="val 28245"/>
              <a:gd name="vf" fmla="val 115470"/>
            </a:avLst>
          </a:prstGeom>
          <a:gradFill rotWithShape="0">
            <a:gsLst>
              <a:gs pos="0">
                <a:srgbClr val="883c86">
                  <a:alpha val="50196"/>
                </a:srgbClr>
              </a:gs>
              <a:gs pos="100000">
                <a:srgbClr val="3f1c3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41"/>
          <p:cNvGrpSpPr/>
          <p:nvPr/>
        </p:nvGrpSpPr>
        <p:grpSpPr>
          <a:xfrm>
            <a:off x="3895560" y="1411200"/>
            <a:ext cx="2070000" cy="669960"/>
            <a:chOff x="3895560" y="1411200"/>
            <a:chExt cx="2070000" cy="669960"/>
          </a:xfrm>
        </p:grpSpPr>
        <p:sp>
          <p:nvSpPr>
            <p:cNvPr id="63" name="AutoShape 42"/>
            <p:cNvSpPr/>
            <p:nvPr/>
          </p:nvSpPr>
          <p:spPr>
            <a:xfrm>
              <a:off x="3895560" y="1411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003b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43"/>
            <p:cNvSpPr/>
            <p:nvPr/>
          </p:nvSpPr>
          <p:spPr>
            <a:xfrm>
              <a:off x="3978000" y="1471680"/>
              <a:ext cx="190512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0080"/>
                </a:gs>
                <a:gs pos="100000">
                  <a:srgbClr val="3b00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Sociocul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44"/>
          <p:cNvGrpSpPr/>
          <p:nvPr/>
        </p:nvGrpSpPr>
        <p:grpSpPr>
          <a:xfrm>
            <a:off x="2340000" y="3829680"/>
            <a:ext cx="1618560" cy="2126520"/>
            <a:chOff x="2340000" y="3829680"/>
            <a:chExt cx="1618560" cy="2126520"/>
          </a:xfrm>
        </p:grpSpPr>
        <p:sp>
          <p:nvSpPr>
            <p:cNvPr id="66" name="AutoShape 45"/>
            <p:cNvSpPr/>
            <p:nvPr/>
          </p:nvSpPr>
          <p:spPr>
            <a:xfrm rot="3591600">
              <a:off x="2113920" y="45579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AutoShape 46"/>
            <p:cNvSpPr/>
            <p:nvPr/>
          </p:nvSpPr>
          <p:spPr>
            <a:xfrm rot="3591600">
              <a:off x="2195640" y="461916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00"/>
                </a:gs>
                <a:gs pos="100000">
                  <a:srgbClr val="3b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Glob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47"/>
          <p:cNvGrpSpPr/>
          <p:nvPr/>
        </p:nvGrpSpPr>
        <p:grpSpPr>
          <a:xfrm>
            <a:off x="3894120" y="5605560"/>
            <a:ext cx="2070000" cy="669960"/>
            <a:chOff x="3894120" y="5605560"/>
            <a:chExt cx="2070000" cy="669960"/>
          </a:xfrm>
        </p:grpSpPr>
        <p:sp>
          <p:nvSpPr>
            <p:cNvPr id="69" name="AutoShape 48"/>
            <p:cNvSpPr/>
            <p:nvPr/>
          </p:nvSpPr>
          <p:spPr>
            <a:xfrm>
              <a:off x="3894120" y="560556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49"/>
            <p:cNvSpPr/>
            <p:nvPr/>
          </p:nvSpPr>
          <p:spPr>
            <a:xfrm>
              <a:off x="3976560" y="5665680"/>
              <a:ext cx="190440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Tecnolog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50"/>
          <p:cNvGrpSpPr/>
          <p:nvPr/>
        </p:nvGrpSpPr>
        <p:grpSpPr>
          <a:xfrm>
            <a:off x="5889240" y="3813480"/>
            <a:ext cx="1607400" cy="2130120"/>
            <a:chOff x="5889240" y="3813480"/>
            <a:chExt cx="1607400" cy="2130120"/>
          </a:xfrm>
        </p:grpSpPr>
        <p:sp>
          <p:nvSpPr>
            <p:cNvPr id="72" name="AutoShape 51"/>
            <p:cNvSpPr/>
            <p:nvPr/>
          </p:nvSpPr>
          <p:spPr>
            <a:xfrm rot="17981400">
              <a:off x="5657760" y="45432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0076"/>
                </a:gs>
                <a:gs pos="100000">
                  <a:srgbClr val="660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2"/>
            <p:cNvSpPr/>
            <p:nvPr/>
          </p:nvSpPr>
          <p:spPr>
            <a:xfrm rot="17981400">
              <a:off x="5739480" y="46040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00ff"/>
                </a:gs>
                <a:gs pos="100000">
                  <a:srgbClr val="2f00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Político/Leg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Group 53"/>
          <p:cNvGrpSpPr/>
          <p:nvPr/>
        </p:nvGrpSpPr>
        <p:grpSpPr>
          <a:xfrm>
            <a:off x="2331720" y="1743120"/>
            <a:ext cx="1606680" cy="2130120"/>
            <a:chOff x="2331720" y="1743120"/>
            <a:chExt cx="1606680" cy="2130120"/>
          </a:xfrm>
        </p:grpSpPr>
        <p:sp>
          <p:nvSpPr>
            <p:cNvPr id="75" name="AutoShape 54"/>
            <p:cNvSpPr/>
            <p:nvPr/>
          </p:nvSpPr>
          <p:spPr>
            <a:xfrm rot="17980800">
              <a:off x="2099880" y="2473200"/>
              <a:ext cx="2070000" cy="669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d2f45"/>
                </a:gs>
                <a:gs pos="100000">
                  <a:srgbClr val="4f81b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55"/>
            <p:cNvSpPr/>
            <p:nvPr/>
          </p:nvSpPr>
          <p:spPr>
            <a:xfrm rot="17980800">
              <a:off x="2181960" y="2534400"/>
              <a:ext cx="1904400" cy="54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f81bd"/>
                </a:gs>
                <a:gs pos="100000">
                  <a:srgbClr val="1d2f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eeece1"/>
                  </a:solidFill>
                  <a:latin typeface="Calibri"/>
                </a:rPr>
                <a:t>Demográfic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Group 56"/>
          <p:cNvGrpSpPr/>
          <p:nvPr/>
        </p:nvGrpSpPr>
        <p:grpSpPr>
          <a:xfrm>
            <a:off x="5915520" y="1757160"/>
            <a:ext cx="1592280" cy="2134440"/>
            <a:chOff x="5915520" y="1757160"/>
            <a:chExt cx="1592280" cy="2134440"/>
          </a:xfrm>
        </p:grpSpPr>
        <p:sp>
          <p:nvSpPr>
            <p:cNvPr id="78" name="AutoShape 57"/>
            <p:cNvSpPr/>
            <p:nvPr/>
          </p:nvSpPr>
          <p:spPr>
            <a:xfrm rot="3653400">
              <a:off x="5676480" y="2489400"/>
              <a:ext cx="2070000" cy="66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AutoShape 58"/>
            <p:cNvSpPr/>
            <p:nvPr/>
          </p:nvSpPr>
          <p:spPr>
            <a:xfrm rot="3653400">
              <a:off x="5758200" y="2550240"/>
              <a:ext cx="1905120" cy="54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000" spc="-1" strike="noStrike">
                  <a:solidFill>
                    <a:srgbClr val="ffff00"/>
                  </a:solidFill>
                  <a:latin typeface="Calibri"/>
                </a:rPr>
                <a:t>Economí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Group 59"/>
          <p:cNvGrpSpPr/>
          <p:nvPr/>
        </p:nvGrpSpPr>
        <p:grpSpPr>
          <a:xfrm>
            <a:off x="3040200" y="2144880"/>
            <a:ext cx="3778200" cy="3423960"/>
            <a:chOff x="3040200" y="2144880"/>
            <a:chExt cx="3778200" cy="3423960"/>
          </a:xfrm>
        </p:grpSpPr>
        <p:sp>
          <p:nvSpPr>
            <p:cNvPr id="81" name="AutoShape 60"/>
            <p:cNvSpPr/>
            <p:nvPr/>
          </p:nvSpPr>
          <p:spPr>
            <a:xfrm>
              <a:off x="3040200" y="2144880"/>
              <a:ext cx="3778200" cy="3423960"/>
            </a:xfrm>
            <a:prstGeom prst="hexagon">
              <a:avLst>
                <a:gd name="adj" fmla="val 27586"/>
                <a:gd name="vf" fmla="val 115470"/>
              </a:avLst>
            </a:prstGeom>
            <a:gradFill rotWithShape="0">
              <a:gsLst>
                <a:gs pos="0">
                  <a:srgbClr val="582523"/>
                </a:gs>
                <a:gs pos="100000">
                  <a:srgbClr val="c050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AutoShape 61"/>
            <p:cNvSpPr/>
            <p:nvPr/>
          </p:nvSpPr>
          <p:spPr>
            <a:xfrm>
              <a:off x="3151080" y="2243520"/>
              <a:ext cx="3566880" cy="3232080"/>
            </a:xfrm>
            <a:prstGeom prst="hexagon">
              <a:avLst>
                <a:gd name="adj" fmla="val 27590"/>
                <a:gd name="vf" fmla="val 115470"/>
              </a:avLst>
            </a:prstGeom>
            <a:gradFill rotWithShape="0">
              <a:gsLst>
                <a:gs pos="0">
                  <a:srgbClr val="243b57"/>
                </a:gs>
                <a:gs pos="100000">
                  <a:srgbClr val="4f81b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Text Box 62"/>
          <p:cNvSpPr/>
          <p:nvPr/>
        </p:nvSpPr>
        <p:spPr>
          <a:xfrm>
            <a:off x="3562200" y="2492280"/>
            <a:ext cx="2733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bient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Amenaza de nuevos entran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provee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oder de compra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Productos sustit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eeece1"/>
                </a:solidFill>
                <a:latin typeface="Calibri"/>
              </a:rPr>
              <a:t>Intensidad de rivalidad de competido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3"/>
          <p:cNvSpPr/>
          <p:nvPr/>
        </p:nvSpPr>
        <p:spPr>
          <a:xfrm>
            <a:off x="3562200" y="4508640"/>
            <a:ext cx="2733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Componentes del Entorno General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836640"/>
          <a:ext cx="8078760" cy="58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836640"/>
                    <a:ext cx="807876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800" spc="-1" strike="noStrike">
                <a:solidFill>
                  <a:srgbClr val="1f497d"/>
                </a:solidFill>
                <a:latin typeface="Calibri"/>
              </a:rPr>
              <a:t>Análisis del ambiente extern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9907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proceso de análisis del ambiente externo debiera ser conducido sobre una base continua.  Este proceso incluye cuatro activid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13"/>
          <p:cNvGrpSpPr/>
          <p:nvPr/>
        </p:nvGrpSpPr>
        <p:grpSpPr>
          <a:xfrm>
            <a:off x="471600" y="2405160"/>
            <a:ext cx="8264520" cy="790200"/>
            <a:chOff x="471600" y="2405160"/>
            <a:chExt cx="8264520" cy="790200"/>
          </a:xfrm>
        </p:grpSpPr>
        <p:sp>
          <p:nvSpPr>
            <p:cNvPr id="91" name="Rectangle 5"/>
            <p:cNvSpPr/>
            <p:nvPr/>
          </p:nvSpPr>
          <p:spPr>
            <a:xfrm>
              <a:off x="471600" y="2405160"/>
              <a:ext cx="129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Rastre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2687760" y="2443320"/>
              <a:ext cx="6048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Identificación de las primeras señales de cambios y tendencias en 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15"/>
          <p:cNvGrpSpPr/>
          <p:nvPr/>
        </p:nvGrpSpPr>
        <p:grpSpPr>
          <a:xfrm>
            <a:off x="483120" y="3270240"/>
            <a:ext cx="8435520" cy="1098720"/>
            <a:chOff x="483120" y="3270240"/>
            <a:chExt cx="8435520" cy="1098720"/>
          </a:xfrm>
        </p:grpSpPr>
        <p:sp>
          <p:nvSpPr>
            <p:cNvPr id="94" name="Rectangle 6"/>
            <p:cNvSpPr/>
            <p:nvPr/>
          </p:nvSpPr>
          <p:spPr>
            <a:xfrm>
              <a:off x="483120" y="3270240"/>
              <a:ext cx="18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Supervis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666880" y="3287880"/>
              <a:ext cx="62517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cción del significado por medio de observaciones continuas de los cambios y tendencias del ambien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6"/>
          <p:cNvGrpSpPr/>
          <p:nvPr/>
        </p:nvGrpSpPr>
        <p:grpSpPr>
          <a:xfrm>
            <a:off x="472680" y="4357800"/>
            <a:ext cx="8445960" cy="1143000"/>
            <a:chOff x="472680" y="4357800"/>
            <a:chExt cx="8445960" cy="1143000"/>
          </a:xfrm>
        </p:grpSpPr>
        <p:sp>
          <p:nvSpPr>
            <p:cNvPr id="97" name="Rectangle 7"/>
            <p:cNvSpPr/>
            <p:nvPr/>
          </p:nvSpPr>
          <p:spPr>
            <a:xfrm>
              <a:off x="472680" y="4357800"/>
              <a:ext cx="172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Pronóstico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>
              <a:off x="2670120" y="4419720"/>
              <a:ext cx="62485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sarrollo de proyecciones de los resultados anticipados con base en los cambios y tendencias supervisado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471960" y="5472000"/>
            <a:ext cx="8294040" cy="1410120"/>
            <a:chOff x="471960" y="5472000"/>
            <a:chExt cx="8294040" cy="1410120"/>
          </a:xfrm>
        </p:grpSpPr>
        <p:sp>
          <p:nvSpPr>
            <p:cNvPr id="100" name="Rectangle 8"/>
            <p:cNvSpPr/>
            <p:nvPr/>
          </p:nvSpPr>
          <p:spPr>
            <a:xfrm>
              <a:off x="471960" y="5502240"/>
              <a:ext cx="17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800" spc="-1" strike="noStrike">
                  <a:solidFill>
                    <a:srgbClr val="4f81bd"/>
                  </a:solidFill>
                  <a:latin typeface="Calibri"/>
                </a:rPr>
                <a:t>Evaluació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2670120" y="5472000"/>
              <a:ext cx="60958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Calibri"/>
                </a:rPr>
                <a:t>Determinación del momento e importancia de los cambios y tendencias en el ambiente para las estrategias de las empresas y su administració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álisis del Medio Exte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AutoShape 3"/>
          <p:cNvCxnSpPr>
            <a:stCxn id="104" idx="0"/>
            <a:endCxn id="105" idx="0"/>
          </p:cNvCxnSpPr>
          <p:nvPr/>
        </p:nvCxnSpPr>
        <p:spPr>
          <a:xfrm>
            <a:off x="2833560" y="4289400"/>
            <a:ext cx="2874240" cy="962640"/>
          </a:xfrm>
          <a:prstGeom prst="bentConnector3">
            <a:avLst>
              <a:gd name="adj1" fmla="val 51647"/>
            </a:avLst>
          </a:prstGeom>
          <a:ln cap="sq"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AutoShape 4"/>
          <p:cNvSpPr/>
          <p:nvPr/>
        </p:nvSpPr>
        <p:spPr>
          <a:xfrm>
            <a:off x="5707080" y="4535640"/>
            <a:ext cx="3138480" cy="1430280"/>
          </a:xfrm>
          <a:custGeom>
            <a:avLst/>
            <a:gdLst>
              <a:gd name="textAreaLeft" fmla="*/ 92520 w 3138480"/>
              <a:gd name="textAreaRight" fmla="*/ 3045960 w 3138480"/>
              <a:gd name="textAreaTop" fmla="*/ 92520 h 1430280"/>
              <a:gd name="textAreaBottom" fmla="*/ 1337760 h 1430280"/>
            </a:gdLst>
            <a:ahLst/>
            <a:rect l="textAreaLeft" t="textAreaTop" r="textAreaRight" b="textAreaBottom"/>
            <a:pathLst>
              <a:path w="47391" h="21600">
                <a:moveTo>
                  <a:pt x="0" y="0"/>
                </a:moveTo>
                <a:lnTo>
                  <a:pt x="47391" y="0"/>
                </a:lnTo>
                <a:lnTo>
                  <a:pt x="47391" y="21600"/>
                </a:lnTo>
                <a:lnTo>
                  <a:pt x="0" y="21600"/>
                </a:lnTo>
                <a:close/>
              </a:path>
              <a:path fill="lightenLess" w="47391" h="21600">
                <a:moveTo>
                  <a:pt x="0" y="0"/>
                </a:moveTo>
                <a:lnTo>
                  <a:pt x="47391" y="0"/>
                </a:lnTo>
                <a:lnTo>
                  <a:pt x="45991" y="1400"/>
                </a:lnTo>
                <a:lnTo>
                  <a:pt x="1400" y="1400"/>
                </a:lnTo>
                <a:close/>
              </a:path>
              <a:path fill="darken" w="47391" h="21600">
                <a:moveTo>
                  <a:pt x="47391" y="0"/>
                </a:moveTo>
                <a:lnTo>
                  <a:pt x="47391" y="21600"/>
                </a:lnTo>
                <a:lnTo>
                  <a:pt x="45991" y="20200"/>
                </a:lnTo>
                <a:lnTo>
                  <a:pt x="45991" y="1400"/>
                </a:lnTo>
                <a:close/>
              </a:path>
              <a:path fill="darkenLess" w="47391" h="21600">
                <a:moveTo>
                  <a:pt x="47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91" y="20200"/>
                </a:lnTo>
                <a:close/>
              </a:path>
              <a:path fill="lighten" w="47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0b050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Intenc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Misión Estratég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574560" y="3510000"/>
            <a:ext cx="2355840" cy="155880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8800"/>
              <a:gd name="textAreaBottom" fmla="*/ 1458000 h 1558800"/>
            </a:gdLst>
            <a:ahLst/>
            <a:rect l="textAreaLeft" t="textAreaTop" r="textAreaRight" b="textAreaBottom"/>
            <a:pathLst>
              <a:path w="32642" h="21600">
                <a:moveTo>
                  <a:pt x="0" y="0"/>
                </a:moveTo>
                <a:lnTo>
                  <a:pt x="32642" y="0"/>
                </a:lnTo>
                <a:lnTo>
                  <a:pt x="32642" y="21600"/>
                </a:lnTo>
                <a:lnTo>
                  <a:pt x="0" y="21600"/>
                </a:lnTo>
                <a:close/>
              </a:path>
              <a:path fill="lightenLess" w="32642" h="21600">
                <a:moveTo>
                  <a:pt x="0" y="0"/>
                </a:moveTo>
                <a:lnTo>
                  <a:pt x="32642" y="0"/>
                </a:lnTo>
                <a:lnTo>
                  <a:pt x="31242" y="1400"/>
                </a:lnTo>
                <a:lnTo>
                  <a:pt x="1400" y="1400"/>
                </a:lnTo>
                <a:close/>
              </a:path>
              <a:path fill="darken" w="32642" h="21600">
                <a:moveTo>
                  <a:pt x="32642" y="0"/>
                </a:moveTo>
                <a:lnTo>
                  <a:pt x="32642" y="21600"/>
                </a:lnTo>
                <a:lnTo>
                  <a:pt x="31242" y="20200"/>
                </a:lnTo>
                <a:lnTo>
                  <a:pt x="31242" y="1400"/>
                </a:lnTo>
                <a:close/>
              </a:path>
              <a:path fill="darkenLess" w="32642" h="21600">
                <a:moveTo>
                  <a:pt x="32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42" y="20200"/>
                </a:lnTo>
                <a:close/>
              </a:path>
              <a:path fill="lighten" w="32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0504d"/>
              </a:gs>
              <a:gs pos="100000">
                <a:srgbClr val="1f0d0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las Exter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197080" y="1733400"/>
            <a:ext cx="45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gen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971800" y="224964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medio indus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73600" y="2754360"/>
            <a:ext cx="37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nálisis del ambiente de </a:t>
            </a:r>
            <a:r>
              <a:rPr b="0" lang="es-E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AutoShape 9"/>
          <p:cNvCxnSpPr/>
          <p:nvPr/>
        </p:nvCxnSpPr>
        <p:spPr>
          <a:xfrm flipV="1" rot="10800000">
            <a:off x="1748880" y="2477160"/>
            <a:ext cx="1167480" cy="101988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0"/>
          <p:cNvCxnSpPr/>
          <p:nvPr/>
        </p:nvCxnSpPr>
        <p:spPr>
          <a:xfrm flipV="1" rot="10800000">
            <a:off x="2210760" y="2971440"/>
            <a:ext cx="1553040" cy="513360"/>
          </a:xfrm>
          <a:prstGeom prst="bentConnector3">
            <a:avLst>
              <a:gd name="adj1" fmla="val 100394"/>
            </a:avLst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1"/>
          <p:cNvCxnSpPr>
            <a:stCxn id="106" idx="1"/>
          </p:cNvCxnSpPr>
          <p:nvPr/>
        </p:nvCxnSpPr>
        <p:spPr>
          <a:xfrm flipV="1" rot="10800000">
            <a:off x="1296360" y="1960920"/>
            <a:ext cx="900720" cy="1523160"/>
          </a:xfrm>
          <a:prstGeom prst="bentConnector2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12"/>
          <p:cNvSpPr/>
          <p:nvPr/>
        </p:nvSpPr>
        <p:spPr>
          <a:xfrm>
            <a:off x="573120" y="3511440"/>
            <a:ext cx="2355840" cy="1559160"/>
          </a:xfrm>
          <a:custGeom>
            <a:avLst/>
            <a:gdLst>
              <a:gd name="textAreaLeft" fmla="*/ 100800 w 2355840"/>
              <a:gd name="textAreaRight" fmla="*/ 2255040 w 2355840"/>
              <a:gd name="textAreaTop" fmla="*/ 100800 h 1559160"/>
              <a:gd name="textAreaBottom" fmla="*/ 1458360 h 1559160"/>
            </a:gdLst>
            <a:ahLst/>
            <a:rect l="textAreaLeft" t="textAreaTop" r="textAreaRight" b="textAreaBottom"/>
            <a:pathLst>
              <a:path w="32634" h="21600">
                <a:moveTo>
                  <a:pt x="0" y="0"/>
                </a:moveTo>
                <a:lnTo>
                  <a:pt x="32634" y="0"/>
                </a:lnTo>
                <a:lnTo>
                  <a:pt x="32634" y="21600"/>
                </a:lnTo>
                <a:lnTo>
                  <a:pt x="0" y="21600"/>
                </a:lnTo>
                <a:close/>
              </a:path>
              <a:path fill="lightenLess" w="32634" h="21600">
                <a:moveTo>
                  <a:pt x="0" y="0"/>
                </a:moveTo>
                <a:lnTo>
                  <a:pt x="32634" y="0"/>
                </a:lnTo>
                <a:lnTo>
                  <a:pt x="31234" y="1400"/>
                </a:lnTo>
                <a:lnTo>
                  <a:pt x="1400" y="1400"/>
                </a:lnTo>
                <a:close/>
              </a:path>
              <a:path fill="darken" w="32634" h="21600">
                <a:moveTo>
                  <a:pt x="32634" y="0"/>
                </a:moveTo>
                <a:lnTo>
                  <a:pt x="32634" y="21600"/>
                </a:lnTo>
                <a:lnTo>
                  <a:pt x="31234" y="20200"/>
                </a:lnTo>
                <a:lnTo>
                  <a:pt x="31234" y="1400"/>
                </a:lnTo>
                <a:close/>
              </a:path>
              <a:path fill="darkenLess" w="32634" h="21600">
                <a:moveTo>
                  <a:pt x="326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34" y="20200"/>
                </a:lnTo>
                <a:close/>
              </a:path>
              <a:path fill="lighten" w="326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00"/>
              </a:gs>
              <a:gs pos="100000">
                <a:srgbClr val="1515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l Me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alibri"/>
              </a:rPr>
              <a:t>Ext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680" y="1360440"/>
            <a:ext cx="5691240" cy="5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gmento Socio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42920" y="2144880"/>
            <a:ext cx="720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jeres en el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versidad de la fuerza de trab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Actitudes respecto de la calidad de vida labo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eocupación por el amb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trabajo y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ambios en las preferencias de productos y serv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341360"/>
            <a:ext cx="6000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2520" indent="-45252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gmento Económ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31760" y="2149560"/>
            <a:ext cx="7425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fl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s de Inter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comer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de balanza de pag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éficits o superavit fisc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asa de ahorro de las empre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339480">
              <a:buClr>
                <a:srgbClr val="4f81bd"/>
              </a:buClr>
              <a:buSzPct val="80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 Interno Br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mbiente Gener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2:36Z</dcterms:created>
  <dc:creator>Luis Zaviezo</dc:creator>
  <dc:description/>
  <dc:language>en-US</dc:language>
  <cp:lastModifiedBy>Luis Zaviezo</cp:lastModifiedBy>
  <dcterms:modified xsi:type="dcterms:W3CDTF">2010-09-21T13:20:53Z</dcterms:modified>
  <cp:revision>1</cp:revision>
  <dc:subject/>
  <dc:title>Análisis Sectorial </dc:title>
</cp:coreProperties>
</file>