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A93D7E-D957-48D5-9A8C-7268EBE8D42F}" type="datetime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7DC7E8-E90D-4CA7-8A41-5937BE6D8797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CE38-CF07-42E8-A229-4CAA6AEED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C78B-EACA-4AE6-9A9E-BF7B930D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42F0-1375-42CC-8CEC-6423674F9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F73D-2828-4DF3-9214-234BF05E6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555A-3F9D-4D32-A233-24E1014A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78BD-26FB-417C-9E24-B18412FB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6BC0-5191-4D62-AAB7-82B0AA7D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394C-4D86-40D4-A90A-FBB1D5CA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06DB-D4C3-4E0A-9DAB-8B39450D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12AB-6FBE-443E-8E46-464DA659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C42E-5ACF-4254-A921-7C72BFE5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9606-FF9E-45F2-AF2C-E614D4C5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7D4D66-12AC-428E-95BD-93A8D2B2C6F3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87DF08-CB19-447A-A4EA-5E389DBE8798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álisis Sectori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aller de Ingeniería Industrial 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imavera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553248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Político/Leg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339920" y="2519280"/>
            <a:ext cx="683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yes Antimonopol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yes Tributa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ilosofía de regulación y desregul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yes Laborales y de capacit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ilosofía y política educ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468360" y="1370160"/>
            <a:ext cx="549576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27120" indent="-62712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Tecnológ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206360" y="2278080"/>
            <a:ext cx="74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novaciones en Produc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plicación de conocimi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nfasis de gastos en I&amp;D del sector privado o de fondos gubernament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uevas tecnologías de información y comunic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276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77360" y="1341000"/>
            <a:ext cx="403380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7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Glob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177920" y="2036880"/>
            <a:ext cx="713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627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ventos políticos importa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7120" indent="-627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ercados globales crít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7120" indent="-627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uevos países  industrializ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7120" indent="-627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ferencias culturales y características institucion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539640" y="1325520"/>
            <a:ext cx="52246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27120" indent="-62712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mográf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187280" y="2082960"/>
            <a:ext cx="432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maño de població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-531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tructura et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-531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stribución geográfic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-531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versidad Etn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-531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stribución del ingre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03440" y="1486080"/>
            <a:ext cx="8207280" cy="24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2739960"/>
                <a:tab algn="l" pos="3027240"/>
                <a:tab algn="l" pos="429264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Un conjunto de Factores que influyen directamente en una firma y sus acciones y respuestas competitiv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2739960"/>
                <a:tab algn="l" pos="3027240"/>
                <a:tab algn="l" pos="429264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interacción entre estos Factores determina el potencial de beneficios de una industr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031760" y="4102200"/>
            <a:ext cx="6021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3960" indent="-546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enaza de nuevos competi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23960" indent="-546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der de provee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23960" indent="-546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der de compr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23960" indent="-546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ductos sustitu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23960" indent="-546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tensidad de la competenc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Industri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254160"/>
            <a:ext cx="8761320" cy="79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odelo de Competencia de Cinco Fuerza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0080" y="1599840"/>
            <a:ext cx="78393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dentificar competidores actuales y potenciales y determinar que firmas les sirv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sarrollar análisis de competenc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conocer que proveedores y compradores pueden convertirse en competid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conocer a los productores de potenciales sustitutos que puedan convertirse en competid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19"/>
          <p:cNvGrpSpPr/>
          <p:nvPr/>
        </p:nvGrpSpPr>
        <p:grpSpPr>
          <a:xfrm>
            <a:off x="3189240" y="4882680"/>
            <a:ext cx="2895480" cy="1823040"/>
            <a:chOff x="3189240" y="4882680"/>
            <a:chExt cx="2895480" cy="1823040"/>
          </a:xfrm>
        </p:grpSpPr>
        <p:sp>
          <p:nvSpPr>
            <p:cNvPr id="137" name="Rectangle 2"/>
            <p:cNvSpPr/>
            <p:nvPr/>
          </p:nvSpPr>
          <p:spPr>
            <a:xfrm>
              <a:off x="318924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AutoShape 3"/>
            <p:cNvSpPr/>
            <p:nvPr/>
          </p:nvSpPr>
          <p:spPr>
            <a:xfrm rot="16200000">
              <a:off x="3696480" y="4882680"/>
              <a:ext cx="1816200" cy="1815840"/>
            </a:xfrm>
            <a:custGeom>
              <a:avLst/>
              <a:gdLst>
                <a:gd name="textAreaLeft" fmla="*/ 0 w 1816200"/>
                <a:gd name="textAreaRight" fmla="*/ 1816560 w 1816200"/>
                <a:gd name="textAreaTop" fmla="*/ 0 h 1815840"/>
                <a:gd name="textAreaBottom" fmla="*/ 181620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10800000"/>
            </a:gradFill>
            <a:ln w="12600">
              <a:solidFill>
                <a:srgbClr val="143c2e"/>
              </a:solidFill>
              <a:miter/>
            </a:ln>
            <a:effectLst>
              <a:outerShdw dist="17819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tangle 4"/>
            <p:cNvSpPr/>
            <p:nvPr/>
          </p:nvSpPr>
          <p:spPr>
            <a:xfrm>
              <a:off x="3750840" y="5240160"/>
              <a:ext cx="174924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Calibri"/>
                </a:rPr>
                <a:t>Amenaza de productos substituto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6"/>
          <p:cNvGrpSpPr/>
          <p:nvPr/>
        </p:nvGrpSpPr>
        <p:grpSpPr>
          <a:xfrm>
            <a:off x="3484440" y="1490760"/>
            <a:ext cx="2239920" cy="1866960"/>
            <a:chOff x="3484440" y="1490760"/>
            <a:chExt cx="2239920" cy="1866960"/>
          </a:xfrm>
        </p:grpSpPr>
        <p:sp>
          <p:nvSpPr>
            <p:cNvPr id="141" name="AutoShape 6"/>
            <p:cNvSpPr/>
            <p:nvPr/>
          </p:nvSpPr>
          <p:spPr>
            <a:xfrm flipH="1" rot="16200000">
              <a:off x="3696120" y="1329480"/>
              <a:ext cx="1816200" cy="2239920"/>
            </a:xfrm>
            <a:custGeom>
              <a:avLst/>
              <a:gdLst>
                <a:gd name="textAreaLeft" fmla="*/ -360 w 1816200"/>
                <a:gd name="textAreaRight" fmla="*/ 1816200 w 181620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0"/>
            </a:gradFill>
            <a:ln w="12600">
              <a:solidFill>
                <a:srgbClr val="143c2e"/>
              </a:solidFill>
              <a:miter/>
            </a:ln>
            <a:effectLst>
              <a:outerShdw dist="17819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3522600" y="1490760"/>
              <a:ext cx="2129040" cy="14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Calibri"/>
                </a:rPr>
                <a:t>Amenaza de los competidores potenciale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0"/>
          <p:cNvGrpSpPr/>
          <p:nvPr/>
        </p:nvGrpSpPr>
        <p:grpSpPr>
          <a:xfrm>
            <a:off x="3103560" y="3408480"/>
            <a:ext cx="2980800" cy="1460160"/>
            <a:chOff x="3103560" y="3408480"/>
            <a:chExt cx="2980800" cy="1460160"/>
          </a:xfrm>
        </p:grpSpPr>
        <p:sp>
          <p:nvSpPr>
            <p:cNvPr id="144" name="AutoShape 11"/>
            <p:cNvSpPr/>
            <p:nvPr/>
          </p:nvSpPr>
          <p:spPr>
            <a:xfrm>
              <a:off x="3103560" y="3408480"/>
              <a:ext cx="2980800" cy="1460160"/>
            </a:xfrm>
            <a:prstGeom prst="octagon">
              <a:avLst>
                <a:gd name="adj" fmla="val 29264"/>
              </a:avLst>
            </a:prstGeom>
            <a:solidFill>
              <a:srgbClr val="cc3300"/>
            </a:solidFill>
            <a:ln w="0">
              <a:noFill/>
            </a:ln>
            <a:effectLst>
              <a:outerShdw dist="53966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tangle 12"/>
            <p:cNvSpPr/>
            <p:nvPr/>
          </p:nvSpPr>
          <p:spPr>
            <a:xfrm>
              <a:off x="3139920" y="3493080"/>
              <a:ext cx="290808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eeece1"/>
                  </a:solidFill>
                  <a:latin typeface="Calibri"/>
                </a:rPr>
                <a:t>Rivalidad entre las empresas competidora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Group 18"/>
          <p:cNvGrpSpPr/>
          <p:nvPr/>
        </p:nvGrpSpPr>
        <p:grpSpPr>
          <a:xfrm>
            <a:off x="6527520" y="3197160"/>
            <a:ext cx="2292120" cy="1815840"/>
            <a:chOff x="6527520" y="3197160"/>
            <a:chExt cx="2292120" cy="1815840"/>
          </a:xfrm>
        </p:grpSpPr>
        <p:sp>
          <p:nvSpPr>
            <p:cNvPr id="147" name="AutoShape 8"/>
            <p:cNvSpPr/>
            <p:nvPr/>
          </p:nvSpPr>
          <p:spPr>
            <a:xfrm flipH="1">
              <a:off x="6527160" y="3197160"/>
              <a:ext cx="2292120" cy="1815840"/>
            </a:xfrm>
            <a:custGeom>
              <a:avLst/>
              <a:gdLst>
                <a:gd name="textAreaLeft" fmla="*/ -360 w 2292120"/>
                <a:gd name="textAreaRight" fmla="*/ 2292120 w 2292120"/>
                <a:gd name="textAreaTop" fmla="*/ 0 h 1815840"/>
                <a:gd name="textAreaBottom" fmla="*/ 181620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5400000"/>
            </a:gradFill>
            <a:ln w="12600">
              <a:solidFill>
                <a:srgbClr val="143c2e"/>
              </a:solidFill>
              <a:miter/>
            </a:ln>
            <a:effectLst>
              <a:outerShdw dist="17819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tangle 13"/>
            <p:cNvSpPr/>
            <p:nvPr/>
          </p:nvSpPr>
          <p:spPr>
            <a:xfrm>
              <a:off x="7019640" y="3400200"/>
              <a:ext cx="174924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oder de negociación de los compradore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Group 17"/>
          <p:cNvGrpSpPr/>
          <p:nvPr/>
        </p:nvGrpSpPr>
        <p:grpSpPr>
          <a:xfrm>
            <a:off x="684360" y="3268800"/>
            <a:ext cx="2296800" cy="1815840"/>
            <a:chOff x="684360" y="3268800"/>
            <a:chExt cx="2296800" cy="1815840"/>
          </a:xfrm>
        </p:grpSpPr>
        <p:sp>
          <p:nvSpPr>
            <p:cNvPr id="150" name="AutoShape 9"/>
            <p:cNvSpPr/>
            <p:nvPr/>
          </p:nvSpPr>
          <p:spPr>
            <a:xfrm>
              <a:off x="684360" y="3268800"/>
              <a:ext cx="2296800" cy="1815840"/>
            </a:xfrm>
            <a:custGeom>
              <a:avLst/>
              <a:gdLst>
                <a:gd name="textAreaLeft" fmla="*/ 0 w 2296800"/>
                <a:gd name="textAreaRight" fmla="*/ 2297160 w 2296800"/>
                <a:gd name="textAreaTop" fmla="*/ 0 h 1815840"/>
                <a:gd name="textAreaBottom" fmla="*/ 181620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5400000"/>
            </a:gradFill>
            <a:ln w="12600">
              <a:solidFill>
                <a:srgbClr val="143c2e"/>
              </a:solidFill>
              <a:miter/>
            </a:ln>
            <a:effectLst>
              <a:outerShdw dist="17819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Rectangle 14"/>
            <p:cNvSpPr/>
            <p:nvPr/>
          </p:nvSpPr>
          <p:spPr>
            <a:xfrm>
              <a:off x="718920" y="3424320"/>
              <a:ext cx="2125440" cy="1094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Calibri"/>
                </a:rPr>
                <a:t>Poder de negociación de los proveedore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" name="Rectangle 15"/>
          <p:cNvSpPr/>
          <p:nvPr/>
        </p:nvSpPr>
        <p:spPr>
          <a:xfrm>
            <a:off x="0" y="0"/>
            <a:ext cx="9144000" cy="11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Las 5 fuerzas de Por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Modelo de Competen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in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-36360" y="19836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Amenaza de los competidores potenci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AutoShape 4"/>
          <p:cNvSpPr/>
          <p:nvPr/>
        </p:nvSpPr>
        <p:spPr>
          <a:xfrm rot="5400000">
            <a:off x="3634200" y="352800"/>
            <a:ext cx="1839960" cy="3095640"/>
          </a:xfrm>
          <a:custGeom>
            <a:avLst/>
            <a:gdLst>
              <a:gd name="textAreaLeft" fmla="*/ 0 w 1839960"/>
              <a:gd name="textAreaRight" fmla="*/ 1840320 w 1839960"/>
              <a:gd name="textAreaTop" fmla="*/ 0 h 3095640"/>
              <a:gd name="textAreaBottom" fmla="*/ 3096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321" y="0"/>
                </a:lnTo>
                <a:lnTo>
                  <a:pt x="21600" y="10800"/>
                </a:lnTo>
                <a:lnTo>
                  <a:pt x="133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d340d"/>
              </a:gs>
            </a:gsLst>
            <a:lin ang="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5"/>
          <p:cNvSpPr/>
          <p:nvPr/>
        </p:nvSpPr>
        <p:spPr>
          <a:xfrm rot="16200000">
            <a:off x="4239000" y="61560"/>
            <a:ext cx="546840" cy="289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vert="eaVer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 de entr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992240" y="6215040"/>
            <a:ext cx="411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Represalias esperad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1984680" y="5781600"/>
            <a:ext cx="3104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lítica Gubernamen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1985760" y="2811600"/>
            <a:ext cx="2732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conomías de esca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1985400" y="3303720"/>
            <a:ext cx="3673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ferenciación de Produc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1985040" y="3794040"/>
            <a:ext cx="346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querimientos de Capi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1985040" y="4286160"/>
            <a:ext cx="2363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stos de camb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1996560" y="4776840"/>
            <a:ext cx="459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cceso a los canales de distribu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1978200" y="5315040"/>
            <a:ext cx="7489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sventajas de costos independientes de la esca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Oval 16"/>
          <p:cNvSpPr/>
          <p:nvPr/>
        </p:nvSpPr>
        <p:spPr>
          <a:xfrm>
            <a:off x="1763640" y="3002040"/>
            <a:ext cx="171360" cy="13788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Oval 17"/>
          <p:cNvSpPr/>
          <p:nvPr/>
        </p:nvSpPr>
        <p:spPr>
          <a:xfrm>
            <a:off x="1763640" y="3505320"/>
            <a:ext cx="171360" cy="13788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Oval 18"/>
          <p:cNvSpPr/>
          <p:nvPr/>
        </p:nvSpPr>
        <p:spPr>
          <a:xfrm>
            <a:off x="1763640" y="401004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Oval 19"/>
          <p:cNvSpPr/>
          <p:nvPr/>
        </p:nvSpPr>
        <p:spPr>
          <a:xfrm>
            <a:off x="1763640" y="4513320"/>
            <a:ext cx="171360" cy="13788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Oval 20"/>
          <p:cNvSpPr/>
          <p:nvPr/>
        </p:nvSpPr>
        <p:spPr>
          <a:xfrm>
            <a:off x="1763640" y="501156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Oval 21"/>
          <p:cNvSpPr/>
          <p:nvPr/>
        </p:nvSpPr>
        <p:spPr>
          <a:xfrm>
            <a:off x="1763640" y="541800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Oval 22"/>
          <p:cNvSpPr/>
          <p:nvPr/>
        </p:nvSpPr>
        <p:spPr>
          <a:xfrm>
            <a:off x="1763640" y="594828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Oval 23"/>
          <p:cNvSpPr/>
          <p:nvPr/>
        </p:nvSpPr>
        <p:spPr>
          <a:xfrm>
            <a:off x="1763640" y="6340320"/>
            <a:ext cx="17136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1681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alibri"/>
              </a:rPr>
              <a:t>Poder de negociación de los proveed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210960" y="1627200"/>
            <a:ext cx="3522960" cy="3673440"/>
          </a:xfrm>
          <a:custGeom>
            <a:avLst/>
            <a:gdLst>
              <a:gd name="textAreaLeft" fmla="*/ 0 w 3522960"/>
              <a:gd name="textAreaRight" fmla="*/ 3523320 w 3522960"/>
              <a:gd name="textAreaTop" fmla="*/ 0 h 3673440"/>
              <a:gd name="textAreaBottom" fmla="*/ 367380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5" y="0"/>
                </a:lnTo>
                <a:lnTo>
                  <a:pt x="21600" y="10800"/>
                </a:lnTo>
                <a:lnTo>
                  <a:pt x="1560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d340d"/>
              </a:gs>
              <a:gs pos="100000">
                <a:srgbClr val="33cc33"/>
              </a:gs>
            </a:gsLst>
            <a:lin ang="1080000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79280" y="1736640"/>
            <a:ext cx="2692440" cy="11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veedores ejercen poder en la industria si suben precios y/o reducen calid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336600" y="2921040"/>
            <a:ext cx="306072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179280" y="2871720"/>
            <a:ext cx="2527560" cy="200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veedores poderosos pueden reducir utilidades de compañías si éstas no se recuperan de los incrementos de costos mediante estructura de preci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1745280" y="905040"/>
            <a:ext cx="57121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veedores tienden a ser más poderosos s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Group 10"/>
          <p:cNvGrpSpPr/>
          <p:nvPr/>
        </p:nvGrpSpPr>
        <p:grpSpPr>
          <a:xfrm>
            <a:off x="3562200" y="1490760"/>
            <a:ext cx="5567400" cy="5106240"/>
            <a:chOff x="3562200" y="1490760"/>
            <a:chExt cx="5567400" cy="5106240"/>
          </a:xfrm>
        </p:grpSpPr>
        <p:sp>
          <p:nvSpPr>
            <p:cNvPr id="179" name="Rectangle 11"/>
            <p:cNvSpPr/>
            <p:nvPr/>
          </p:nvSpPr>
          <p:spPr>
            <a:xfrm>
              <a:off x="3836880" y="1490760"/>
              <a:ext cx="4813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El mercado está dominado por unas cuantas compañías grande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Rectangle 12"/>
            <p:cNvSpPr/>
            <p:nvPr/>
          </p:nvSpPr>
          <p:spPr>
            <a:xfrm>
              <a:off x="3836880" y="2260440"/>
              <a:ext cx="52927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Empresas de la Industria no tienen productos sustitutos satisfactorio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tangle 13"/>
            <p:cNvSpPr/>
            <p:nvPr/>
          </p:nvSpPr>
          <p:spPr>
            <a:xfrm>
              <a:off x="3836880" y="2976480"/>
              <a:ext cx="48610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Compañías no son clientes importantes para proveedore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Rectangle 14"/>
            <p:cNvSpPr/>
            <p:nvPr/>
          </p:nvSpPr>
          <p:spPr>
            <a:xfrm>
              <a:off x="3836880" y="3774960"/>
              <a:ext cx="4813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roductos de proveedores son críticos para el éxito de compañía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Rectangle 15"/>
            <p:cNvSpPr/>
            <p:nvPr/>
          </p:nvSpPr>
          <p:spPr>
            <a:xfrm>
              <a:off x="3836880" y="4613400"/>
              <a:ext cx="5292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Insumos están diferenciados entre sí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Rectangle 16"/>
            <p:cNvSpPr/>
            <p:nvPr/>
          </p:nvSpPr>
          <p:spPr>
            <a:xfrm>
              <a:off x="3836880" y="5095800"/>
              <a:ext cx="46706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roductos de proveedores dan lugar a altos costos de camb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Rectangle 17"/>
            <p:cNvSpPr/>
            <p:nvPr/>
          </p:nvSpPr>
          <p:spPr>
            <a:xfrm>
              <a:off x="3836880" y="5959440"/>
              <a:ext cx="46609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roveedor posee amenaza creíble de integración hacia adelant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Oval 18"/>
            <p:cNvSpPr/>
            <p:nvPr/>
          </p:nvSpPr>
          <p:spPr>
            <a:xfrm>
              <a:off x="3562200" y="1600200"/>
              <a:ext cx="17172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Oval 19"/>
            <p:cNvSpPr/>
            <p:nvPr/>
          </p:nvSpPr>
          <p:spPr>
            <a:xfrm>
              <a:off x="3562200" y="2362320"/>
              <a:ext cx="17172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Oval 20"/>
            <p:cNvSpPr/>
            <p:nvPr/>
          </p:nvSpPr>
          <p:spPr>
            <a:xfrm>
              <a:off x="3562200" y="310500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Oval 21"/>
            <p:cNvSpPr/>
            <p:nvPr/>
          </p:nvSpPr>
          <p:spPr>
            <a:xfrm>
              <a:off x="3562200" y="3867120"/>
              <a:ext cx="17172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Oval 22"/>
            <p:cNvSpPr/>
            <p:nvPr/>
          </p:nvSpPr>
          <p:spPr>
            <a:xfrm>
              <a:off x="3562200" y="472428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Oval 23"/>
            <p:cNvSpPr/>
            <p:nvPr/>
          </p:nvSpPr>
          <p:spPr>
            <a:xfrm>
              <a:off x="3562200" y="518148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Oval 24"/>
            <p:cNvSpPr/>
            <p:nvPr/>
          </p:nvSpPr>
          <p:spPr>
            <a:xfrm>
              <a:off x="3562200" y="607680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-36360" y="1159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Poder de negociación de los comprad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AutoShape 4"/>
          <p:cNvSpPr/>
          <p:nvPr/>
        </p:nvSpPr>
        <p:spPr>
          <a:xfrm flipH="1">
            <a:off x="5196600" y="1557360"/>
            <a:ext cx="3552840" cy="3587760"/>
          </a:xfrm>
          <a:custGeom>
            <a:avLst/>
            <a:gdLst>
              <a:gd name="textAreaLeft" fmla="*/ -360 w 3552840"/>
              <a:gd name="textAreaRight" fmla="*/ 3552840 w 3552840"/>
              <a:gd name="textAreaTop" fmla="*/ 0 h 3587760"/>
              <a:gd name="textAreaBottom" fmla="*/ 3588120 h 358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d340d"/>
              </a:gs>
              <a:gs pos="100000">
                <a:srgbClr val="33cc33"/>
              </a:gs>
            </a:gsLst>
            <a:lin ang="1080000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5" name="Group 31"/>
          <p:cNvGrpSpPr/>
          <p:nvPr/>
        </p:nvGrpSpPr>
        <p:grpSpPr>
          <a:xfrm>
            <a:off x="5392800" y="1544760"/>
            <a:ext cx="3355560" cy="3539520"/>
            <a:chOff x="5392800" y="1544760"/>
            <a:chExt cx="3355560" cy="3539520"/>
          </a:xfrm>
        </p:grpSpPr>
        <p:sp>
          <p:nvSpPr>
            <p:cNvPr id="196" name="Rectangle 6"/>
            <p:cNvSpPr/>
            <p:nvPr/>
          </p:nvSpPr>
          <p:spPr>
            <a:xfrm>
              <a:off x="5791680" y="1544760"/>
              <a:ext cx="2927880" cy="15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compiten con la oferta de la industria cuando: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Rectangle 7"/>
            <p:cNvSpPr/>
            <p:nvPr/>
          </p:nvSpPr>
          <p:spPr>
            <a:xfrm>
              <a:off x="5820480" y="3039840"/>
              <a:ext cx="28753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buClr>
                  <a:srgbClr val="000000"/>
                </a:buClr>
                <a:buFont typeface="Calibri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Negocian precios bajo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Rectangle 8"/>
            <p:cNvSpPr/>
            <p:nvPr/>
          </p:nvSpPr>
          <p:spPr>
            <a:xfrm>
              <a:off x="5392800" y="3475080"/>
              <a:ext cx="3355560" cy="69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buClr>
                  <a:srgbClr val="000000"/>
                </a:buClr>
                <a:buFont typeface="Calibri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Exigen mayor calidad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y/o servic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Rectangle 9"/>
            <p:cNvSpPr/>
            <p:nvPr/>
          </p:nvSpPr>
          <p:spPr>
            <a:xfrm>
              <a:off x="5974920" y="4081320"/>
              <a:ext cx="2730960" cy="100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buClr>
                  <a:srgbClr val="000000"/>
                </a:buClr>
                <a:buFont typeface="Calibri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Hacen que las empresas oferentes compitan entre si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Rectangle 11"/>
          <p:cNvSpPr/>
          <p:nvPr/>
        </p:nvSpPr>
        <p:spPr>
          <a:xfrm>
            <a:off x="215280" y="857160"/>
            <a:ext cx="541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mpradores tienden a ser más fuertes s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1" name="Group 32"/>
          <p:cNvGrpSpPr/>
          <p:nvPr/>
        </p:nvGrpSpPr>
        <p:grpSpPr>
          <a:xfrm>
            <a:off x="368280" y="1461960"/>
            <a:ext cx="5499000" cy="5207400"/>
            <a:chOff x="368280" y="1461960"/>
            <a:chExt cx="5499000" cy="5207400"/>
          </a:xfrm>
        </p:grpSpPr>
        <p:sp>
          <p:nvSpPr>
            <p:cNvPr id="202" name="Rectangle 13"/>
            <p:cNvSpPr/>
            <p:nvPr/>
          </p:nvSpPr>
          <p:spPr>
            <a:xfrm>
              <a:off x="668160" y="1461960"/>
              <a:ext cx="5127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Están concentrados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Rectangle 14"/>
            <p:cNvSpPr/>
            <p:nvPr/>
          </p:nvSpPr>
          <p:spPr>
            <a:xfrm>
              <a:off x="660240" y="1994040"/>
              <a:ext cx="520704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Las compras representan una fracción importantes de las ventas de una compañí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Rectangle 15"/>
            <p:cNvSpPr/>
            <p:nvPr/>
          </p:nvSpPr>
          <p:spPr>
            <a:xfrm>
              <a:off x="646200" y="3068640"/>
              <a:ext cx="43207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Productos no están diferenciad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Rectangle 16"/>
            <p:cNvSpPr/>
            <p:nvPr/>
          </p:nvSpPr>
          <p:spPr>
            <a:xfrm>
              <a:off x="635040" y="3619440"/>
              <a:ext cx="480060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con bajo costo de cambi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Rectangle 17"/>
            <p:cNvSpPr/>
            <p:nvPr/>
          </p:nvSpPr>
          <p:spPr>
            <a:xfrm>
              <a:off x="637560" y="4365720"/>
              <a:ext cx="47412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tienen bajos margen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Rectangle 18"/>
            <p:cNvSpPr/>
            <p:nvPr/>
          </p:nvSpPr>
          <p:spPr>
            <a:xfrm>
              <a:off x="606600" y="4879800"/>
              <a:ext cx="490212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presentan amenazas creíbles de integración hacia atrá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Rectangle 19"/>
            <p:cNvSpPr/>
            <p:nvPr/>
          </p:nvSpPr>
          <p:spPr>
            <a:xfrm>
              <a:off x="621000" y="5718240"/>
              <a:ext cx="254376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alidad no import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Rectangle 20"/>
            <p:cNvSpPr/>
            <p:nvPr/>
          </p:nvSpPr>
          <p:spPr>
            <a:xfrm>
              <a:off x="625680" y="6251400"/>
              <a:ext cx="47808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 tiene toda la informació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Oval 21"/>
            <p:cNvSpPr/>
            <p:nvPr/>
          </p:nvSpPr>
          <p:spPr>
            <a:xfrm>
              <a:off x="368280" y="160164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Oval 22"/>
            <p:cNvSpPr/>
            <p:nvPr/>
          </p:nvSpPr>
          <p:spPr>
            <a:xfrm>
              <a:off x="368280" y="21337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Oval 23"/>
            <p:cNvSpPr/>
            <p:nvPr/>
          </p:nvSpPr>
          <p:spPr>
            <a:xfrm>
              <a:off x="368280" y="318600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Oval 24"/>
            <p:cNvSpPr/>
            <p:nvPr/>
          </p:nvSpPr>
          <p:spPr>
            <a:xfrm>
              <a:off x="368280" y="371628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Oval 25"/>
            <p:cNvSpPr/>
            <p:nvPr/>
          </p:nvSpPr>
          <p:spPr>
            <a:xfrm>
              <a:off x="368280" y="448164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Oval 26"/>
            <p:cNvSpPr/>
            <p:nvPr/>
          </p:nvSpPr>
          <p:spPr>
            <a:xfrm>
              <a:off x="368280" y="497376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Oval 27"/>
            <p:cNvSpPr/>
            <p:nvPr/>
          </p:nvSpPr>
          <p:spPr>
            <a:xfrm>
              <a:off x="368280" y="581184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Oval 28"/>
            <p:cNvSpPr/>
            <p:nvPr/>
          </p:nvSpPr>
          <p:spPr>
            <a:xfrm>
              <a:off x="368280" y="634536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mentos de análi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Determinar primero los productos o servicios que este sector brind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Son productos uniformes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odities)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o diferenciados, segmentados con marcas relevan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Los clientes, quiénes son, cuánto y cómo consumen. Hay estratos o segment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Tamaño de este mercado. Cantidades y valores transado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Zona geográfica del merca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Cómo ha evolucionado este sector a lo largo de los últimos 10 años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ómo influye el entorno en este sector: demografía, economía, geografía y megatendencias (globalización y TICs, principalment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Qué tipo de proveedores tiene este sector?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¿Quiénes son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¿Cómo producen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¿Hay proveedores nacionales y extranjeros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Qué regulaciones principales rigen este sector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Cómo evoluciona este sector en el mund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3031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alibri"/>
              </a:rPr>
              <a:t>Amenaza de productos sustitu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AutoShape 4"/>
          <p:cNvSpPr/>
          <p:nvPr/>
        </p:nvSpPr>
        <p:spPr>
          <a:xfrm rot="16200000">
            <a:off x="3502800" y="3223080"/>
            <a:ext cx="2149560" cy="488772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4887720"/>
              <a:gd name="textAreaBottom" fmla="*/ 4888080 h 488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d340d"/>
              </a:gs>
              <a:gs pos="50000">
                <a:srgbClr val="33cc33"/>
              </a:gs>
              <a:gs pos="100000">
                <a:srgbClr val="0d340d"/>
              </a:gs>
            </a:gsLst>
            <a:lin ang="1080000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2438280" y="5419800"/>
            <a:ext cx="4388040" cy="109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roductos con funciones similares limitan estrategias de precios de las firm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1271160" y="1052640"/>
            <a:ext cx="527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s claves al evaluar productos sustitu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1349280" y="1628640"/>
            <a:ext cx="77947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ductos con potencial para mejorar relación precio/rendimiento, respecto de los actuales productos de la Indust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1422360" y="2781360"/>
            <a:ext cx="4444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400" spc="-1" strike="noStrike">
                <a:solidFill>
                  <a:srgbClr val="1f497d"/>
                </a:solidFill>
                <a:latin typeface="Calibri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1839960" y="3213000"/>
            <a:ext cx="7053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stemas de seguridad electrónicos en lugar de guard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1835280" y="4049640"/>
            <a:ext cx="70578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áquinas de Fax en lugar de  despacho de correo noctur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Oval 12"/>
          <p:cNvSpPr/>
          <p:nvPr/>
        </p:nvSpPr>
        <p:spPr>
          <a:xfrm>
            <a:off x="1592280" y="335772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Oval 13"/>
          <p:cNvSpPr/>
          <p:nvPr/>
        </p:nvSpPr>
        <p:spPr>
          <a:xfrm>
            <a:off x="1547640" y="4149720"/>
            <a:ext cx="17172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250920" y="277920"/>
            <a:ext cx="862164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1f497d"/>
                </a:solidFill>
                <a:latin typeface="Calibri"/>
              </a:rPr>
              <a:t>Rivalidad entre las empresas competidor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68360" y="990720"/>
            <a:ext cx="728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ivalidad queda en evidencia de las formas siguient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1397160" y="1827360"/>
            <a:ext cx="663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ir buscando una mejor posición estratég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1397160" y="2252520"/>
            <a:ext cx="663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competir en prec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1397160" y="2709720"/>
            <a:ext cx="715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mantener importantes campañas publicita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1397160" y="3622680"/>
            <a:ext cx="663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hacer nuevas presentaciones del produc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1397160" y="3166920"/>
            <a:ext cx="563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incrementar garantías o servici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1035000" y="197316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11"/>
          <p:cNvSpPr/>
          <p:nvPr/>
        </p:nvSpPr>
        <p:spPr>
          <a:xfrm>
            <a:off x="1035000" y="243036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Oval 12"/>
          <p:cNvSpPr/>
          <p:nvPr/>
        </p:nvSpPr>
        <p:spPr>
          <a:xfrm>
            <a:off x="1035000" y="288756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Oval 13"/>
          <p:cNvSpPr/>
          <p:nvPr/>
        </p:nvSpPr>
        <p:spPr>
          <a:xfrm>
            <a:off x="1035000" y="332568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Oval 14"/>
          <p:cNvSpPr/>
          <p:nvPr/>
        </p:nvSpPr>
        <p:spPr>
          <a:xfrm>
            <a:off x="1035000" y="378288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25"/>
          <p:cNvGrpSpPr/>
          <p:nvPr/>
        </p:nvGrpSpPr>
        <p:grpSpPr>
          <a:xfrm>
            <a:off x="420840" y="4114800"/>
            <a:ext cx="8843760" cy="2588040"/>
            <a:chOff x="420840" y="4114800"/>
            <a:chExt cx="8843760" cy="2588040"/>
          </a:xfrm>
        </p:grpSpPr>
        <p:sp>
          <p:nvSpPr>
            <p:cNvPr id="241" name="Rectangle 16"/>
            <p:cNvSpPr/>
            <p:nvPr/>
          </p:nvSpPr>
          <p:spPr>
            <a:xfrm>
              <a:off x="420840" y="4114800"/>
              <a:ext cx="86198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uando las empresas sienten presión o ven oportunidad para mejorar posició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Rectangle 17"/>
            <p:cNvSpPr/>
            <p:nvPr/>
          </p:nvSpPr>
          <p:spPr>
            <a:xfrm>
              <a:off x="1403280" y="4941720"/>
              <a:ext cx="7861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etencia por preci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Rectangle 18"/>
            <p:cNvSpPr/>
            <p:nvPr/>
          </p:nvSpPr>
          <p:spPr>
            <a:xfrm>
              <a:off x="1403280" y="5516640"/>
              <a:ext cx="71470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ampañas publicitarias pueden incrementar demanda total en la industria, pero muy costoso para los competidores minoritari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Oval 19"/>
            <p:cNvSpPr/>
            <p:nvPr/>
          </p:nvSpPr>
          <p:spPr>
            <a:xfrm rot="5400000">
              <a:off x="1026720" y="5068800"/>
              <a:ext cx="196920" cy="2667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5" name="Oval 24"/>
          <p:cNvSpPr/>
          <p:nvPr/>
        </p:nvSpPr>
        <p:spPr>
          <a:xfrm rot="5400000">
            <a:off x="1026720" y="5554440"/>
            <a:ext cx="196560" cy="2667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525600" y="60008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587520" y="1297080"/>
            <a:ext cx="8013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Rivalidad es función d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0" y="2779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alibri"/>
              </a:rPr>
              <a:t>Rivalidad entre los competidores existen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9" name="Group 27"/>
          <p:cNvGrpSpPr/>
          <p:nvPr/>
        </p:nvGrpSpPr>
        <p:grpSpPr>
          <a:xfrm>
            <a:off x="1332000" y="1935000"/>
            <a:ext cx="7543800" cy="4425120"/>
            <a:chOff x="1332000" y="1935000"/>
            <a:chExt cx="7543800" cy="4425120"/>
          </a:xfrm>
        </p:grpSpPr>
        <p:sp>
          <p:nvSpPr>
            <p:cNvPr id="250" name="Rectangle 6"/>
            <p:cNvSpPr/>
            <p:nvPr/>
          </p:nvSpPr>
          <p:spPr>
            <a:xfrm>
              <a:off x="1332000" y="1935000"/>
              <a:ext cx="7161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etidores numerosos o equilibrad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Rectangle 7"/>
            <p:cNvSpPr/>
            <p:nvPr/>
          </p:nvSpPr>
          <p:spPr>
            <a:xfrm>
              <a:off x="1333800" y="2440080"/>
              <a:ext cx="4483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Lento crecimiento industrial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Rectangle 8"/>
            <p:cNvSpPr/>
            <p:nvPr/>
          </p:nvSpPr>
          <p:spPr>
            <a:xfrm>
              <a:off x="1333800" y="3014640"/>
              <a:ext cx="2573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Altos costos fij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Rectangle 9"/>
            <p:cNvSpPr/>
            <p:nvPr/>
          </p:nvSpPr>
          <p:spPr>
            <a:xfrm>
              <a:off x="1332000" y="3951360"/>
              <a:ext cx="7161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Falta de diferenciación o bajos costos de cambi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Rectangle 10"/>
            <p:cNvSpPr/>
            <p:nvPr/>
          </p:nvSpPr>
          <p:spPr>
            <a:xfrm>
              <a:off x="1333800" y="3519360"/>
              <a:ext cx="5203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Altos costos de almacenamient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Rectangle 11"/>
            <p:cNvSpPr/>
            <p:nvPr/>
          </p:nvSpPr>
          <p:spPr>
            <a:xfrm>
              <a:off x="1332000" y="4456080"/>
              <a:ext cx="7543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apacidad que aumenta en porcentajes important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Rectangle 12"/>
            <p:cNvSpPr/>
            <p:nvPr/>
          </p:nvSpPr>
          <p:spPr>
            <a:xfrm>
              <a:off x="1332000" y="5464080"/>
              <a:ext cx="361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Gran interés estratégic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Rectangle 13"/>
            <p:cNvSpPr/>
            <p:nvPr/>
          </p:nvSpPr>
          <p:spPr>
            <a:xfrm>
              <a:off x="1332000" y="5905440"/>
              <a:ext cx="4772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Importantes barreras para salir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Rectangle 14"/>
            <p:cNvSpPr/>
            <p:nvPr/>
          </p:nvSpPr>
          <p:spPr>
            <a:xfrm>
              <a:off x="1332000" y="4959360"/>
              <a:ext cx="3476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etidores divers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9" name="Group 26"/>
          <p:cNvGrpSpPr/>
          <p:nvPr/>
        </p:nvGrpSpPr>
        <p:grpSpPr>
          <a:xfrm>
            <a:off x="1000080" y="2073240"/>
            <a:ext cx="171360" cy="4159080"/>
            <a:chOff x="1000080" y="2073240"/>
            <a:chExt cx="171360" cy="4159080"/>
          </a:xfrm>
        </p:grpSpPr>
        <p:sp>
          <p:nvSpPr>
            <p:cNvPr id="260" name="Oval 16"/>
            <p:cNvSpPr/>
            <p:nvPr/>
          </p:nvSpPr>
          <p:spPr>
            <a:xfrm>
              <a:off x="1000080" y="207324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Oval 17"/>
            <p:cNvSpPr/>
            <p:nvPr/>
          </p:nvSpPr>
          <p:spPr>
            <a:xfrm>
              <a:off x="1000080" y="257796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Oval 18"/>
            <p:cNvSpPr/>
            <p:nvPr/>
          </p:nvSpPr>
          <p:spPr>
            <a:xfrm>
              <a:off x="1000080" y="31543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Oval 19"/>
            <p:cNvSpPr/>
            <p:nvPr/>
          </p:nvSpPr>
          <p:spPr>
            <a:xfrm>
              <a:off x="1000080" y="365760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Oval 20"/>
            <p:cNvSpPr/>
            <p:nvPr/>
          </p:nvSpPr>
          <p:spPr>
            <a:xfrm>
              <a:off x="1000080" y="408924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Oval 21"/>
            <p:cNvSpPr/>
            <p:nvPr/>
          </p:nvSpPr>
          <p:spPr>
            <a:xfrm>
              <a:off x="1000080" y="45943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Oval 22"/>
            <p:cNvSpPr/>
            <p:nvPr/>
          </p:nvSpPr>
          <p:spPr>
            <a:xfrm>
              <a:off x="1000080" y="509760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Oval 23"/>
            <p:cNvSpPr/>
            <p:nvPr/>
          </p:nvSpPr>
          <p:spPr>
            <a:xfrm>
              <a:off x="1000080" y="56023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Oval 24"/>
            <p:cNvSpPr/>
            <p:nvPr/>
          </p:nvSpPr>
          <p:spPr>
            <a:xfrm>
              <a:off x="1000080" y="606096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1106640" y="1204920"/>
            <a:ext cx="721044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Altas barreras de salida</a:t>
            </a:r>
            <a:r>
              <a:rPr b="0" i="1" lang="es-ES" sz="2800" spc="-1" strike="noStrike">
                <a:solidFill>
                  <a:srgbClr val="0000ff"/>
                </a:solidFill>
                <a:latin typeface="Calibri"/>
              </a:rPr>
              <a:t> son Factores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económicos, estratégicos y emocionales</a:t>
            </a:r>
            <a:r>
              <a:rPr b="0" i="1" lang="es-ES" sz="2800" spc="-1" strike="noStrike">
                <a:solidFill>
                  <a:srgbClr val="0000ff"/>
                </a:solidFill>
                <a:latin typeface="Calibri"/>
              </a:rPr>
              <a:t> que pueden lograr que las empresas permanezcan en la industria aún cuando sus utilidades futuras sean inciert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1549440" y="3583080"/>
            <a:ext cx="7126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ctivos especializados asociados a un negocio o una ubic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1549440" y="4343400"/>
            <a:ext cx="70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stos de salida fijos (acuerdos laboral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1550880" y="5638680"/>
            <a:ext cx="5469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s emocionales, lealt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1549440" y="6143760"/>
            <a:ext cx="70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stricciones sociales y gubernament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1549440" y="4846680"/>
            <a:ext cx="7126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laciones estratégicas de dependencia, de instalaciones comunes o de acceso a merc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0" y="277920"/>
            <a:ext cx="91440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ivalidad entre los competidores exist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11"/>
          <p:cNvSpPr/>
          <p:nvPr/>
        </p:nvSpPr>
        <p:spPr>
          <a:xfrm>
            <a:off x="1258920" y="376236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Oval 12"/>
          <p:cNvSpPr/>
          <p:nvPr/>
        </p:nvSpPr>
        <p:spPr>
          <a:xfrm>
            <a:off x="1258920" y="448164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Oval 13"/>
          <p:cNvSpPr/>
          <p:nvPr/>
        </p:nvSpPr>
        <p:spPr>
          <a:xfrm>
            <a:off x="1258920" y="500076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Oval 14"/>
          <p:cNvSpPr/>
          <p:nvPr/>
        </p:nvSpPr>
        <p:spPr>
          <a:xfrm>
            <a:off x="1258920" y="5778360"/>
            <a:ext cx="17136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Oval 15"/>
          <p:cNvSpPr/>
          <p:nvPr/>
        </p:nvSpPr>
        <p:spPr>
          <a:xfrm>
            <a:off x="1258920" y="6281640"/>
            <a:ext cx="17136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5"/>
          <p:cNvSpPr/>
          <p:nvPr/>
        </p:nvSpPr>
        <p:spPr>
          <a:xfrm>
            <a:off x="5383080" y="1844640"/>
            <a:ext cx="2718000" cy="1879560"/>
          </a:xfrm>
          <a:prstGeom prst="rect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5619600" y="2112840"/>
            <a:ext cx="2244960" cy="13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tornos altos, ines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395280" y="3429000"/>
            <a:ext cx="1655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s a la entr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4030920" y="5734080"/>
            <a:ext cx="241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s de Sali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897840" y="2708280"/>
            <a:ext cx="1156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ch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10"/>
          <p:cNvSpPr/>
          <p:nvPr/>
        </p:nvSpPr>
        <p:spPr>
          <a:xfrm>
            <a:off x="1158120" y="4724280"/>
            <a:ext cx="8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11"/>
          <p:cNvSpPr/>
          <p:nvPr/>
        </p:nvSpPr>
        <p:spPr>
          <a:xfrm>
            <a:off x="6146280" y="6215040"/>
            <a:ext cx="1156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ch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12"/>
          <p:cNvSpPr/>
          <p:nvPr/>
        </p:nvSpPr>
        <p:spPr>
          <a:xfrm>
            <a:off x="3522240" y="6192720"/>
            <a:ext cx="8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2563920" y="3854520"/>
            <a:ext cx="2717640" cy="1879560"/>
          </a:xfrm>
          <a:prstGeom prst="rect">
            <a:avLst/>
          </a:prstGeom>
          <a:solidFill>
            <a:srgbClr val="d9ff6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ectangle 13"/>
          <p:cNvSpPr/>
          <p:nvPr/>
        </p:nvSpPr>
        <p:spPr>
          <a:xfrm>
            <a:off x="2800440" y="4086360"/>
            <a:ext cx="2244600" cy="13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Retornos bajo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es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2563920" y="1844640"/>
            <a:ext cx="2717640" cy="18795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14"/>
          <p:cNvSpPr/>
          <p:nvPr/>
        </p:nvSpPr>
        <p:spPr>
          <a:xfrm>
            <a:off x="2800440" y="2112840"/>
            <a:ext cx="2244600" cy="94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Retornos altos, es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5383080" y="3860640"/>
            <a:ext cx="2718000" cy="1879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15"/>
          <p:cNvSpPr/>
          <p:nvPr/>
        </p:nvSpPr>
        <p:spPr>
          <a:xfrm>
            <a:off x="5619600" y="4092480"/>
            <a:ext cx="2244960" cy="13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tornos bajos, ines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6"/>
          <p:cNvSpPr/>
          <p:nvPr/>
        </p:nvSpPr>
        <p:spPr>
          <a:xfrm>
            <a:off x="0" y="154080"/>
            <a:ext cx="9144000" cy="106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Efectos de las barreras a la entrada y la salida sobre las utilidades de la indust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114480"/>
            <a:ext cx="9144000" cy="57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Análisis de los competido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7" name="Group 4"/>
          <p:cNvGrpSpPr/>
          <p:nvPr/>
        </p:nvGrpSpPr>
        <p:grpSpPr>
          <a:xfrm>
            <a:off x="179280" y="836640"/>
            <a:ext cx="4800600" cy="1450440"/>
            <a:chOff x="179280" y="836640"/>
            <a:chExt cx="4800600" cy="1450440"/>
          </a:xfrm>
        </p:grpSpPr>
        <p:sp>
          <p:nvSpPr>
            <p:cNvPr id="298" name="AutoShape 5"/>
            <p:cNvSpPr/>
            <p:nvPr/>
          </p:nvSpPr>
          <p:spPr>
            <a:xfrm>
              <a:off x="179280" y="836640"/>
              <a:ext cx="4800600" cy="1450440"/>
            </a:xfrm>
            <a:prstGeom prst="bevel">
              <a:avLst>
                <a:gd name="adj" fmla="val 5681"/>
              </a:avLst>
            </a:prstGeom>
            <a:solidFill>
              <a:srgbClr val="cc33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Rectangle 6"/>
            <p:cNvSpPr/>
            <p:nvPr/>
          </p:nvSpPr>
          <p:spPr>
            <a:xfrm>
              <a:off x="264960" y="836640"/>
              <a:ext cx="212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Calibri"/>
                </a:rPr>
                <a:t>Supuest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Rectangle 7"/>
          <p:cNvSpPr/>
          <p:nvPr/>
        </p:nvSpPr>
        <p:spPr>
          <a:xfrm>
            <a:off x="270000" y="1220760"/>
            <a:ext cx="45892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Qué supuestos hacemos sobre nuestros competidores y sobre el futuro de éstos y de la industria en conjunt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AutoShape 9"/>
          <p:cNvSpPr/>
          <p:nvPr/>
        </p:nvSpPr>
        <p:spPr>
          <a:xfrm>
            <a:off x="152280" y="2492280"/>
            <a:ext cx="4800600" cy="1447920"/>
          </a:xfrm>
          <a:prstGeom prst="bevel">
            <a:avLst>
              <a:gd name="adj" fmla="val 5681"/>
            </a:avLst>
          </a:prstGeom>
          <a:solidFill>
            <a:srgbClr val="800080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0"/>
          <p:cNvSpPr/>
          <p:nvPr/>
        </p:nvSpPr>
        <p:spPr>
          <a:xfrm>
            <a:off x="237960" y="2565360"/>
            <a:ext cx="302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Estrategia</a:t>
            </a:r>
            <a:r>
              <a:rPr b="0" lang="es-ES" sz="2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act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1"/>
          <p:cNvSpPr/>
          <p:nvPr/>
        </p:nvSpPr>
        <p:spPr>
          <a:xfrm>
            <a:off x="324000" y="2924280"/>
            <a:ext cx="455292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Nuestra estrategia actual, ¿soporta cambios en un entorno competitiv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AutoShape 13"/>
          <p:cNvSpPr/>
          <p:nvPr/>
        </p:nvSpPr>
        <p:spPr>
          <a:xfrm>
            <a:off x="152280" y="4017960"/>
            <a:ext cx="4800600" cy="1282680"/>
          </a:xfrm>
          <a:prstGeom prst="bevel">
            <a:avLst>
              <a:gd name="adj" fmla="val 5681"/>
            </a:avLst>
          </a:prstGeom>
          <a:solidFill>
            <a:srgbClr val="3366ff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14"/>
          <p:cNvSpPr/>
          <p:nvPr/>
        </p:nvSpPr>
        <p:spPr>
          <a:xfrm>
            <a:off x="237960" y="4076640"/>
            <a:ext cx="433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Objetivos</a:t>
            </a:r>
            <a:r>
              <a:rPr b="0" lang="es-ES" sz="2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futu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363600" y="4465800"/>
            <a:ext cx="449568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¿Cómo comparar nuestras metas con las de nuestros competidore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AutoShape 17"/>
          <p:cNvSpPr/>
          <p:nvPr/>
        </p:nvSpPr>
        <p:spPr>
          <a:xfrm>
            <a:off x="152280" y="5356080"/>
            <a:ext cx="4800600" cy="1457640"/>
          </a:xfrm>
          <a:prstGeom prst="bevel">
            <a:avLst>
              <a:gd name="adj" fmla="val 5681"/>
            </a:avLst>
          </a:prstGeom>
          <a:solidFill>
            <a:srgbClr val="ffff99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237960" y="5373720"/>
            <a:ext cx="302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pacid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19"/>
          <p:cNvSpPr/>
          <p:nvPr/>
        </p:nvSpPr>
        <p:spPr>
          <a:xfrm>
            <a:off x="318960" y="5821200"/>
            <a:ext cx="4353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Cómo comparar nuestras capacidades con las de nuestros competidore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21"/>
          <p:cNvSpPr/>
          <p:nvPr/>
        </p:nvSpPr>
        <p:spPr>
          <a:xfrm>
            <a:off x="5486400" y="1677960"/>
            <a:ext cx="3390840" cy="4178160"/>
          </a:xfrm>
          <a:custGeom>
            <a:avLst/>
            <a:gdLst>
              <a:gd name="textAreaLeft" fmla="*/ 123480 w 3390840"/>
              <a:gd name="textAreaRight" fmla="*/ 3267360 w 3390840"/>
              <a:gd name="textAreaTop" fmla="*/ 123480 h 4178160"/>
              <a:gd name="textAreaBottom" fmla="*/ 4054680 h 4178160"/>
            </a:gdLst>
            <a:ahLst/>
            <a:rect l="textAreaLeft" t="textAreaTop" r="textAreaRight" b="textAreaBottom"/>
            <a:pathLst>
              <a:path w="21600" h="26615">
                <a:moveTo>
                  <a:pt x="2691" y="0"/>
                </a:moveTo>
                <a:arcTo wR="2691" hR="2691" stAng="16200000" swAng="-5400000"/>
                <a:lnTo>
                  <a:pt x="0" y="23924"/>
                </a:lnTo>
                <a:arcTo wR="2691" hR="2691" stAng="10800000" swAng="-5400000"/>
                <a:lnTo>
                  <a:pt x="18909" y="26615"/>
                </a:lnTo>
                <a:arcTo wR="2691" hR="2691" stAng="5400000" swAng="-5400000"/>
                <a:lnTo>
                  <a:pt x="21600" y="2691"/>
                </a:lnTo>
                <a:arcTo wR="2691" hR="2691" stAng="0" swAng="-5400000"/>
                <a:close/>
              </a:path>
            </a:pathLst>
          </a:custGeom>
          <a:solidFill>
            <a:srgbClr val="ff9933"/>
          </a:solidFill>
          <a:ln w="12600">
            <a:solidFill>
              <a:srgbClr val="800080"/>
            </a:solidFill>
            <a:miter/>
          </a:ln>
          <a:effectLst>
            <a:outerShdw dist="143570" dir="2700000" blurRad="0" rotWithShape="0">
              <a:srgbClr val="cc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22"/>
          <p:cNvSpPr/>
          <p:nvPr/>
        </p:nvSpPr>
        <p:spPr>
          <a:xfrm>
            <a:off x="6218280" y="1676520"/>
            <a:ext cx="2124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Reac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2" name="Group 23"/>
          <p:cNvGrpSpPr/>
          <p:nvPr/>
        </p:nvGrpSpPr>
        <p:grpSpPr>
          <a:xfrm>
            <a:off x="5613480" y="2173320"/>
            <a:ext cx="3249360" cy="1033920"/>
            <a:chOff x="5613480" y="2173320"/>
            <a:chExt cx="3249360" cy="1033920"/>
          </a:xfrm>
        </p:grpSpPr>
        <p:sp>
          <p:nvSpPr>
            <p:cNvPr id="313" name="Oval 24"/>
            <p:cNvSpPr/>
            <p:nvPr/>
          </p:nvSpPr>
          <p:spPr>
            <a:xfrm>
              <a:off x="5613480" y="2287440"/>
              <a:ext cx="152280" cy="15192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Rectangle 25"/>
            <p:cNvSpPr/>
            <p:nvPr/>
          </p:nvSpPr>
          <p:spPr>
            <a:xfrm>
              <a:off x="5799240" y="2173320"/>
              <a:ext cx="3063600" cy="10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300" spc="-1" strike="noStrike">
                  <a:solidFill>
                    <a:srgbClr val="800080"/>
                  </a:solidFill>
                  <a:latin typeface="Calibri"/>
                </a:rPr>
                <a:t>Qué harán nuestros competidores en el futuro?</a:t>
              </a:r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5" name="Group 26"/>
          <p:cNvGrpSpPr/>
          <p:nvPr/>
        </p:nvGrpSpPr>
        <p:grpSpPr>
          <a:xfrm>
            <a:off x="5613480" y="3328920"/>
            <a:ext cx="3173400" cy="1033920"/>
            <a:chOff x="5613480" y="3328920"/>
            <a:chExt cx="3173400" cy="1033920"/>
          </a:xfrm>
        </p:grpSpPr>
        <p:sp>
          <p:nvSpPr>
            <p:cNvPr id="316" name="Oval 27"/>
            <p:cNvSpPr/>
            <p:nvPr/>
          </p:nvSpPr>
          <p:spPr>
            <a:xfrm>
              <a:off x="5613480" y="3430800"/>
              <a:ext cx="152280" cy="15228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Rectangle 28"/>
            <p:cNvSpPr/>
            <p:nvPr/>
          </p:nvSpPr>
          <p:spPr>
            <a:xfrm>
              <a:off x="5799240" y="3328920"/>
              <a:ext cx="2987640" cy="10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300" spc="-1" strike="noStrike">
                  <a:solidFill>
                    <a:srgbClr val="800080"/>
                  </a:solidFill>
                  <a:latin typeface="Calibri"/>
                </a:rPr>
                <a:t>Cuándo obtenemos una ventaja competitiva?</a:t>
              </a:r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Group 29"/>
          <p:cNvGrpSpPr/>
          <p:nvPr/>
        </p:nvGrpSpPr>
        <p:grpSpPr>
          <a:xfrm>
            <a:off x="5613480" y="4476600"/>
            <a:ext cx="3173400" cy="1348920"/>
            <a:chOff x="5613480" y="4476600"/>
            <a:chExt cx="3173400" cy="1348920"/>
          </a:xfrm>
        </p:grpSpPr>
        <p:sp>
          <p:nvSpPr>
            <p:cNvPr id="319" name="Oval 30"/>
            <p:cNvSpPr/>
            <p:nvPr/>
          </p:nvSpPr>
          <p:spPr>
            <a:xfrm>
              <a:off x="5613480" y="4578480"/>
              <a:ext cx="152280" cy="15228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Rectangle 31"/>
            <p:cNvSpPr/>
            <p:nvPr/>
          </p:nvSpPr>
          <p:spPr>
            <a:xfrm>
              <a:off x="5799240" y="4476600"/>
              <a:ext cx="2987640" cy="13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300" spc="-1" strike="noStrike">
                  <a:solidFill>
                    <a:srgbClr val="800080"/>
                  </a:solidFill>
                  <a:latin typeface="Calibri"/>
                </a:rPr>
                <a:t>Cómo cambia esta ventaja, nuestra relación con nuestros competidores?</a:t>
              </a:r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strips dir="r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01840" y="303120"/>
            <a:ext cx="627696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mbiente competitiv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239480"/>
            <a:ext cx="850572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nteligencia del Competidor es un conjunto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ético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e información y datos relevantes acerca de los  competidores respecto de sus objetivos, estrategias, supuestos y capacida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488880" y="3265560"/>
            <a:ext cx="819792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9840" indent="-339840" algn="just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orienta a los competidores, visto como sus 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objetivos futu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hacen los competidores y puede ser revelado como su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estrategia act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los competidores creen de si mismos y de la industria, visto como sus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supues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los competidores son capaces de hacer, visto como sus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capacid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ndencias y Oportunida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 sector, comparativamente con otros o con sectores similares en el resto del mundo, ¿está desarrollado o no en la zona donde hacemos este análisis?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ómo pensamos que evolucionará este sector. Cómo crecerá? Cuánto? Cómo se especializará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do todo lo visto, qué oportunidades se aprecian en este secto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 un inversionista los contrata para definir si conviene o no entrar en este mercado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¿Es recomendable invertir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¿Dónde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¿Haciendo qué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¿Con qué tipo de estrategia genérica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¿Qué factores son críticos a su juici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ganización Indust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¿Cómo se estructuran las empresas que participan en este sector; tamaños, focos, segmentos, posicionamientos. Especializacione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¿Cómo son las rentas que obtienen las empresas de este sector? ¿Qué varianza existe entre las empresas y temporalmente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¿Qué estrategias podemos intuir o ver en las empresas de este sector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o en clientes?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o en eficiencia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ductas monopólicas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y líderes y seguidores?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El Medio Extern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34"/>
          <p:cNvSpPr/>
          <p:nvPr/>
        </p:nvSpPr>
        <p:spPr>
          <a:xfrm rot="3654000">
            <a:off x="6571800" y="228132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35"/>
          <p:cNvSpPr/>
          <p:nvPr/>
        </p:nvSpPr>
        <p:spPr>
          <a:xfrm rot="17899800">
            <a:off x="6006240" y="4953240"/>
            <a:ext cx="22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36"/>
          <p:cNvSpPr/>
          <p:nvPr/>
        </p:nvSpPr>
        <p:spPr>
          <a:xfrm>
            <a:off x="4366080" y="621180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37"/>
          <p:cNvSpPr/>
          <p:nvPr/>
        </p:nvSpPr>
        <p:spPr>
          <a:xfrm>
            <a:off x="4225320" y="94788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38"/>
          <p:cNvSpPr/>
          <p:nvPr/>
        </p:nvSpPr>
        <p:spPr>
          <a:xfrm rot="17990400">
            <a:off x="1965600" y="215748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39"/>
          <p:cNvSpPr/>
          <p:nvPr/>
        </p:nvSpPr>
        <p:spPr>
          <a:xfrm rot="3636600">
            <a:off x="1566000" y="4980600"/>
            <a:ext cx="22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AutoShape 40"/>
          <p:cNvSpPr/>
          <p:nvPr/>
        </p:nvSpPr>
        <p:spPr>
          <a:xfrm>
            <a:off x="2171880" y="1411200"/>
            <a:ext cx="5495760" cy="4862520"/>
          </a:xfrm>
          <a:prstGeom prst="hexagon">
            <a:avLst>
              <a:gd name="adj" fmla="val 28245"/>
              <a:gd name="vf" fmla="val 115470"/>
            </a:avLst>
          </a:prstGeom>
          <a:gradFill rotWithShape="0">
            <a:gsLst>
              <a:gs pos="0">
                <a:srgbClr val="883c86">
                  <a:alpha val="50196"/>
                </a:srgbClr>
              </a:gs>
              <a:gs pos="100000">
                <a:srgbClr val="3f1c3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Group 41"/>
          <p:cNvGrpSpPr/>
          <p:nvPr/>
        </p:nvGrpSpPr>
        <p:grpSpPr>
          <a:xfrm>
            <a:off x="3895560" y="1411200"/>
            <a:ext cx="2070000" cy="669960"/>
            <a:chOff x="3895560" y="1411200"/>
            <a:chExt cx="2070000" cy="669960"/>
          </a:xfrm>
        </p:grpSpPr>
        <p:sp>
          <p:nvSpPr>
            <p:cNvPr id="63" name="AutoShape 42"/>
            <p:cNvSpPr/>
            <p:nvPr/>
          </p:nvSpPr>
          <p:spPr>
            <a:xfrm>
              <a:off x="3895560" y="141120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003b"/>
                </a:gs>
                <a:gs pos="100000">
                  <a:srgbClr val="8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AutoShape 43"/>
            <p:cNvSpPr/>
            <p:nvPr/>
          </p:nvSpPr>
          <p:spPr>
            <a:xfrm>
              <a:off x="3978000" y="1471680"/>
              <a:ext cx="190512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0080"/>
                </a:gs>
                <a:gs pos="100000">
                  <a:srgbClr val="3b00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Sociocultura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44"/>
          <p:cNvGrpSpPr/>
          <p:nvPr/>
        </p:nvGrpSpPr>
        <p:grpSpPr>
          <a:xfrm>
            <a:off x="2340000" y="3829680"/>
            <a:ext cx="1618560" cy="2126520"/>
            <a:chOff x="2340000" y="3829680"/>
            <a:chExt cx="1618560" cy="2126520"/>
          </a:xfrm>
        </p:grpSpPr>
        <p:sp>
          <p:nvSpPr>
            <p:cNvPr id="66" name="AutoShape 45"/>
            <p:cNvSpPr/>
            <p:nvPr/>
          </p:nvSpPr>
          <p:spPr>
            <a:xfrm rot="3591600">
              <a:off x="2113920" y="455796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3b00"/>
                </a:gs>
                <a:gs pos="100000">
                  <a:srgbClr val="8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AutoShape 46"/>
            <p:cNvSpPr/>
            <p:nvPr/>
          </p:nvSpPr>
          <p:spPr>
            <a:xfrm rot="3591600">
              <a:off x="2195640" y="4619160"/>
              <a:ext cx="190512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00"/>
                </a:gs>
                <a:gs pos="100000">
                  <a:srgbClr val="3b3b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Globa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47"/>
          <p:cNvGrpSpPr/>
          <p:nvPr/>
        </p:nvGrpSpPr>
        <p:grpSpPr>
          <a:xfrm>
            <a:off x="3894120" y="5605560"/>
            <a:ext cx="2070000" cy="669960"/>
            <a:chOff x="3894120" y="5605560"/>
            <a:chExt cx="2070000" cy="669960"/>
          </a:xfrm>
        </p:grpSpPr>
        <p:sp>
          <p:nvSpPr>
            <p:cNvPr id="69" name="AutoShape 48"/>
            <p:cNvSpPr/>
            <p:nvPr/>
          </p:nvSpPr>
          <p:spPr>
            <a:xfrm>
              <a:off x="3894120" y="560556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AutoShape 49"/>
            <p:cNvSpPr/>
            <p:nvPr/>
          </p:nvSpPr>
          <p:spPr>
            <a:xfrm>
              <a:off x="3976560" y="5665680"/>
              <a:ext cx="190440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Tecnologí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50"/>
          <p:cNvGrpSpPr/>
          <p:nvPr/>
        </p:nvGrpSpPr>
        <p:grpSpPr>
          <a:xfrm>
            <a:off x="5889240" y="3813480"/>
            <a:ext cx="1607400" cy="2130120"/>
            <a:chOff x="5889240" y="3813480"/>
            <a:chExt cx="1607400" cy="2130120"/>
          </a:xfrm>
        </p:grpSpPr>
        <p:sp>
          <p:nvSpPr>
            <p:cNvPr id="72" name="AutoShape 51"/>
            <p:cNvSpPr/>
            <p:nvPr/>
          </p:nvSpPr>
          <p:spPr>
            <a:xfrm rot="17981400">
              <a:off x="5657760" y="454320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f0076"/>
                </a:gs>
                <a:gs pos="100000">
                  <a:srgbClr val="66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AutoShape 52"/>
            <p:cNvSpPr/>
            <p:nvPr/>
          </p:nvSpPr>
          <p:spPr>
            <a:xfrm rot="17981400">
              <a:off x="5739480" y="4604040"/>
              <a:ext cx="190512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00ff"/>
                </a:gs>
                <a:gs pos="100000">
                  <a:srgbClr val="2f00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Político/Lega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53"/>
          <p:cNvGrpSpPr/>
          <p:nvPr/>
        </p:nvGrpSpPr>
        <p:grpSpPr>
          <a:xfrm>
            <a:off x="2331720" y="1743120"/>
            <a:ext cx="1606680" cy="2130120"/>
            <a:chOff x="2331720" y="1743120"/>
            <a:chExt cx="1606680" cy="2130120"/>
          </a:xfrm>
        </p:grpSpPr>
        <p:sp>
          <p:nvSpPr>
            <p:cNvPr id="75" name="AutoShape 54"/>
            <p:cNvSpPr/>
            <p:nvPr/>
          </p:nvSpPr>
          <p:spPr>
            <a:xfrm rot="17980800">
              <a:off x="2099880" y="2473200"/>
              <a:ext cx="2070000" cy="669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d2f45"/>
                </a:gs>
                <a:gs pos="100000">
                  <a:srgbClr val="4f81b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AutoShape 55"/>
            <p:cNvSpPr/>
            <p:nvPr/>
          </p:nvSpPr>
          <p:spPr>
            <a:xfrm rot="17980800">
              <a:off x="2181960" y="2534400"/>
              <a:ext cx="190440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f81bd"/>
                </a:gs>
                <a:gs pos="100000">
                  <a:srgbClr val="1d2f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eeece1"/>
                  </a:solidFill>
                  <a:latin typeface="Calibri"/>
                </a:rPr>
                <a:t>Demográfic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Group 56"/>
          <p:cNvGrpSpPr/>
          <p:nvPr/>
        </p:nvGrpSpPr>
        <p:grpSpPr>
          <a:xfrm>
            <a:off x="5915520" y="1757160"/>
            <a:ext cx="1592280" cy="2134440"/>
            <a:chOff x="5915520" y="1757160"/>
            <a:chExt cx="1592280" cy="2134440"/>
          </a:xfrm>
        </p:grpSpPr>
        <p:sp>
          <p:nvSpPr>
            <p:cNvPr id="78" name="AutoShape 57"/>
            <p:cNvSpPr/>
            <p:nvPr/>
          </p:nvSpPr>
          <p:spPr>
            <a:xfrm rot="3653400">
              <a:off x="5676480" y="248940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AutoShape 58"/>
            <p:cNvSpPr/>
            <p:nvPr/>
          </p:nvSpPr>
          <p:spPr>
            <a:xfrm rot="3653400">
              <a:off x="5758200" y="2550240"/>
              <a:ext cx="190512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Economí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Group 59"/>
          <p:cNvGrpSpPr/>
          <p:nvPr/>
        </p:nvGrpSpPr>
        <p:grpSpPr>
          <a:xfrm>
            <a:off x="3040200" y="2144880"/>
            <a:ext cx="3778200" cy="3423960"/>
            <a:chOff x="3040200" y="2144880"/>
            <a:chExt cx="3778200" cy="3423960"/>
          </a:xfrm>
        </p:grpSpPr>
        <p:sp>
          <p:nvSpPr>
            <p:cNvPr id="81" name="AutoShape 60"/>
            <p:cNvSpPr/>
            <p:nvPr/>
          </p:nvSpPr>
          <p:spPr>
            <a:xfrm>
              <a:off x="3040200" y="2144880"/>
              <a:ext cx="3778200" cy="3423960"/>
            </a:xfrm>
            <a:prstGeom prst="hexagon">
              <a:avLst>
                <a:gd name="adj" fmla="val 27586"/>
                <a:gd name="vf" fmla="val 115470"/>
              </a:avLst>
            </a:prstGeom>
            <a:gradFill rotWithShape="0">
              <a:gsLst>
                <a:gs pos="0">
                  <a:srgbClr val="582523"/>
                </a:gs>
                <a:gs pos="100000">
                  <a:srgbClr val="c050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AutoShape 61"/>
            <p:cNvSpPr/>
            <p:nvPr/>
          </p:nvSpPr>
          <p:spPr>
            <a:xfrm>
              <a:off x="3151080" y="2243520"/>
              <a:ext cx="3566880" cy="3232080"/>
            </a:xfrm>
            <a:prstGeom prst="hexagon">
              <a:avLst>
                <a:gd name="adj" fmla="val 27590"/>
                <a:gd name="vf" fmla="val 115470"/>
              </a:avLst>
            </a:prstGeom>
            <a:gradFill rotWithShape="0">
              <a:gsLst>
                <a:gs pos="0">
                  <a:srgbClr val="243b57"/>
                </a:gs>
                <a:gs pos="100000">
                  <a:srgbClr val="4f81b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Text Box 62"/>
          <p:cNvSpPr/>
          <p:nvPr/>
        </p:nvSpPr>
        <p:spPr>
          <a:xfrm>
            <a:off x="3562200" y="2492280"/>
            <a:ext cx="2733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Ambiente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Industr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Amenaza de nuevos entran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Poder de proveedo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Poder de comprado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Productos sustitut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Intensidad de rivalidad de competido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63"/>
          <p:cNvSpPr/>
          <p:nvPr/>
        </p:nvSpPr>
        <p:spPr>
          <a:xfrm>
            <a:off x="3562200" y="4508640"/>
            <a:ext cx="273384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800" spc="-1" strike="noStrike">
                <a:solidFill>
                  <a:srgbClr val="1f497d"/>
                </a:solidFill>
                <a:latin typeface="Calibri"/>
              </a:rPr>
              <a:t>Componentes del Entorno General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11280" y="836640"/>
          <a:ext cx="8078760" cy="588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836640"/>
                    <a:ext cx="8078760" cy="58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800" spc="-1" strike="noStrike">
                <a:solidFill>
                  <a:srgbClr val="1f497d"/>
                </a:solidFill>
                <a:latin typeface="Calibri"/>
              </a:rPr>
              <a:t>Análisis del ambiente externo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57200" y="99072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l proceso de análisis del ambiente externo debiera ser conducido sobre una base continua.  Este proceso incluye cuatro actividad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Group 13"/>
          <p:cNvGrpSpPr/>
          <p:nvPr/>
        </p:nvGrpSpPr>
        <p:grpSpPr>
          <a:xfrm>
            <a:off x="471600" y="2405160"/>
            <a:ext cx="8264520" cy="790200"/>
            <a:chOff x="471600" y="2405160"/>
            <a:chExt cx="8264520" cy="790200"/>
          </a:xfrm>
        </p:grpSpPr>
        <p:sp>
          <p:nvSpPr>
            <p:cNvPr id="91" name="Rectangle 5"/>
            <p:cNvSpPr/>
            <p:nvPr/>
          </p:nvSpPr>
          <p:spPr>
            <a:xfrm>
              <a:off x="471600" y="2405160"/>
              <a:ext cx="129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800" spc="-1" strike="noStrike">
                  <a:solidFill>
                    <a:srgbClr val="4f81bd"/>
                  </a:solidFill>
                  <a:latin typeface="Calibri"/>
                </a:rPr>
                <a:t>Rastreo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9"/>
            <p:cNvSpPr/>
            <p:nvPr/>
          </p:nvSpPr>
          <p:spPr>
            <a:xfrm>
              <a:off x="2687760" y="2443320"/>
              <a:ext cx="60483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Identificación de las primeras señales de cambios y tendencias en el ambient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Group 15"/>
          <p:cNvGrpSpPr/>
          <p:nvPr/>
        </p:nvGrpSpPr>
        <p:grpSpPr>
          <a:xfrm>
            <a:off x="483120" y="3270240"/>
            <a:ext cx="8435520" cy="1098720"/>
            <a:chOff x="483120" y="3270240"/>
            <a:chExt cx="8435520" cy="1098720"/>
          </a:xfrm>
        </p:grpSpPr>
        <p:sp>
          <p:nvSpPr>
            <p:cNvPr id="94" name="Rectangle 6"/>
            <p:cNvSpPr/>
            <p:nvPr/>
          </p:nvSpPr>
          <p:spPr>
            <a:xfrm>
              <a:off x="483120" y="3270240"/>
              <a:ext cx="184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800" spc="-1" strike="noStrike">
                  <a:solidFill>
                    <a:srgbClr val="4f81bd"/>
                  </a:solidFill>
                  <a:latin typeface="Calibri"/>
                </a:rPr>
                <a:t>Supervisión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2666880" y="3287880"/>
              <a:ext cx="625176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Detección del significado por medio de observaciones continuas de los cambios y tendencias del ambient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16"/>
          <p:cNvGrpSpPr/>
          <p:nvPr/>
        </p:nvGrpSpPr>
        <p:grpSpPr>
          <a:xfrm>
            <a:off x="472680" y="4357800"/>
            <a:ext cx="8445960" cy="1143000"/>
            <a:chOff x="472680" y="4357800"/>
            <a:chExt cx="8445960" cy="1143000"/>
          </a:xfrm>
        </p:grpSpPr>
        <p:sp>
          <p:nvSpPr>
            <p:cNvPr id="97" name="Rectangle 7"/>
            <p:cNvSpPr/>
            <p:nvPr/>
          </p:nvSpPr>
          <p:spPr>
            <a:xfrm>
              <a:off x="472680" y="4357800"/>
              <a:ext cx="172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800" spc="-1" strike="noStrike">
                  <a:solidFill>
                    <a:srgbClr val="4f81bd"/>
                  </a:solidFill>
                  <a:latin typeface="Calibri"/>
                </a:rPr>
                <a:t>Pronóstico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>
              <a:off x="2670120" y="4419720"/>
              <a:ext cx="624852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Desarrollo de proyecciones de los resultados anticipados con base en los cambios y tendencias supervisad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7"/>
          <p:cNvGrpSpPr/>
          <p:nvPr/>
        </p:nvGrpSpPr>
        <p:grpSpPr>
          <a:xfrm>
            <a:off x="471960" y="5472000"/>
            <a:ext cx="8294040" cy="1410120"/>
            <a:chOff x="471960" y="5472000"/>
            <a:chExt cx="8294040" cy="1410120"/>
          </a:xfrm>
        </p:grpSpPr>
        <p:sp>
          <p:nvSpPr>
            <p:cNvPr id="100" name="Rectangle 8"/>
            <p:cNvSpPr/>
            <p:nvPr/>
          </p:nvSpPr>
          <p:spPr>
            <a:xfrm>
              <a:off x="471960" y="5502240"/>
              <a:ext cx="172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800" spc="-1" strike="noStrike">
                  <a:solidFill>
                    <a:srgbClr val="4f81bd"/>
                  </a:solidFill>
                  <a:latin typeface="Calibri"/>
                </a:rPr>
                <a:t>Evaluación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tangle 12"/>
            <p:cNvSpPr/>
            <p:nvPr/>
          </p:nvSpPr>
          <p:spPr>
            <a:xfrm>
              <a:off x="2670120" y="5472000"/>
              <a:ext cx="6095880" cy="14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Determinación del momento e importancia de los cambios y tendencias en el ambiente para las estrategias de las empresas y su administració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nálisis del Medio Exter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3" name="AutoShape 3"/>
          <p:cNvCxnSpPr>
            <a:stCxn id="104" idx="0"/>
            <a:endCxn id="105" idx="0"/>
          </p:cNvCxnSpPr>
          <p:nvPr/>
        </p:nvCxnSpPr>
        <p:spPr>
          <a:xfrm>
            <a:off x="2833560" y="4289400"/>
            <a:ext cx="2874240" cy="962640"/>
          </a:xfrm>
          <a:prstGeom prst="bentConnector3">
            <a:avLst>
              <a:gd name="adj1" fmla="val 51647"/>
            </a:avLst>
          </a:prstGeom>
          <a:ln cap="sq"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AutoShape 4"/>
          <p:cNvSpPr/>
          <p:nvPr/>
        </p:nvSpPr>
        <p:spPr>
          <a:xfrm>
            <a:off x="5707080" y="4535640"/>
            <a:ext cx="3138480" cy="1430280"/>
          </a:xfrm>
          <a:custGeom>
            <a:avLst/>
            <a:gdLst>
              <a:gd name="textAreaLeft" fmla="*/ 92520 w 3138480"/>
              <a:gd name="textAreaRight" fmla="*/ 3045960 w 3138480"/>
              <a:gd name="textAreaTop" fmla="*/ 92520 h 1430280"/>
              <a:gd name="textAreaBottom" fmla="*/ 1337760 h 1430280"/>
            </a:gdLst>
            <a:ahLst/>
            <a:rect l="textAreaLeft" t="textAreaTop" r="textAreaRight" b="textAreaBottom"/>
            <a:pathLst>
              <a:path w="47391" h="21600">
                <a:moveTo>
                  <a:pt x="0" y="0"/>
                </a:moveTo>
                <a:lnTo>
                  <a:pt x="47391" y="0"/>
                </a:lnTo>
                <a:lnTo>
                  <a:pt x="47391" y="21600"/>
                </a:lnTo>
                <a:lnTo>
                  <a:pt x="0" y="21600"/>
                </a:lnTo>
                <a:close/>
              </a:path>
              <a:path fill="lightenLess" w="47391" h="21600">
                <a:moveTo>
                  <a:pt x="0" y="0"/>
                </a:moveTo>
                <a:lnTo>
                  <a:pt x="47391" y="0"/>
                </a:lnTo>
                <a:lnTo>
                  <a:pt x="45991" y="1400"/>
                </a:lnTo>
                <a:lnTo>
                  <a:pt x="1400" y="1400"/>
                </a:lnTo>
                <a:close/>
              </a:path>
              <a:path fill="darken" w="47391" h="21600">
                <a:moveTo>
                  <a:pt x="47391" y="0"/>
                </a:moveTo>
                <a:lnTo>
                  <a:pt x="47391" y="21600"/>
                </a:lnTo>
                <a:lnTo>
                  <a:pt x="45991" y="20200"/>
                </a:lnTo>
                <a:lnTo>
                  <a:pt x="45991" y="1400"/>
                </a:lnTo>
                <a:close/>
              </a:path>
              <a:path fill="darkenLess" w="47391" h="21600">
                <a:moveTo>
                  <a:pt x="47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91" y="20200"/>
                </a:lnTo>
                <a:close/>
              </a:path>
              <a:path fill="lighten" w="47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0504d"/>
              </a:gs>
              <a:gs pos="100000">
                <a:srgbClr val="0b050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Intención Estratég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Misión Estratég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574560" y="3510000"/>
            <a:ext cx="2355840" cy="1558800"/>
          </a:xfrm>
          <a:custGeom>
            <a:avLst/>
            <a:gdLst>
              <a:gd name="textAreaLeft" fmla="*/ 100800 w 2355840"/>
              <a:gd name="textAreaRight" fmla="*/ 2255040 w 2355840"/>
              <a:gd name="textAreaTop" fmla="*/ 100800 h 1558800"/>
              <a:gd name="textAreaBottom" fmla="*/ 1458000 h 1558800"/>
            </a:gdLst>
            <a:ahLst/>
            <a:rect l="textAreaLeft" t="textAreaTop" r="textAreaRight" b="textAreaBottom"/>
            <a:pathLst>
              <a:path w="32642" h="21600">
                <a:moveTo>
                  <a:pt x="0" y="0"/>
                </a:moveTo>
                <a:lnTo>
                  <a:pt x="32642" y="0"/>
                </a:lnTo>
                <a:lnTo>
                  <a:pt x="32642" y="21600"/>
                </a:lnTo>
                <a:lnTo>
                  <a:pt x="0" y="21600"/>
                </a:lnTo>
                <a:close/>
              </a:path>
              <a:path fill="lightenLess" w="32642" h="21600">
                <a:moveTo>
                  <a:pt x="0" y="0"/>
                </a:moveTo>
                <a:lnTo>
                  <a:pt x="32642" y="0"/>
                </a:lnTo>
                <a:lnTo>
                  <a:pt x="31242" y="1400"/>
                </a:lnTo>
                <a:lnTo>
                  <a:pt x="1400" y="1400"/>
                </a:lnTo>
                <a:close/>
              </a:path>
              <a:path fill="darken" w="32642" h="21600">
                <a:moveTo>
                  <a:pt x="32642" y="0"/>
                </a:moveTo>
                <a:lnTo>
                  <a:pt x="32642" y="21600"/>
                </a:lnTo>
                <a:lnTo>
                  <a:pt x="31242" y="20200"/>
                </a:lnTo>
                <a:lnTo>
                  <a:pt x="31242" y="1400"/>
                </a:lnTo>
                <a:close/>
              </a:path>
              <a:path fill="darkenLess" w="32642" h="21600">
                <a:moveTo>
                  <a:pt x="326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42" y="20200"/>
                </a:lnTo>
                <a:close/>
              </a:path>
              <a:path fill="lighten" w="326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0504d"/>
              </a:gs>
              <a:gs pos="100000">
                <a:srgbClr val="1f0d0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las Exter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197080" y="1733400"/>
            <a:ext cx="45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álisis del ambiente gener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971800" y="2249640"/>
            <a:ext cx="46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álisis del medio industr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3873600" y="2754360"/>
            <a:ext cx="376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álisis del ambiente de </a:t>
            </a:r>
            <a:r>
              <a:rPr b="0" lang="es-E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mpetenc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" name="AutoShape 9"/>
          <p:cNvCxnSpPr/>
          <p:nvPr/>
        </p:nvCxnSpPr>
        <p:spPr>
          <a:xfrm flipV="1" rot="10800000">
            <a:off x="1748880" y="2477160"/>
            <a:ext cx="1167480" cy="101988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AutoShape 10"/>
          <p:cNvCxnSpPr/>
          <p:nvPr/>
        </p:nvCxnSpPr>
        <p:spPr>
          <a:xfrm flipV="1" rot="10800000">
            <a:off x="2210760" y="2971440"/>
            <a:ext cx="1553040" cy="513360"/>
          </a:xfrm>
          <a:prstGeom prst="bentConnector3">
            <a:avLst>
              <a:gd name="adj1" fmla="val 100394"/>
            </a:avLst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AutoShape 11"/>
          <p:cNvCxnSpPr>
            <a:stCxn id="106" idx="1"/>
          </p:cNvCxnSpPr>
          <p:nvPr/>
        </p:nvCxnSpPr>
        <p:spPr>
          <a:xfrm flipV="1" rot="10800000">
            <a:off x="1296360" y="1960920"/>
            <a:ext cx="900720" cy="152316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AutoShape 12"/>
          <p:cNvSpPr/>
          <p:nvPr/>
        </p:nvSpPr>
        <p:spPr>
          <a:xfrm>
            <a:off x="573120" y="3511440"/>
            <a:ext cx="2355840" cy="1559160"/>
          </a:xfrm>
          <a:custGeom>
            <a:avLst/>
            <a:gdLst>
              <a:gd name="textAreaLeft" fmla="*/ 100800 w 2355840"/>
              <a:gd name="textAreaRight" fmla="*/ 2255040 w 2355840"/>
              <a:gd name="textAreaTop" fmla="*/ 100800 h 1559160"/>
              <a:gd name="textAreaBottom" fmla="*/ 1458360 h 1559160"/>
            </a:gdLst>
            <a:ahLst/>
            <a:rect l="textAreaLeft" t="textAreaTop" r="textAreaRight" b="textAreaBottom"/>
            <a:pathLst>
              <a:path w="32634" h="21600">
                <a:moveTo>
                  <a:pt x="0" y="0"/>
                </a:moveTo>
                <a:lnTo>
                  <a:pt x="32634" y="0"/>
                </a:lnTo>
                <a:lnTo>
                  <a:pt x="32634" y="21600"/>
                </a:lnTo>
                <a:lnTo>
                  <a:pt x="0" y="21600"/>
                </a:lnTo>
                <a:close/>
              </a:path>
              <a:path fill="lightenLess" w="32634" h="21600">
                <a:moveTo>
                  <a:pt x="0" y="0"/>
                </a:moveTo>
                <a:lnTo>
                  <a:pt x="32634" y="0"/>
                </a:lnTo>
                <a:lnTo>
                  <a:pt x="31234" y="1400"/>
                </a:lnTo>
                <a:lnTo>
                  <a:pt x="1400" y="1400"/>
                </a:lnTo>
                <a:close/>
              </a:path>
              <a:path fill="darken" w="32634" h="21600">
                <a:moveTo>
                  <a:pt x="32634" y="0"/>
                </a:moveTo>
                <a:lnTo>
                  <a:pt x="32634" y="21600"/>
                </a:lnTo>
                <a:lnTo>
                  <a:pt x="31234" y="20200"/>
                </a:lnTo>
                <a:lnTo>
                  <a:pt x="31234" y="1400"/>
                </a:lnTo>
                <a:close/>
              </a:path>
              <a:path fill="darkenLess" w="32634" h="21600">
                <a:moveTo>
                  <a:pt x="3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34" y="20200"/>
                </a:lnTo>
                <a:close/>
              </a:path>
              <a:path fill="lighten" w="3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100000">
                <a:srgbClr val="1515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El Medi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Exter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2680" y="1360440"/>
            <a:ext cx="5691240" cy="5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Sociocultu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042920" y="2144880"/>
            <a:ext cx="7205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jeres en el trab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versidad de la fuerza de trab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ctitudes respecto de la calidad de vida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eocupación por el ambi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mbios en las preferencias de trabajo y carre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mbios en las preferencias de productos y servic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468360" y="1341360"/>
            <a:ext cx="60008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2520" indent="-45252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gmento Económ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031760" y="2149560"/>
            <a:ext cx="7425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s de Infl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s de Inter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éficits o superavit comerci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éficits o superavit de balanza de pag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éficits o superavit fisc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 de ahorro de las perso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 de ahorro de las empre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ducto Interno Bru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13:02:36Z</dcterms:created>
  <dc:creator>Luis Zaviezo</dc:creator>
  <dc:description/>
  <dc:language>en-US</dc:language>
  <cp:lastModifiedBy>Luis Zaviezo</cp:lastModifiedBy>
  <dcterms:modified xsi:type="dcterms:W3CDTF">2010-09-21T13:20:53Z</dcterms:modified>
  <cp:revision>1</cp:revision>
  <dc:subject/>
  <dc:title>Análisis Sectorial </dc:title>
</cp:coreProperties>
</file>