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7008813" cy="923766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2C60B-1028-4111-92E3-1F3B5F3F08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E4D019-E3D3-4174-B984-AC72E3270B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2355C-F056-4F06-B980-DEE3F39AB3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08193-038C-4C70-8C12-3A5D8F5078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A0B690-539C-483D-B816-75ACA3085F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9DBB2C-15DA-4226-81FC-D47465608F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0114D-690A-4876-A752-2983B30A0E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F55C77-C522-4C94-83B2-38B9BBF61D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FCDC2-8262-4877-81D7-6864B4DD1D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AE953-E291-4F03-8A36-406C814CF0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66AFB-473A-4015-9B4A-D5E3A13D79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0F9632-DB4D-4922-AE02-1F9856369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8EBFEA-4304-4491-88A7-65C83266B135}" type="slidenum">
              <a:rPr b="0" lang="es-E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6 Imagen" descr="logo ingenieria industrial alta.jpg"/>
          <p:cNvPicPr/>
          <p:nvPr/>
        </p:nvPicPr>
        <p:blipFill>
          <a:blip r:embed="rId2"/>
          <a:stretch/>
        </p:blipFill>
        <p:spPr>
          <a:xfrm>
            <a:off x="250920" y="6032520"/>
            <a:ext cx="3744720" cy="82548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331640" y="1125360"/>
            <a:ext cx="604836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5400" spc="-1" strike="noStrike">
                <a:solidFill>
                  <a:srgbClr val="ff0000"/>
                </a:solidFill>
                <a:latin typeface="Arial"/>
              </a:rPr>
              <a:t>Posibles Proyectos de la Ingeniería en Educación 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835280" y="393336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Karen Gutiérrez, Richard Weber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irección de Docencia DII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4 Conector recto"/>
          <p:cNvSpPr/>
          <p:nvPr/>
        </p:nvSpPr>
        <p:spPr>
          <a:xfrm flipH="1">
            <a:off x="2339640" y="3213000"/>
            <a:ext cx="5832360" cy="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68360" y="333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1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studiar formas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valuación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y proponer mejores práctica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Entender y combatir el fenómeno de l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pia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estructurar y 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encuest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¿Cóm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jor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continuamente el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contenido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de los cursos del DII?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4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800" spc="-1" strike="noStrike">
                <a:solidFill>
                  <a:srgbClr val="4597a0"/>
                </a:solidFill>
                <a:latin typeface="Arial"/>
              </a:rPr>
              <a:t>Posibles proyectos (2)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metodología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los talleres de la carrera para cumplir los objetivos declarado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Analizar variables de decisión para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gresar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a la carrera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Rediseño del curso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69B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just">
              <a:spcBef>
                <a:spcPts val="799"/>
              </a:spcBef>
              <a:buClr>
                <a:srgbClr val="000000"/>
              </a:buClr>
              <a:buFont typeface="Wingdings" charset="2"/>
              <a:buChar char="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Desarrollo de </a:t>
            </a:r>
            <a:r>
              <a:rPr b="0" lang="es-ES" sz="3200" spc="-1" strike="noStrike" u="sng">
                <a:solidFill>
                  <a:srgbClr val="ff0000"/>
                </a:solidFill>
                <a:uFillTx/>
                <a:latin typeface="Arial"/>
              </a:rPr>
              <a:t>indicadores</a:t>
            </a:r>
            <a:r>
              <a:rPr b="0" lang="es-ES" sz="3200" spc="-1" strike="noStrike">
                <a:solidFill>
                  <a:srgbClr val="000000"/>
                </a:solidFill>
                <a:latin typeface="Arial"/>
              </a:rPr>
              <a:t> para medir el efecto del aprendizaje en un curs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3 Conector recto"/>
          <p:cNvSpPr/>
          <p:nvPr/>
        </p:nvSpPr>
        <p:spPr>
          <a:xfrm flipH="1" flipV="1">
            <a:off x="1403280" y="1413000"/>
            <a:ext cx="7345440" cy="71280"/>
          </a:xfrm>
          <a:prstGeom prst="line">
            <a:avLst/>
          </a:prstGeom>
          <a:ln w="9360">
            <a:solidFill>
              <a:srgbClr val="b6dcd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7T09:28:20Z</dcterms:created>
  <dc:creator>Richard Weber</dc:creator>
  <dc:description/>
  <dc:language>en-US</dc:language>
  <cp:lastModifiedBy>Uniiversidad de Chile</cp:lastModifiedBy>
  <dcterms:modified xsi:type="dcterms:W3CDTF">2010-10-04T21:53:29Z</dcterms:modified>
  <cp:revision>30</cp:revision>
  <dc:subject/>
  <dc:title>Posibles Proyectos de la Ingeniería en Educación </dc:title>
</cp:coreProperties>
</file>