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4F6-8292-4F92-8656-031C0161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721-F652-46B0-B283-46076F96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093-520D-4C97-8732-32AD6A84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34C-72A5-427A-9254-AD84B35B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7CC-45D7-4BF6-AE5B-A6933B41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85B-C0B9-4473-ADAD-F0A492B2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746-28A3-435D-99FD-4C0D0222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E4D-8EF1-48DA-A78E-01696FC4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9B7-38B7-43C4-9989-3339790B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8A6-46BB-4BF6-81AE-54B55A9A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E77-9F98-4540-A7FC-9090FB09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9D8-EB6D-45CA-8DB8-3C4BC8C7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E58E-4D24-49D8-8967-BFCE98EB12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6 Imagen" descr="logo ingenieria industrial alta.jpg"/>
          <p:cNvPicPr/>
          <p:nvPr/>
        </p:nvPicPr>
        <p:blipFill>
          <a:blip r:embed="rId2"/>
          <a:stretch/>
        </p:blipFill>
        <p:spPr>
          <a:xfrm>
            <a:off x="250920" y="6032520"/>
            <a:ext cx="374472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1125360"/>
            <a:ext cx="6048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00"/>
                </a:solidFill>
                <a:latin typeface="Arial"/>
              </a:rPr>
              <a:t>Posibles Proyectos de la Ingeniería en Educació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35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Karen Gutiérrez, Richard We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rección de Docencia D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4 Conector recto"/>
          <p:cNvSpPr/>
          <p:nvPr/>
        </p:nvSpPr>
        <p:spPr>
          <a:xfrm flipH="1">
            <a:off x="2339640" y="3213000"/>
            <a:ext cx="58323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4597a0"/>
                </a:solidFill>
                <a:latin typeface="Arial"/>
              </a:rPr>
              <a:t>Posibles proyectos (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udiar formas de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valu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proponer mejores prác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ender y combatir el fenómeno de la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cop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estructurar y analizar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ncuest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mejo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ontinuamente el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conteni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os cursos del DII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4 Conector recto"/>
          <p:cNvSpPr/>
          <p:nvPr/>
        </p:nvSpPr>
        <p:spPr>
          <a:xfrm flipH="1" flipV="1">
            <a:off x="1403280" y="1413000"/>
            <a:ext cx="7345440" cy="7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4597a0"/>
                </a:solidFill>
                <a:latin typeface="Arial"/>
              </a:rPr>
              <a:t>Posibles proyectos 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alizar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metodologí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ara los talleres de la carrera para cumplir los objetivos decla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alizar variables de decisión para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ingres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 la carr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diseño del curso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IN69B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arrollo de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indicador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ara medir el efecto del aprendizaje en un cu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Conector recto"/>
          <p:cNvSpPr/>
          <p:nvPr/>
        </p:nvSpPr>
        <p:spPr>
          <a:xfrm flipH="1" flipV="1">
            <a:off x="1403280" y="1413000"/>
            <a:ext cx="7345440" cy="7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09:28:20Z</dcterms:created>
  <dc:creator>Richard Weber</dc:creator>
  <dc:description/>
  <dc:language>en-US</dc:language>
  <cp:lastModifiedBy>Uniiversidad de Chile</cp:lastModifiedBy>
  <dcterms:modified xsi:type="dcterms:W3CDTF">2010-10-04T21:53:29Z</dcterms:modified>
  <cp:revision>30</cp:revision>
  <dc:subject/>
  <dc:title>Posibles Proyectos de la Ingeniería en Educación </dc:title>
</cp:coreProperties>
</file>