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6B8B-330B-4B65-ABE9-CDC70A836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7983-0623-42A2-B864-7BD73414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DE15-06D9-4F7E-AD0C-DCE7EF375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5F25-2CB9-476A-B649-D1BCFFA90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EDDE-FBEA-48EC-961A-F7E9D5E2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369A-44DE-41D8-9E88-A8BFC4C1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79F3-A004-4361-8316-9C367A53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4724-317C-4AFD-AE4E-ED6EBB77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2C37-8F5D-4AD3-8C44-100AEADF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74AF-DDCA-4F92-9DB0-06632862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A15F-0240-4376-9C6B-67859248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F0D2-7789-444D-AC73-65CE0193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031C-27F5-4CA7-BF84-3042192CECD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6 Imagen" descr="logo ingenieria industrial alta.jpg"/>
          <p:cNvPicPr/>
          <p:nvPr/>
        </p:nvPicPr>
        <p:blipFill>
          <a:blip r:embed="rId2"/>
          <a:stretch/>
        </p:blipFill>
        <p:spPr>
          <a:xfrm>
            <a:off x="250920" y="6032520"/>
            <a:ext cx="3744720" cy="82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31640" y="1125360"/>
            <a:ext cx="6048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0000"/>
                </a:solidFill>
                <a:latin typeface="Arial"/>
              </a:rPr>
              <a:t>Posibles Proyectos de la Ingeniería en Educació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83528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Karen Gutiérrez, Richard Web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rección de Docencia D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4 Conector recto"/>
          <p:cNvSpPr/>
          <p:nvPr/>
        </p:nvSpPr>
        <p:spPr>
          <a:xfrm flipH="1">
            <a:off x="2339640" y="3213000"/>
            <a:ext cx="583236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4597a0"/>
                </a:solidFill>
                <a:latin typeface="Arial"/>
              </a:rPr>
              <a:t>Posibles proyectos (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udiar formas de </a:t>
            </a:r>
            <a:r>
              <a:rPr b="0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evaluació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y proponer mejores práctic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ender y combatir el fenómeno de la </a:t>
            </a:r>
            <a:r>
              <a:rPr b="0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copi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ómo estructurar y analizar </a:t>
            </a:r>
            <a:r>
              <a:rPr b="0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encuest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ómo </a:t>
            </a:r>
            <a:r>
              <a:rPr b="0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mejor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continuamente el </a:t>
            </a:r>
            <a:r>
              <a:rPr b="0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conteni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de los cursos del DII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4 Conector recto"/>
          <p:cNvSpPr/>
          <p:nvPr/>
        </p:nvSpPr>
        <p:spPr>
          <a:xfrm flipH="1" flipV="1">
            <a:off x="1403280" y="1413000"/>
            <a:ext cx="7345440" cy="712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4597a0"/>
                </a:solidFill>
                <a:latin typeface="Arial"/>
              </a:rPr>
              <a:t>Posibles proyectos (2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alizar </a:t>
            </a:r>
            <a:r>
              <a:rPr b="0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metodologí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para los talleres de la carrera para cumplir los objetivos decla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alizar variables de decisión para </a:t>
            </a:r>
            <a:r>
              <a:rPr b="0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ingres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a la carr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diseño del curso </a:t>
            </a:r>
            <a:r>
              <a:rPr b="0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IN69B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sarrollo de </a:t>
            </a:r>
            <a:r>
              <a:rPr b="0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indicador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para medir el efecto del aprendizaje en un cur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3 Conector recto"/>
          <p:cNvSpPr/>
          <p:nvPr/>
        </p:nvSpPr>
        <p:spPr>
          <a:xfrm flipH="1" flipV="1">
            <a:off x="1403280" y="1413000"/>
            <a:ext cx="7345440" cy="712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09:28:20Z</dcterms:created>
  <dc:creator>Richard Weber</dc:creator>
  <dc:description/>
  <dc:language>en-US</dc:language>
  <cp:lastModifiedBy>Uniiversidad de Chile</cp:lastModifiedBy>
  <dcterms:modified xsi:type="dcterms:W3CDTF">2010-10-04T21:53:29Z</dcterms:modified>
  <cp:revision>30</cp:revision>
  <dc:subject/>
  <dc:title>Posibles Proyectos de la Ingeniería en Educación </dc:title>
</cp:coreProperties>
</file>