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87DD-3D06-4708-AC6F-C65DBAB76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AD95-A94C-46ED-B6B4-850143CC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FEF-9380-4243-BE18-B096AC90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44FA-19BB-4432-959E-9E57D8261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60F-FF13-4D2F-B180-26A0F6543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164-3F3E-4A96-A237-2FC7EB58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577B-D2DE-40D0-9849-85804F8C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BB1C-7415-4826-8B4F-2AA78B38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2E1-551E-468B-BF2E-524DDA61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D2CE-DD5D-45CF-A652-CDB8B428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59B3-0732-4C1F-9CDC-419E32A5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81B2-06A5-4B24-8EE6-9E9F7A78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1718-BFBD-4252-9E3F-428F73E3E0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6 Imagen" descr="logo ingenieria industrial alta.jpg"/>
          <p:cNvPicPr/>
          <p:nvPr/>
        </p:nvPicPr>
        <p:blipFill>
          <a:blip r:embed="rId2"/>
          <a:stretch/>
        </p:blipFill>
        <p:spPr>
          <a:xfrm>
            <a:off x="250920" y="6032520"/>
            <a:ext cx="374472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1125360"/>
            <a:ext cx="6048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00"/>
                </a:solidFill>
                <a:latin typeface="Arial"/>
              </a:rPr>
              <a:t>Posibles Proyectos de la Ingeniería en Educació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35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Karen Gutiérrez, Richard We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rección de Docencia D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4 Conector recto"/>
          <p:cNvSpPr/>
          <p:nvPr/>
        </p:nvSpPr>
        <p:spPr>
          <a:xfrm flipH="1">
            <a:off x="2339640" y="3213000"/>
            <a:ext cx="58323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4597a0"/>
                </a:solidFill>
                <a:latin typeface="Arial"/>
              </a:rPr>
              <a:t>Posibles proyectos (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udiar formas de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valu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proponer mejores prác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ender y combatir el fenómeno de la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cop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estructurar y analizar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ncuest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mejo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ontinuamente el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conteni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os cursos del DII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4 Conector recto"/>
          <p:cNvSpPr/>
          <p:nvPr/>
        </p:nvSpPr>
        <p:spPr>
          <a:xfrm flipH="1" flipV="1">
            <a:off x="1403280" y="1413000"/>
            <a:ext cx="7345440" cy="7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4597a0"/>
                </a:solidFill>
                <a:latin typeface="Arial"/>
              </a:rPr>
              <a:t>Posibles proyectos 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alizar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metodologí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ara los talleres de la carrera para cumplir los objetivos decla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alizar variables de decisión para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ingres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 la carr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diseño del curso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IN69B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arrollo de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indicador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ara medir el efecto del aprendizaje en un cu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Conector recto"/>
          <p:cNvSpPr/>
          <p:nvPr/>
        </p:nvSpPr>
        <p:spPr>
          <a:xfrm flipH="1" flipV="1">
            <a:off x="1403280" y="1413000"/>
            <a:ext cx="7345440" cy="7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09:28:20Z</dcterms:created>
  <dc:creator>Richard Weber</dc:creator>
  <dc:description/>
  <dc:language>en-US</dc:language>
  <cp:lastModifiedBy>Uniiversidad de Chile</cp:lastModifiedBy>
  <dcterms:modified xsi:type="dcterms:W3CDTF">2010-10-04T21:53:29Z</dcterms:modified>
  <cp:revision>30</cp:revision>
  <dc:subject/>
  <dc:title>Posibles Proyectos de la Ingeniería en Educación </dc:title>
</cp:coreProperties>
</file>