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1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B2D2-9551-4B5D-90FE-0BD8559F27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9CDE-AD87-4E3D-9909-58A8346CEAD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Supuesto original</a:t>
            </a:r>
            <a:r>
              <a:rPr b="0" lang="es-CL" sz="1200" spc="-1" strike="noStrike">
                <a:solidFill>
                  <a:srgbClr val="000000"/>
                </a:solidFill>
                <a:latin typeface="Times New Roman"/>
              </a:rPr>
              <a:t> de los creadores del sistema de voucher: familias reaccionarán informándose y prefiriendo colegios con alto rendimiento académico. No ha operado as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tiva </a:t>
            </a:r>
            <a:r>
              <a:rPr b="1" lang="es-CL" sz="1200" spc="-1" strike="noStrike">
                <a:solidFill>
                  <a:srgbClr val="000000"/>
                </a:solidFill>
                <a:latin typeface="Times New Roman"/>
              </a:rPr>
              <a:t>variabilidad de comportamientos</a:t>
            </a:r>
            <a:r>
              <a:rPr b="0" lang="es-CL" sz="1200" spc="-1" strike="noStrike">
                <a:solidFill>
                  <a:srgbClr val="000000"/>
                </a:solidFill>
                <a:latin typeface="Times New Roman"/>
              </a:rPr>
              <a:t> tanto</a:t>
            </a:r>
            <a:r>
              <a:rPr b="0" i="1" lang="es-CL" sz="1200" spc="-1" strike="noStrike">
                <a:solidFill>
                  <a:srgbClr val="000000"/>
                </a:solidFill>
                <a:latin typeface="Times New Roman"/>
              </a:rPr>
              <a:t> entre</a:t>
            </a:r>
            <a:r>
              <a:rPr b="0" lang="es-CL" sz="1200" spc="-1" strike="noStrike">
                <a:solidFill>
                  <a:srgbClr val="000000"/>
                </a:solidFill>
                <a:latin typeface="Times New Roman"/>
              </a:rPr>
              <a:t> las distintas clases sociales como </a:t>
            </a:r>
            <a:r>
              <a:rPr b="0" i="1" lang="es-CL" sz="1200" spc="-1" strike="noStrike">
                <a:solidFill>
                  <a:srgbClr val="000000"/>
                </a:solidFill>
                <a:latin typeface="Times New Roman"/>
              </a:rPr>
              <a:t>al</a:t>
            </a:r>
            <a:r>
              <a:rPr b="0" lang="es-CL" sz="1200" spc="-1" strike="noStrike">
                <a:solidFill>
                  <a:srgbClr val="000000"/>
                </a:solidFill>
                <a:latin typeface="Times New Roman"/>
              </a:rPr>
              <a:t> </a:t>
            </a:r>
            <a:r>
              <a:rPr b="0" i="1" lang="es-CL" sz="1200" spc="-1" strike="noStrike">
                <a:solidFill>
                  <a:srgbClr val="000000"/>
                </a:solidFill>
                <a:latin typeface="Times New Roman"/>
              </a:rPr>
              <a:t>interior</a:t>
            </a:r>
            <a:r>
              <a:rPr b="0" lang="es-CL" sz="1200" spc="-1" strike="noStrike">
                <a:solidFill>
                  <a:srgbClr val="000000"/>
                </a:solidFill>
                <a:latin typeface="Times New Roman"/>
              </a:rPr>
              <a:t> de las </a:t>
            </a:r>
            <a:r>
              <a:rPr b="1" lang="es-CL" sz="1200" spc="-1" strike="noStrike">
                <a:solidFill>
                  <a:srgbClr val="000000"/>
                </a:solidFill>
                <a:latin typeface="Times New Roman"/>
              </a:rPr>
              <a:t>clases sociales</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 no se explica sólo porque tengan distintas preferencias individuales o que posean más o menos información: más bien hacen uso de </a:t>
            </a:r>
            <a:r>
              <a:rPr b="1" lang="es-CL" sz="1200" spc="-1" strike="noStrike">
                <a:solidFill>
                  <a:srgbClr val="000000"/>
                </a:solidFill>
                <a:latin typeface="Times New Roman"/>
              </a:rPr>
              <a:t>distintas lógicas de elección</a:t>
            </a:r>
            <a:r>
              <a:rPr b="0" lang="es-CL" sz="1200" spc="-1" strike="noStrike">
                <a:solidFill>
                  <a:srgbClr val="000000"/>
                </a:solidFill>
                <a:latin typeface="Times New Roman"/>
              </a:rPr>
              <a:t> para reaccionar frente a escenarios de elección que circunscriben sus posibilidades y alternativas re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imaginarios sociales sobre la educación chilena, en tanto </a:t>
            </a:r>
            <a:r>
              <a:rPr b="1" lang="es-CL" sz="1200" spc="-1" strike="noStrike">
                <a:solidFill>
                  <a:srgbClr val="000000"/>
                </a:solidFill>
                <a:latin typeface="Times New Roman"/>
              </a:rPr>
              <a:t>contexto cultural de la elección</a:t>
            </a:r>
            <a:r>
              <a:rPr b="0" lang="es-CL" sz="1200" spc="-1" strike="noStrike">
                <a:solidFill>
                  <a:srgbClr val="000000"/>
                </a:solidFill>
                <a:latin typeface="Times New Roman"/>
              </a:rPr>
              <a:t>, operan de manera simultánea y complementaria a otros contextos determinantes para las familias como son la </a:t>
            </a:r>
            <a:r>
              <a:rPr b="1" lang="es-CL" sz="1200" spc="-1" strike="noStrike">
                <a:solidFill>
                  <a:srgbClr val="000000"/>
                </a:solidFill>
                <a:latin typeface="Times New Roman"/>
              </a:rPr>
              <a:t>estructura social</a:t>
            </a:r>
            <a:r>
              <a:rPr b="0" lang="es-CL" sz="1200" spc="-1" strike="noStrike">
                <a:solidFill>
                  <a:srgbClr val="000000"/>
                </a:solidFill>
                <a:latin typeface="Times New Roman"/>
              </a:rPr>
              <a:t> (diferencias socioeconómicas de las familias) y el </a:t>
            </a:r>
            <a:r>
              <a:rPr b="1" lang="es-CL" sz="1200" spc="-1" strike="noStrike">
                <a:solidFill>
                  <a:srgbClr val="000000"/>
                </a:solidFill>
                <a:latin typeface="Times New Roman"/>
              </a:rPr>
              <a:t>contexto institucional</a:t>
            </a:r>
            <a:r>
              <a:rPr b="0" lang="es-CL" sz="1200" spc="-1" strike="noStrike">
                <a:solidFill>
                  <a:srgbClr val="000000"/>
                </a:solidFill>
                <a:latin typeface="Times New Roman"/>
              </a:rPr>
              <a:t> (oferta educ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upuesto original no se cumple por distintas razones. Generalmente se dice que no existe suficiente información sobre resultados académicos, lo que es cierto. También se ha constatado que las familias no solamente eligen por rendimiento académico sino por una diversidad de factores. Hasta el día de hoy se habla mucho en términos de si las familias “saben” o “no saben” elegir, como si hubiera una única manera de elegir correctamente un colegio. No es necesariamente un comportamiento “irracional” pues pueden tener buenas razones para elegir un colegio de otras características (no por rendimiento); una de ellas, como veremos, es la composición social del alumnado. Esto habla más bien de lo poco que entendemos el punto de vista de las famili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3CEC-A88E-4F71-9680-CC8030AA10AF}"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estudios que existen han privilegiado métodos de </a:t>
            </a:r>
            <a:r>
              <a:rPr b="0" lang="es-ES" sz="1600" spc="-1" strike="noStrike">
                <a:solidFill>
                  <a:srgbClr val="000000"/>
                </a:solidFill>
                <a:latin typeface="Times New Roman"/>
              </a:rPr>
              <a:t>cuantitativos - econométricos y entregan un perfil de las razones más frecuentes para elegir un establecimiento, diferenciando según las características de la familia, el lugar de residencia, o tipo de colegio, entre otras; proveen un panorama de la información que la familia busca y utiliza para decidir; estudian las características que diferencian a los estudiantes y sus familias que se educan en uno u otro sector y, a partir de esto, infieren razones de elección.  Estos estudios son particularmente atractivos porque trabajan en base a muestras estadísticamente representativas. No obstante, el principal límite que evidencian es que tienden a reducir el proceso de elección y su contexto a razones objetivas clasificadas a priori por el investigador, y no logran identificar en profundidad los significados que las familias asocian a su elección en el marco del contexto en que se ubican. El segundo tipo privilegia, más bien, métodos cualitativos, deteniéndose más  en la dimensión simbólica de las representaciones sociales y en los criterios que subyacen a la acción, conduciendo, así, a una comprensión más compleja de la realidad. Ciertamente, se trata de estudios que aplican metodologías menos estandarizadas y, cuya debilidad, es que no poseen representación estadística.</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1E61-9DF8-4E5F-87EC-8A0FA071FAEC}"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 1 incluye: quienes en la familia intervienen, los factores y razones para elegir un establecimiento, criterios ideales que definen como correctos o deseables y consideraciones prácticas que les impiden seguir estos criterios y elegir en base a otros factores o situ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objetivos específicos tienen implícitos una distinción analítica entre tres niveles: conductas, lógicas de acción y representaciones socia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s centramos en los dos sectores sociales más relevantes como eventuales “consumidores” de la educación municipal (sectores medios y bajos), en la hipótesis de que entre ellos existen distintas lógicas de elección educacional. Además, agregamos el nivel de enseñanza media porque tiene una serie de características propias que no han sido estudiadas y en el futuro cercano será un nivel donde la competencia público/privado tendrá un nuevo ímpe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BA03-AF0A-4031-AAF4-5F60887615B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utas de entrevista semi - estructurad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1. Individuales a apoderados: </a:t>
            </a:r>
            <a:r>
              <a:rPr b="0" lang="es-ES" sz="1600" spc="-1" strike="noStrike">
                <a:solidFill>
                  <a:srgbClr val="000000"/>
                </a:solidFill>
                <a:latin typeface="Times New Roman"/>
              </a:rPr>
              <a:t>proceso de elección de establecimiento de las familias (búsqueda de información, factores y razones tras ella, consideraciones prácticas de la decisión) y el sentido que la educación tiene para la familia (aspiraciones e importanc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2.</a:t>
            </a:r>
            <a:r>
              <a:rPr b="0" lang="es-CL" sz="1600" spc="-1" strike="noStrike">
                <a:solidFill>
                  <a:srgbClr val="000000"/>
                </a:solidFill>
                <a:latin typeface="Times New Roman"/>
              </a:rPr>
              <a:t> </a:t>
            </a:r>
            <a:r>
              <a:rPr b="1" lang="es-CL" sz="1600" spc="-1" strike="noStrike">
                <a:solidFill>
                  <a:srgbClr val="000000"/>
                </a:solidFill>
                <a:latin typeface="Times New Roman"/>
              </a:rPr>
              <a:t>G</a:t>
            </a:r>
            <a:r>
              <a:rPr b="1" lang="es-ES" sz="1600" spc="-1" strike="noStrike">
                <a:solidFill>
                  <a:srgbClr val="000000"/>
                </a:solidFill>
                <a:latin typeface="Times New Roman"/>
              </a:rPr>
              <a:t>rupales a apoderados y a alumnos enseñanza media: </a:t>
            </a:r>
            <a:r>
              <a:rPr b="0" lang="es-ES" sz="1600" spc="-1" strike="noStrike">
                <a:solidFill>
                  <a:srgbClr val="000000"/>
                </a:solidFill>
                <a:latin typeface="Times New Roman"/>
              </a:rPr>
              <a:t>representaciones sociales sobre la educación municipal y PS, u otras distinciones dentro de la oferta educativa (educación gratuita-pagada, laica-religiosa, CH-TP, et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BECF-B437-4954-8924-C1585DCC8BA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erencias por estrato soci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04A02-B638-4CF1-AFBF-2F322CC94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13937-ECD1-4F07-9574-FF21D7D4D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ED7D3-68AB-4D4F-AF73-C0FAE4E88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5A183-F38A-4D91-ADCB-40D2CC312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AA0E3-F6F6-4A50-8A85-DF2AF9F1E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7A35D-D032-4BA2-B072-FA0BC327F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4DF8C-D36B-4559-AE88-45E0A7AE3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39044-A842-41A0-94FC-9AAF34702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EA7DA-43D0-4AE5-B79F-C4D284D1A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5F119-EA0A-4D24-A4E5-52437AF55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AC5DF-6ED4-4705-88AD-2829C755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3C67-AC58-4F9D-9EEF-3A68A9596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59B80-00C1-4D08-8112-E38409B88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2E205-4308-49A3-9129-B6177E6E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86C95-8A28-4ADD-BD3B-C8C850142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A1F65-0B19-4B2D-A0E1-5DF37B3B9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8A11F-FFF6-4DB3-8D32-E46742851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2689-C298-4B08-B21A-F398A214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9E3FF-3F5B-4BEB-869F-0F8440479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CDC6-3FA8-4C02-BAA3-B8FD8D1D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68B58-BBA6-4FC1-BC5E-F8CB2B1F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357A-F73F-45A8-8672-FA64B819B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16AF3-9CB4-4F5E-A0E0-7CB6EA49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2CEE7-634A-4068-9F45-FAC7F415A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561D-4C19-4DBF-8CD1-30F00FAE4B65}"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CEE4-9DEA-4487-B226-90A8B6F61B25}"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00000" y="2707920"/>
            <a:ext cx="7601040" cy="28083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carena Hernández y Dagmar Raczynski</a:t>
            </a:r>
            <a:endParaRPr b="0" lang="en-US" sz="24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sesorías para el Desarrollo</a:t>
            </a:r>
            <a:endParaRPr b="0" lang="en-US" sz="2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esentación 23 de agosto 2010</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pt. Ingeniería Industrial </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iversidad de Chile</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endParaRPr b="0" lang="en-US" sz="2400" spc="-1" strike="noStrike">
              <a:solidFill>
                <a:srgbClr val="000000"/>
              </a:solidFill>
              <a:latin typeface="Verdana"/>
            </a:endParaRPr>
          </a:p>
        </p:txBody>
      </p:sp>
      <p:pic>
        <p:nvPicPr>
          <p:cNvPr id="218" name="Picture 4" descr=""/>
          <p:cNvPicPr/>
          <p:nvPr/>
        </p:nvPicPr>
        <p:blipFill>
          <a:blip r:embed="rId1"/>
          <a:stretch/>
        </p:blipFill>
        <p:spPr>
          <a:xfrm>
            <a:off x="5364000" y="5516640"/>
            <a:ext cx="3024360" cy="849240"/>
          </a:xfrm>
          <a:prstGeom prst="rect">
            <a:avLst/>
          </a:prstGeom>
          <a:ln w="0">
            <a:noFill/>
          </a:ln>
        </p:spPr>
      </p:pic>
      <p:sp>
        <p:nvSpPr>
          <p:cNvPr id="219" name="PlaceHolder 2"/>
          <p:cNvSpPr>
            <a:spLocks noGrp="1"/>
          </p:cNvSpPr>
          <p:nvPr>
            <p:ph type="title"/>
          </p:nvPr>
        </p:nvSpPr>
        <p:spPr>
          <a:xfrm>
            <a:off x="684360" y="1051920"/>
            <a:ext cx="77040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SEGREGACIÓN SOCIOECONÓMICA DEL SISTEMA ESCOLAR: EL PAPEL DE LAS IMÁGENES, VALORACIONES Y ESTRATEGIAS DE LAS FAMILIA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6. Visión de la oferta educativa y sus segmentaciones</a:t>
            </a:r>
            <a:endParaRPr b="0" lang="en-US" sz="2400" spc="-1" strike="noStrike">
              <a:solidFill>
                <a:srgbClr val="000000"/>
              </a:solidFill>
              <a:latin typeface="Verdana"/>
            </a:endParaRPr>
          </a:p>
        </p:txBody>
      </p:sp>
      <p:sp>
        <p:nvSpPr>
          <p:cNvPr id="24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segmentación 1 y principal: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go-gratuidad y monto del pago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se asocia a dos creencias: </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 +  </a:t>
            </a:r>
            <a:r>
              <a:rPr b="0" lang="es-ES" sz="2000" spc="-1" strike="noStrike">
                <a:solidFill>
                  <a:srgbClr val="000000"/>
                </a:solidFill>
                <a:latin typeface="Verdana"/>
              </a:rPr>
              <a:t>recursos mejores profesores, equipamiento, más taller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 </a:t>
            </a:r>
            <a:r>
              <a:rPr b="0" lang="es-ES" sz="2000" spc="-1" strike="noStrike">
                <a:solidFill>
                  <a:srgbClr val="000000"/>
                </a:solidFill>
                <a:latin typeface="Verdana"/>
              </a:rPr>
              <a:t>pagar el apoderado tiene derecho a  reclamar y exigir (ser client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Segmentación 2: Normalización: orden, disciplina y convivencia en el colegio</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Segmentación 3. Sólo enseñanza media: modalidad de enseñanza: HC y TP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Eje público-privado: menos gravitante que los tres anterio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e público-privado: menos gravitante que los tres anteriores</a:t>
            </a:r>
            <a:endParaRPr b="0" lang="en-US" sz="2400" spc="-1" strike="noStrike">
              <a:solidFill>
                <a:srgbClr val="000000"/>
              </a:solidFill>
              <a:latin typeface="Verdana"/>
            </a:endParaRPr>
          </a:p>
        </p:txBody>
      </p:sp>
      <p:sp>
        <p:nvSpPr>
          <p:cNvPr id="245" name="PlaceHolder 2"/>
          <p:cNvSpPr>
            <a:spLocks noGrp="1"/>
          </p:cNvSpPr>
          <p:nvPr>
            <p:ph/>
          </p:nvPr>
        </p:nvSpPr>
        <p:spPr>
          <a:xfrm>
            <a:off x="1033200" y="1915920"/>
            <a:ext cx="8110440" cy="4941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familias perciben la segregación del sistema escolar </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ercepción de heterogeneidad interna en sector municipal y P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da uno aspectos positivos y negativ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Municipal</a:t>
            </a:r>
            <a:r>
              <a:rPr b="1" lang="es-ES" sz="1600" spc="-1" strike="noStrike">
                <a:solidFill>
                  <a:srgbClr val="000000"/>
                </a:solidFill>
                <a:latin typeface="Verdana"/>
              </a:rPr>
              <a:t> </a:t>
            </a:r>
            <a:r>
              <a:rPr b="0" lang="es-ES" sz="1600" spc="-1" strike="noStrike">
                <a:solidFill>
                  <a:srgbClr val="000000"/>
                </a:solidFill>
                <a:latin typeface="Verdana"/>
              </a:rPr>
              <a:t>más cargado a lo negativo por factor social (tipo de alumnos que recibe) y por  factor organizacional (directivos y docentes no logran ordenar el colegio e inyectarle disciplina y buena convivencia)</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unicipal aspectos positivos: colegios abiertos, no discriminan, reflejan diversidad del país. Hay buenos y mal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Particular subvencionado</a:t>
            </a:r>
            <a:r>
              <a:rPr b="0" lang="es-ES" sz="1600" spc="-1" strike="noStrike">
                <a:solidFill>
                  <a:srgbClr val="000000"/>
                </a:solidFill>
                <a:latin typeface="Verdana"/>
              </a:rPr>
              <a:t>, aspectos positivos: más recursos,  apoderados que legítimamente pueden exigir y reclamar, lo que redunda en más calidad</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ticular subvencionado, aspectos negativos: negocio, inestabilidad, seleccionan alumnos (lo que para estrato medio es positivo y para el bajo negativo)</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olegio PS católicos ocupan un lugar distintivo: dominio de atributos positivos: disciplina, orden, formación en valore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rga simbólica negativa de la educación municipal, de la que las familias buscan distanciarse</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ferencias por estrato social</a:t>
            </a:r>
            <a:endParaRPr b="0" lang="en-US" sz="16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900" spc="-1" strike="noStrike">
                <a:solidFill>
                  <a:srgbClr val="000000"/>
                </a:solidFill>
                <a:latin typeface="Verdana"/>
              </a:rPr>
              <a:t> </a:t>
            </a:r>
            <a:endParaRPr b="0" lang="en-US" sz="900" spc="-1" strike="noStrike">
              <a:solidFill>
                <a:srgbClr val="000000"/>
              </a:solidFill>
              <a:latin typeface="Verdana"/>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4496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7. Lógicas de elección y expectativas puestas en la educación</a:t>
            </a:r>
            <a:endParaRPr b="0" lang="en-US" sz="2400" spc="-1" strike="noStrike">
              <a:solidFill>
                <a:srgbClr val="000000"/>
              </a:solidFill>
              <a:latin typeface="Verdana"/>
            </a:endParaRPr>
          </a:p>
        </p:txBody>
      </p:sp>
      <p:sp>
        <p:nvSpPr>
          <p:cNvPr id="247" name="PlaceHolder 2"/>
          <p:cNvSpPr>
            <a:spLocks noGrp="1"/>
          </p:cNvSpPr>
          <p:nvPr>
            <p:ph/>
          </p:nvPr>
        </p:nvSpPr>
        <p:spPr>
          <a:xfrm>
            <a:off x="912600" y="1905120"/>
            <a:ext cx="8110440" cy="4952880"/>
          </a:xfrm>
          <a:prstGeom prst="rect">
            <a:avLst/>
          </a:prstGeom>
          <a:noFill/>
          <a:ln w="0">
            <a:noFill/>
          </a:ln>
        </p:spPr>
        <p:txBody>
          <a:bodyPr anchor="t">
            <a:normAutofit/>
          </a:bodyPr>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pasiva: matricula por mandato social, cuasi-ausencia de elecc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familiaridad: búsqueda de lo conocido siguiendo tradición familiar </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autoexclus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tección y seguridad del niño y adolescente (protección riesgos del entorno)</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distinción y movilidad (ascenso social)</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moción personalizada (niños o adolescentes con características particulares)</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nca están en estado puro en una misma familia. </a:t>
            </a:r>
            <a:endParaRPr b="0" lang="en-US" sz="20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existencia distintas estrategia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ategias distintas para hijos distinto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mbio de estrategia a lo largo de la trayectoria educacional de un niño / joven</a:t>
            </a:r>
            <a:endParaRPr b="0" lang="en-US" sz="18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según estrato soci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698040"/>
            <a:ext cx="8163000" cy="85932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D) Conclusiones e implicancias para la política educativa</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Hecho</a:t>
            </a:r>
            <a:r>
              <a:rPr b="0" lang="es-CL" sz="2000" spc="-1" strike="noStrike">
                <a:solidFill>
                  <a:srgbClr val="000000"/>
                </a:solidFill>
                <a:latin typeface="Verdana"/>
              </a:rPr>
              <a:t>: Familias con más opciones favorecen y adoptan conductas que responden y acentúan la segregación social que existe en el sistema escolar </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Aspiración</a:t>
            </a:r>
            <a:r>
              <a:rPr b="0" lang="es-CL" sz="2000" spc="-1" strike="noStrike">
                <a:solidFill>
                  <a:srgbClr val="000000"/>
                </a:solidFill>
                <a:latin typeface="Verdana"/>
              </a:rPr>
              <a:t>: Un sistema escolar que favorezca la igualdad de oportunidades y sea espacio de integración y mixtura social, que contribuya a la cohesión social, la no discriminación y formación de ciudadanos informados y responsables.</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acercarse a la aspiración es indispensables </a:t>
            </a:r>
            <a:r>
              <a:rPr b="1" lang="es-CL" sz="2000" spc="-1" strike="noStrike">
                <a:solidFill>
                  <a:srgbClr val="000000"/>
                </a:solidFill>
                <a:latin typeface="Verdana"/>
              </a:rPr>
              <a:t>evitar iniciativas y decisiones de política educativa  que refuerzan las conductas segregadoras de las familia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651600"/>
            <a:ext cx="7877160" cy="29278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s-CL" sz="2400" spc="-1" strike="noStrike">
                <a:solidFill>
                  <a:srgbClr val="000000"/>
                </a:solidFill>
                <a:latin typeface="Verdana"/>
              </a:rPr>
              <a:t>Iniciativas de política recientes ¿efecto sobre la segregación social del sistema escolar?</a:t>
            </a:r>
            <a:r>
              <a:rPr b="0" lang="es-CL" sz="2400" spc="-1" strike="noStrike">
                <a:solidFill>
                  <a:srgbClr val="000000"/>
                </a:solidFill>
                <a:latin typeface="Verdana"/>
              </a:rPr>
              <a:t> </a:t>
            </a:r>
            <a:r>
              <a:rPr b="1" lang="es-CL" sz="2400" spc="-1" strike="noStrike">
                <a:solidFill>
                  <a:srgbClr val="000000"/>
                </a:solidFill>
                <a:latin typeface="Verdana"/>
              </a:rPr>
              <a:t>Reflexiones</a:t>
            </a:r>
            <a:br>
              <a:rPr sz="2400"/>
            </a:br>
            <a:br>
              <a:rPr sz="4000"/>
            </a:br>
            <a:endParaRPr b="0" lang="en-US" sz="2400" spc="-1" strike="noStrike">
              <a:solidFill>
                <a:srgbClr val="000000"/>
              </a:solidFill>
              <a:latin typeface="Verdana"/>
            </a:endParaRPr>
          </a:p>
        </p:txBody>
      </p:sp>
      <p:sp>
        <p:nvSpPr>
          <p:cNvPr id="251" name="PlaceHolder 2"/>
          <p:cNvSpPr>
            <a:spLocks noGrp="1"/>
          </p:cNvSpPr>
          <p:nvPr>
            <p:ph/>
          </p:nvPr>
        </p:nvSpPr>
        <p:spPr>
          <a:xfrm>
            <a:off x="912600" y="1844280"/>
            <a:ext cx="8110440" cy="4251240"/>
          </a:xfrm>
          <a:prstGeom prst="rect">
            <a:avLst/>
          </a:prstGeom>
          <a:noFill/>
          <a:ln w="0">
            <a:noFill/>
          </a:ln>
        </p:spPr>
        <p:txBody>
          <a:bodyPr anchor="t">
            <a:normAutofit/>
          </a:bodyPr>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nciamiento compartido</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ey General de Educación (LG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ubvención preferenci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mnipresencia del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apas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usencia de política hacia la educación pública (municip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niciativa de los  liceos de excelenci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4520"/>
            <a:ext cx="81630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Para más información y referencias bibliográficas ver:</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forme de la investigación disponible en  </a:t>
            </a:r>
            <a:r>
              <a:rPr b="0" lang="es-ES_tradnl" sz="2800" spc="-1" strike="noStrike" u="sng">
                <a:solidFill>
                  <a:srgbClr val="777777"/>
                </a:solidFill>
                <a:uFillTx/>
                <a:latin typeface="Verdana"/>
                <a:hlinkClick r:id="rId1"/>
              </a:rPr>
              <a:t>www.fonide.cl</a:t>
            </a: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yecto </a:t>
            </a:r>
            <a:r>
              <a:rPr b="0" lang="es-ES_tradnl" sz="2000" spc="-1" strike="noStrike">
                <a:solidFill>
                  <a:srgbClr val="000000"/>
                </a:solidFill>
                <a:latin typeface="Verdana"/>
              </a:rPr>
              <a:t>N°: F310827/2008 “Hacia una estrategia de validación de la educación pública-municipal: Valoraciones y demandas de las familias”. Informe final,  enero 201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rPr>
              <a:t>Estructura Presentación</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21" name="PlaceHolder 2"/>
          <p:cNvSpPr>
            <a:spLocks noGrp="1"/>
          </p:cNvSpPr>
          <p:nvPr>
            <p:ph/>
          </p:nvPr>
        </p:nvSpPr>
        <p:spPr>
          <a:xfrm>
            <a:off x="574560" y="2205000"/>
            <a:ext cx="8110800" cy="4191120"/>
          </a:xfrm>
          <a:prstGeom prst="rect">
            <a:avLst/>
          </a:prstGeom>
          <a:noFill/>
          <a:ln w="0">
            <a:noFill/>
          </a:ln>
        </p:spPr>
        <p:txBody>
          <a:bodyPr anchor="t">
            <a:normAutofit/>
          </a:bodyPr>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tecedentes para y objetivos del estudio*</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spectos metodológic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incipales resultad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mplicancias para la política educativa</a:t>
            </a: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royecto de Investigación FONIDE (MINEDUC-Chile) </a:t>
            </a:r>
            <a:r>
              <a:rPr b="0" lang="es-ES_tradnl" sz="1600" spc="-1" strike="noStrike">
                <a:solidFill>
                  <a:srgbClr val="000000"/>
                </a:solidFill>
                <a:latin typeface="Verdana"/>
              </a:rPr>
              <a:t>N°: F310827/2008 titulado “Hacia una estrategia de validación de la educación pública-municipal: Valoraciones y demandas de las familias”. Informe final, enero 2010. (</a:t>
            </a:r>
            <a:r>
              <a:rPr b="0" lang="es-ES_tradnl" sz="1600" spc="-1" strike="noStrike" u="sng">
                <a:solidFill>
                  <a:srgbClr val="777777"/>
                </a:solidFill>
                <a:uFillTx/>
                <a:latin typeface="Verdana"/>
                <a:hlinkClick r:id="rId1"/>
              </a:rPr>
              <a:t>www.fonide.cl</a:t>
            </a:r>
            <a:r>
              <a:rPr b="0" lang="es-ES_tradnl" sz="1600" spc="-1" strike="noStrike">
                <a:solidFill>
                  <a:srgbClr val="000000"/>
                </a:solidFill>
                <a:latin typeface="Verdana"/>
              </a:rPr>
              <a:t>)</a:t>
            </a:r>
            <a:endParaRPr b="0" lang="en-US" sz="16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104840"/>
            <a:ext cx="83502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 </a:t>
            </a:r>
            <a:endParaRPr b="0" lang="en-US" sz="2800" spc="-1" strike="noStrike">
              <a:solidFill>
                <a:srgbClr val="000000"/>
              </a:solidFill>
              <a:latin typeface="Verdana"/>
            </a:endParaRPr>
          </a:p>
        </p:txBody>
      </p:sp>
      <p:sp>
        <p:nvSpPr>
          <p:cNvPr id="223" name="PlaceHolder 2"/>
          <p:cNvSpPr>
            <a:spLocks noGrp="1"/>
          </p:cNvSpPr>
          <p:nvPr>
            <p:ph/>
          </p:nvPr>
        </p:nvSpPr>
        <p:spPr>
          <a:xfrm>
            <a:off x="912600" y="1904760"/>
            <a:ext cx="8110440" cy="4763880"/>
          </a:xfrm>
          <a:prstGeom prst="rect">
            <a:avLst/>
          </a:prstGeom>
          <a:noFill/>
          <a:ln w="0">
            <a:noFill/>
          </a:ln>
        </p:spPr>
        <p:txBody>
          <a:bodyPr anchor="t">
            <a:normAutofit/>
          </a:bodyPr>
          <a:p>
            <a:pPr marL="343080" indent="-343080">
              <a:lnSpc>
                <a:spcPct val="80000"/>
              </a:lnSpc>
              <a:spcBef>
                <a:spcPts val="4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tecedentes para el estudio   </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Instalación  del subsidio a la demanda y la proliferación de proveedores privados de educación en el país desde 1980 en adelante.</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esperados: lograr una mejora en la calidad de la educación (aprendizaje de los estudiantes).</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observados: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mento cobertura</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sencia de mejoras significativas en calidad de la educación a nivel general y en cada uno de los sectores según dependencia administrativa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Caída sistemática en la matrícula escolar en el sector municipal, especialmente por “fuga” de sectores medios hacia el sector particular-subvencionado.</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Fuerte segregación social del sistema escolar, con el sector público-municipal recibiendo al grueso de los alumnos vulnerables (la situación se agudiza al iniciarse la posibilidad del sector particular subvencionado de operar bajo un régimen de co-financiamient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a:t>
            </a:r>
            <a:endParaRPr b="0" lang="en-US" sz="2800" spc="-1" strike="noStrike">
              <a:solidFill>
                <a:srgbClr val="000000"/>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istintos estudios han cuantificado las tendencias anteriores  y estudiado factores que </a:t>
            </a:r>
            <a:r>
              <a:rPr b="0" lang="es-CL" sz="1600" spc="-1" strike="noStrike" u="sng">
                <a:solidFill>
                  <a:srgbClr val="000000"/>
                </a:solidFill>
                <a:uFillTx/>
                <a:latin typeface="Verdana"/>
              </a:rPr>
              <a:t>desde la oferta (los proveedores de educación</a:t>
            </a:r>
            <a:r>
              <a:rPr b="0" lang="es-CL" sz="1600" spc="-1" strike="noStrike">
                <a:solidFill>
                  <a:srgbClr val="000000"/>
                </a:solidFill>
                <a:latin typeface="Verdana"/>
              </a:rPr>
              <a:t>) inciden sobre ellas.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ntre los factores señalados y estudiados están: diferencias en el marco normativo que rige uno y otro sector, escasa regulación del sector particular subvencionado, posibilidad de financiamiento compartido (más recursos) y de selección de alumnos en los colegios particulares subvencionados. </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cos estudios empíricos en Chile con foco en </a:t>
            </a:r>
            <a:r>
              <a:rPr b="0" lang="es-CL" sz="1600" spc="-1" strike="noStrike" u="sng">
                <a:solidFill>
                  <a:srgbClr val="000000"/>
                </a:solidFill>
                <a:uFillTx/>
                <a:latin typeface="Verdana"/>
              </a:rPr>
              <a:t>la demanda de las familias</a:t>
            </a:r>
            <a:r>
              <a:rPr b="0" lang="es-CL" sz="1600" spc="-1" strike="noStrike">
                <a:solidFill>
                  <a:srgbClr val="000000"/>
                </a:solidFill>
                <a:latin typeface="Verdana"/>
              </a:rPr>
              <a:t>:  las preferencias y conductas de las familias al decidir donde matricular a su hijo /a y los componentes simbólicos (creencias, valores, normas sociales)  y económicos que condicionan estas decisiones.  Decisiones de política  suponen lógicas y conductas de la familia que revelan prejuicios o una comprensión superficial del proceso que termina en el acto de matricular a un hijo /a en un determinado colegio o cambiarlo de colegio.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044360"/>
            <a:ext cx="8163000" cy="57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Objetivos del estudio</a:t>
            </a:r>
            <a:r>
              <a:rPr b="1" lang="es-CL" sz="3200" spc="-1" strike="noStrike">
                <a:solidFill>
                  <a:srgbClr val="000000"/>
                </a:solidFill>
                <a:latin typeface="Verdana"/>
              </a:rPr>
              <a:t> </a:t>
            </a:r>
            <a:endParaRPr b="0" lang="en-US" sz="3200" spc="-1" strike="noStrike">
              <a:solidFill>
                <a:srgbClr val="000000"/>
              </a:solidFill>
              <a:latin typeface="Verdana"/>
            </a:endParaRPr>
          </a:p>
        </p:txBody>
      </p:sp>
      <p:sp>
        <p:nvSpPr>
          <p:cNvPr id="227" name="PlaceHolder 2"/>
          <p:cNvSpPr>
            <a:spLocks noGrp="1"/>
          </p:cNvSpPr>
          <p:nvPr>
            <p:ph/>
          </p:nvPr>
        </p:nvSpPr>
        <p:spPr>
          <a:xfrm>
            <a:off x="826920" y="1844640"/>
            <a:ext cx="8110800" cy="4191120"/>
          </a:xfrm>
          <a:prstGeom prst="rect">
            <a:avLst/>
          </a:prstGeom>
          <a:noFill/>
          <a:ln w="0">
            <a:noFill/>
          </a:ln>
        </p:spPr>
        <p:txBody>
          <a:bodyPr anchor="t">
            <a:normAutofit fontScale="97000"/>
          </a:bodyPr>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Analizar los procesos de elección de colegio en familias de estrato bajo y medio, sus características y las consideraciones que guían a las famili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Describir las representaciones sociales de la educación y de la oferta educacional que tienen las familias, y analizar como éstas influyen en sus decisiones y conduct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Reflexionar sobre implicancias de política de los resultados observados en la perspectiva de alcanzar un  sistema escolar que favorezca la igualdad de oportunidades, sea espacio de integración y mixtura social, esté al servicio de la formación ciudadana y la cohesión social.</a:t>
            </a:r>
            <a:r>
              <a:rPr b="0" lang="es-CL"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B) Aspectos metodológicos del estudio </a:t>
            </a:r>
            <a:endParaRPr b="0" lang="en-US" sz="2800" spc="-1" strike="noStrike">
              <a:solidFill>
                <a:srgbClr val="000000"/>
              </a:solidFill>
              <a:latin typeface="Verdana"/>
            </a:endParaRPr>
          </a:p>
        </p:txBody>
      </p:sp>
      <p:sp>
        <p:nvSpPr>
          <p:cNvPr id="229" name="PlaceHolder 2"/>
          <p:cNvSpPr>
            <a:spLocks noGrp="1"/>
          </p:cNvSpPr>
          <p:nvPr>
            <p:ph/>
          </p:nvPr>
        </p:nvSpPr>
        <p:spPr>
          <a:xfrm>
            <a:off x="912600" y="1905120"/>
            <a:ext cx="8110440" cy="4619520"/>
          </a:xfrm>
          <a:prstGeom prst="rect">
            <a:avLst/>
          </a:prstGeom>
          <a:noFill/>
          <a:ln w="0">
            <a:noFill/>
          </a:ln>
        </p:spPr>
        <p:txBody>
          <a:bodyPr anchor="t">
            <a:normAutofit/>
          </a:bodyPr>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nfoque cualitativo </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udio en tres comunas: una en la Región metropolitana de Santiago y dos </a:t>
            </a:r>
            <a:r>
              <a:rPr b="0" lang="es-ES" sz="2200" spc="-1" strike="noStrike">
                <a:solidFill>
                  <a:srgbClr val="000000"/>
                </a:solidFill>
                <a:latin typeface="Verdana"/>
              </a:rPr>
              <a:t>fuera de esta región, una en el norte y otra en el sur </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riterios de selección de comunas: </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Alta  pérdida de matrícula municipal</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Expansión o alta participación del sector PS en la matrícula</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Comunas elegidas: Coquimbo, Puente Alto y Osorno.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0640" y="541440"/>
            <a:ext cx="8163000" cy="36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MUESTRA DE APODERADOS Y ALUMNOS. </a:t>
            </a:r>
            <a:endParaRPr b="0" lang="en-US" sz="1800" spc="-1" strike="noStrike">
              <a:solidFill>
                <a:srgbClr val="000000"/>
              </a:solidFill>
              <a:latin typeface="Verdana"/>
            </a:endParaRPr>
          </a:p>
        </p:txBody>
      </p:sp>
      <p:sp>
        <p:nvSpPr>
          <p:cNvPr id="231" name="Rectangle 53"/>
          <p:cNvSpPr/>
          <p:nvPr/>
        </p:nvSpPr>
        <p:spPr>
          <a:xfrm>
            <a:off x="781200" y="899280"/>
            <a:ext cx="36986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ntrevistas individuales en profundidad 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2" name=""/>
          <p:cNvGraphicFramePr/>
          <p:nvPr/>
        </p:nvGraphicFramePr>
        <p:xfrm>
          <a:off x="468360" y="1557360"/>
          <a:ext cx="4248000" cy="3036960"/>
        </p:xfrm>
        <a:graphic>
          <a:graphicData uri="http://schemas.openxmlformats.org/drawingml/2006/table">
            <a:tbl>
              <a:tblPr/>
              <a:tblGrid>
                <a:gridCol w="1487520"/>
                <a:gridCol w="815760"/>
                <a:gridCol w="1130400"/>
                <a:gridCol w="814320"/>
              </a:tblGrid>
              <a:tr h="40968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Rectangle 198"/>
          <p:cNvSpPr/>
          <p:nvPr/>
        </p:nvSpPr>
        <p:spPr>
          <a:xfrm>
            <a:off x="5292720" y="888840"/>
            <a:ext cx="2822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Entrevistas grupales </a:t>
            </a:r>
            <a:endParaRPr b="0" lang="en-US" sz="1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p:txBody>
      </p:sp>
      <p:graphicFrame>
        <p:nvGraphicFramePr>
          <p:cNvPr id="234" name=""/>
          <p:cNvGraphicFramePr/>
          <p:nvPr/>
        </p:nvGraphicFramePr>
        <p:xfrm>
          <a:off x="4859280" y="1557360"/>
          <a:ext cx="3889440" cy="3048120"/>
        </p:xfrm>
        <a:graphic>
          <a:graphicData uri="http://schemas.openxmlformats.org/drawingml/2006/table">
            <a:tbl>
              <a:tblPr/>
              <a:tblGrid>
                <a:gridCol w="1073160"/>
                <a:gridCol w="793800"/>
                <a:gridCol w="1085760"/>
                <a:gridCol w="936720"/>
              </a:tblGrid>
              <a:tr h="42552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9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6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5" name="Rectangle 327"/>
          <p:cNvSpPr/>
          <p:nvPr/>
        </p:nvSpPr>
        <p:spPr>
          <a:xfrm>
            <a:off x="1116000" y="5318640"/>
            <a:ext cx="7272360" cy="1189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Entrevistas grupales a </a:t>
            </a:r>
            <a:r>
              <a:rPr b="1" lang="es-ES" sz="1400" spc="-1" strike="noStrike" u="sng">
                <a:solidFill>
                  <a:srgbClr val="000000"/>
                </a:solidFill>
                <a:uFillTx/>
                <a:latin typeface="Verdana"/>
                <a:ea typeface="Times New Roman"/>
              </a:rPr>
              <a:t>alumnos</a:t>
            </a:r>
            <a:r>
              <a:rPr b="1" lang="es-ES" sz="1400" spc="-1" strike="noStrike">
                <a:solidFill>
                  <a:srgbClr val="000000"/>
                </a:solidFill>
                <a:latin typeface="Verdana"/>
                <a:ea typeface="Times New Roman"/>
              </a:rPr>
              <a:t> (enseñanza medi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3 entrevistas</a:t>
            </a:r>
            <a:r>
              <a:rPr b="0"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grupales (una por comuna) </a:t>
            </a:r>
            <a:r>
              <a:rPr b="0" lang="es-ES" sz="1400" spc="-1" strike="noStrike">
                <a:solidFill>
                  <a:srgbClr val="000000"/>
                </a:solidFill>
                <a:latin typeface="Verdana"/>
                <a:ea typeface="Times New Roman"/>
              </a:rPr>
              <a:t>con entre 6 y 8 participantes, buscando constituir un grupo heterogéneo en términos de dependencia del establecimiento, NSE, modalidad de enseñanza y sexo.</a:t>
            </a:r>
            <a:r>
              <a:rPr b="0" lang="es-ES" sz="1600" spc="-1" strike="noStrike">
                <a:solidFill>
                  <a:srgbClr val="000000"/>
                </a:solidFill>
                <a:latin typeface="Verdana"/>
                <a:ea typeface="Times New Roman"/>
              </a:rPr>
              <a:t> </a:t>
            </a:r>
            <a:endParaRPr b="0" lang="en-US" sz="16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lección de entrevistados intencionada por GSE del establecimiento</a:t>
            </a:r>
            <a:r>
              <a:rPr b="0" lang="es-ES" sz="1400" spc="-1" strike="noStrike">
                <a:solidFill>
                  <a:srgbClr val="000000"/>
                </a:solidFill>
                <a:latin typeface="Verdana"/>
                <a:ea typeface="Times New Roman"/>
              </a:rPr>
              <a:t>  </a:t>
            </a:r>
            <a:endParaRPr b="0" lang="en-US" sz="1400" spc="-1" strike="noStrike">
              <a:solidFill>
                <a:srgbClr val="000000"/>
              </a:solidFill>
              <a:latin typeface="Arial"/>
            </a:endParaRPr>
          </a:p>
        </p:txBody>
      </p:sp>
      <p:graphicFrame>
        <p:nvGraphicFramePr>
          <p:cNvPr id="236" name=""/>
          <p:cNvGraphicFramePr/>
          <p:nvPr/>
        </p:nvGraphicFramePr>
        <p:xfrm>
          <a:off x="468360" y="4581360"/>
          <a:ext cx="4248000" cy="517680"/>
        </p:xfrm>
        <a:graphic>
          <a:graphicData uri="http://schemas.openxmlformats.org/drawingml/2006/table">
            <a:tbl>
              <a:tblPr/>
              <a:tblGrid>
                <a:gridCol w="1487520"/>
                <a:gridCol w="815760"/>
                <a:gridCol w="194472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24 entr. indi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8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4859280" y="4653000"/>
          <a:ext cx="3889440" cy="517320"/>
        </p:xfrm>
        <a:graphic>
          <a:graphicData uri="http://schemas.openxmlformats.org/drawingml/2006/table">
            <a:tbl>
              <a:tblPr/>
              <a:tblGrid>
                <a:gridCol w="1081080"/>
                <a:gridCol w="792360"/>
                <a:gridCol w="2016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12 entr. Grup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4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1440" y="1125000"/>
            <a:ext cx="8163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C) </a:t>
            </a:r>
            <a:r>
              <a:rPr b="1" lang="es-CL" sz="2800" spc="-1" strike="noStrike">
                <a:solidFill>
                  <a:srgbClr val="000000"/>
                </a:solidFill>
                <a:latin typeface="Verdana"/>
              </a:rPr>
              <a:t>Principales resultados</a:t>
            </a:r>
            <a:br>
              <a:rPr sz="2800"/>
            </a:br>
            <a:endParaRPr b="0" lang="en-US" sz="2800" spc="-1" strike="noStrike">
              <a:solidFill>
                <a:srgbClr val="000000"/>
              </a:solidFill>
              <a:latin typeface="Verdana"/>
            </a:endParaRPr>
          </a:p>
        </p:txBody>
      </p:sp>
      <p:sp>
        <p:nvSpPr>
          <p:cNvPr id="239" name="PlaceHolder 2"/>
          <p:cNvSpPr>
            <a:spLocks noGrp="1"/>
          </p:cNvSpPr>
          <p:nvPr>
            <p:ph/>
          </p:nvPr>
        </p:nvSpPr>
        <p:spPr>
          <a:xfrm>
            <a:off x="900000" y="1905120"/>
            <a:ext cx="7871040" cy="4952880"/>
          </a:xfrm>
          <a:prstGeom prst="rect">
            <a:avLst/>
          </a:prstGeom>
          <a:noFill/>
          <a:ln w="0">
            <a:noFill/>
          </a:ln>
        </p:spPr>
        <p:txBody>
          <a:bodyPr anchor="t">
            <a:normAutofit/>
          </a:bodyPr>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onocimiento de los colegios</a:t>
            </a:r>
            <a:r>
              <a:rPr b="0" lang="es-CL" sz="1400" spc="-1" strike="noStrike">
                <a:solidFill>
                  <a:srgbClr val="000000"/>
                </a:solidFill>
                <a:latin typeface="Verdana"/>
              </a:rPr>
              <a:t>. Las familias tienden a tener un mapa bastante claro de los establecimientos educacionales en su comuna.</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xisten </a:t>
            </a:r>
            <a:r>
              <a:rPr b="1" lang="es-CL" sz="1400" spc="-1" strike="noStrike">
                <a:solidFill>
                  <a:srgbClr val="000000"/>
                </a:solidFill>
                <a:latin typeface="Verdana"/>
              </a:rPr>
              <a:t>fuertes barreras a la “libre elección de escuelas</a:t>
            </a:r>
            <a:r>
              <a:rPr b="0" lang="es-CL" sz="1400" spc="-1" strike="noStrike">
                <a:solidFill>
                  <a:srgbClr val="000000"/>
                </a:solidFill>
                <a:latin typeface="Verdana"/>
              </a:rPr>
              <a:t>”: las familias actúan considerando en primer instancia factores de distancia y costo. Excluidas las escuelas inaccesibles  por distancia o costo, el set de colegios elegibles se reduce a 1, 2 o 3 establecimient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l puntaje </a:t>
            </a:r>
            <a:r>
              <a:rPr b="1" lang="es-CL" sz="1400" spc="-1" strike="noStrike">
                <a:solidFill>
                  <a:srgbClr val="000000"/>
                </a:solidFill>
                <a:latin typeface="Verdana"/>
              </a:rPr>
              <a:t>SIMCE no es factor de gravitante</a:t>
            </a:r>
            <a:r>
              <a:rPr b="0" lang="es-CL" sz="1400" spc="-1" strike="noStrike">
                <a:solidFill>
                  <a:srgbClr val="000000"/>
                </a:solidFill>
                <a:latin typeface="Verdana"/>
              </a:rPr>
              <a:t>. Esto no significa que no consideran factores que reflejan el aprendizaje que logran los alumn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Factores gravitantes</a:t>
            </a:r>
            <a:r>
              <a:rPr b="0" lang="es-CL" sz="1400" spc="-1" strike="noStrike">
                <a:solidFill>
                  <a:srgbClr val="000000"/>
                </a:solidFill>
                <a:latin typeface="Verdana"/>
              </a:rPr>
              <a:t>, una vez excluidos los colegios muy distantes y de costo muy alto para la familia, son:</a:t>
            </a:r>
            <a:endParaRPr b="0" lang="en-US" sz="14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nivel socioeconómico de los alumnos</a:t>
            </a:r>
            <a:r>
              <a:rPr b="0" lang="es-CL" sz="1200" spc="-1" strike="noStrike">
                <a:solidFill>
                  <a:srgbClr val="000000"/>
                </a:solidFill>
                <a:latin typeface="Verdana"/>
              </a:rPr>
              <a:t>: búsqueda de similares o de cercanía con estrato cercano más alto</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 los </a:t>
            </a:r>
            <a:r>
              <a:rPr b="1" lang="es-CL" sz="1200" spc="-1" strike="noStrike">
                <a:solidFill>
                  <a:srgbClr val="000000"/>
                </a:solidFill>
                <a:latin typeface="Verdana"/>
              </a:rPr>
              <a:t>colegios seleccionan alumnos</a:t>
            </a:r>
            <a:r>
              <a:rPr b="0" lang="es-CL" sz="1200" spc="-1" strike="noStrike">
                <a:solidFill>
                  <a:srgbClr val="000000"/>
                </a:solidFill>
                <a:latin typeface="Verdana"/>
              </a:rPr>
              <a:t> y si, en caso de necesidad,  aplican “mecanismos de limpieza”.</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ambiente” del colegio</a:t>
            </a:r>
            <a:r>
              <a:rPr b="0" lang="es-CL" sz="1200" spc="-1" strike="noStrike">
                <a:solidFill>
                  <a:srgbClr val="000000"/>
                </a:solidFill>
                <a:latin typeface="Verdana"/>
              </a:rPr>
              <a:t>: disciplina y orden, cumplimiento de normas;  trato y preocupación de docentes y directivos por los alumnos y apoderados; convivencia positiva en la comunidad escolar.</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prendizaje</a:t>
            </a:r>
            <a:r>
              <a:rPr b="0" lang="es-CL" sz="1200" spc="-1" strike="noStrike">
                <a:solidFill>
                  <a:srgbClr val="000000"/>
                </a:solidFill>
                <a:latin typeface="Verdana"/>
              </a:rPr>
              <a:t>: cobertura de materias; profesores exigentes; atributos de los cuadernos del alumno. </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mación en valores</a:t>
            </a:r>
            <a:r>
              <a:rPr b="0" lang="es-CL" sz="1200" spc="-1" strike="noStrike">
                <a:solidFill>
                  <a:srgbClr val="000000"/>
                </a:solidFill>
                <a:latin typeface="Verdana"/>
              </a:rPr>
              <a:t>: respeto, honradez, solidaridad, escucha, obediencia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74480"/>
            <a:ext cx="784872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000000"/>
                </a:solidFill>
                <a:latin typeface="Verdana"/>
              </a:rPr>
              <a:t> </a:t>
            </a:r>
            <a:r>
              <a:rPr b="1" lang="es-CL" sz="2400" spc="-1" strike="noStrike">
                <a:solidFill>
                  <a:srgbClr val="000000"/>
                </a:solidFill>
                <a:latin typeface="Verdana"/>
              </a:rPr>
              <a:t>5. Fuentes y atributos de la información sobre colegios confiable para la familia </a:t>
            </a:r>
            <a:endParaRPr b="0" lang="en-US" sz="2400" spc="-1" strike="noStrike">
              <a:solidFill>
                <a:srgbClr val="000000"/>
              </a:solidFill>
              <a:latin typeface="Verdana"/>
            </a:endParaRPr>
          </a:p>
        </p:txBody>
      </p:sp>
      <p:sp>
        <p:nvSpPr>
          <p:cNvPr id="241" name="PlaceHolder 2"/>
          <p:cNvSpPr>
            <a:spLocks noGrp="1"/>
          </p:cNvSpPr>
          <p:nvPr>
            <p:ph/>
          </p:nvPr>
        </p:nvSpPr>
        <p:spPr>
          <a:xfrm>
            <a:off x="912600" y="1844640"/>
            <a:ext cx="8110440" cy="5013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so de las redes interpersonales y la “información caliente” que circula en estas y que al provenir de cercanos es para la familia confiable.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apoderadas la confirman recogiendo ellos información “in situ”: observación directa sobre disciplina y orden; presentación de los profesores y trato que dan a los alumnos; forma de relacionarse con los apoderados.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formación objetiva (SIMCE)  no tiene mayor peso en la elección.  No significa que el aprendizaje no sea relevante para la familia, sino que el SIMCE es para ellos un “no indicador”, frente al que existe alta desconfianza.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señanza media tienen peso los resultados del colegio en la PSU  y en la modalidad técnico profesional inserción en mercado de  trabajo.</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por estrato social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08:00Z</dcterms:created>
  <dc:creator>Contador</dc:creator>
  <dc:description/>
  <dc:language>en-US</dc:language>
  <cp:lastModifiedBy>Home</cp:lastModifiedBy>
  <dcterms:modified xsi:type="dcterms:W3CDTF">2010-08-24T01:48:10Z</dcterms:modified>
  <cp:revision>104</cp:revision>
  <dc:subject/>
  <dc:title>  Estudio de seguimiento y evaluación del Programa     ‘FORTALECIMIENTO DE LA EDUCACIÓN ARTÍSTICA Y CULTURAL EN ENSEÑANZA MEDIA EN JORNADA ESCOLAR COMPLETA 2008’</dc:title>
</cp:coreProperties>
</file>