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1AA61-2EC8-4BD1-8A00-1E134AEFE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A6BCB-3FC8-4B75-9406-40798A6A7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89315-CCDC-4054-9A73-1AF21428F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FD6CB-080B-4129-BAE3-98D97733C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F787C-5A8E-4404-AFE0-394520F50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DE95C-F107-477D-A18A-692196D0F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38516-EC22-4889-B3C3-D28B1D143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2ABC5-A68A-4B45-9F74-57A8FE0F1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9449B-7613-4433-A88C-AB1550B3F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C99C1-E87D-4E83-ACB9-39CD1FEDC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80F9F-D576-43CE-873B-2A4A797A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5D2E-1C8B-4785-98D4-60FFA854F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AF59-EF2A-4E09-AFFA-57F2B903420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7" name="Text Box 3"/>
          <p:cNvSpPr/>
          <p:nvPr/>
        </p:nvSpPr>
        <p:spPr>
          <a:xfrm>
            <a:off x="324000" y="333360"/>
            <a:ext cx="8569080" cy="97992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Con la </a:t>
            </a:r>
            <a:r>
              <a:rPr b="1" lang="es-MX" sz="2800" spc="-1" strike="noStrike">
                <a:solidFill>
                  <a:srgbClr val="ff0000"/>
                </a:solidFill>
                <a:latin typeface="Times New Roman"/>
              </a:rPr>
              <a:t>Constitución de 1947</a:t>
            </a:r>
            <a:r>
              <a:rPr b="1" lang="es-MX" sz="2800" spc="-1" strike="noStrike">
                <a:solidFill>
                  <a:srgbClr val="000000"/>
                </a:solidFill>
                <a:latin typeface="Times New Roman"/>
              </a:rPr>
              <a:t>, </a:t>
            </a:r>
            <a:r>
              <a:rPr b="1" lang="es-MX" sz="2800" spc="-1" strike="noStrike">
                <a:solidFill>
                  <a:srgbClr val="3333cc"/>
                </a:solidFill>
                <a:latin typeface="Times New Roman"/>
              </a:rPr>
              <a:t>el emperador</a:t>
            </a:r>
            <a:r>
              <a:rPr b="1" lang="es-MX" sz="2800" spc="-1" strike="noStrike">
                <a:solidFill>
                  <a:srgbClr val="000000"/>
                </a:solidFill>
                <a:latin typeface="Times New Roman"/>
              </a:rPr>
              <a:t> fue despojado de su poder soberano y reemplazado por un gabinete parlamentario.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3333cc"/>
                </a:solidFill>
                <a:latin typeface="Times New Roman"/>
              </a:rPr>
              <a:t>El contexto de funcionamiento del capitalismo japonés se diseñó por </a:t>
            </a:r>
            <a:r>
              <a:rPr b="1" lang="es-MX" sz="2800" spc="-1" strike="noStrike">
                <a:solidFill>
                  <a:srgbClr val="ff0000"/>
                </a:solidFill>
                <a:latin typeface="Times New Roman"/>
              </a:rPr>
              <a:t>la reforma política</a:t>
            </a:r>
            <a:r>
              <a:rPr b="1" lang="es-MX" sz="2800" spc="-1" strike="noStrike">
                <a:solidFill>
                  <a:srgbClr val="3333cc"/>
                </a:solidFill>
                <a:latin typeface="Times New Roman"/>
              </a:rPr>
              <a:t> de los aliados</a:t>
            </a:r>
            <a:r>
              <a:rPr b="1" lang="es-MX" sz="2800" spc="-1" strike="noStrike">
                <a:solidFill>
                  <a:srgbClr val="000000"/>
                </a:solidFill>
                <a:latin typeface="Times New Roman"/>
              </a:rPr>
              <a:t>. En los ámbitos de la tierra, la educación, la protección de los sindicatos, la desmilitarización y la disolución de los zaitbatsus (agrupación entre empres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Tales cambios se pusieron en práctica con mayor fuerza e idealismo por parte de los japoneses que por los propios norteamericanos. </a:t>
            </a:r>
            <a:r>
              <a:rPr b="1" lang="es-MX" sz="2800" spc="-1" strike="noStrike">
                <a:solidFill>
                  <a:srgbClr val="3333cc"/>
                </a:solidFill>
                <a:latin typeface="Times New Roman"/>
              </a:rPr>
              <a:t>El nuevo programa originó dos conceptos</a:t>
            </a:r>
            <a:r>
              <a:rPr b="1" lang="es-MX" sz="2800" spc="-1" strike="noStrike">
                <a:solidFill>
                  <a:srgbClr val="000000"/>
                </a:solidFill>
                <a:latin typeface="Times New Roman"/>
              </a:rPr>
              <a:t> que iban a desempeñar un importante papel en el posterior desarrollo del capitalismo japonés: </a:t>
            </a:r>
            <a:r>
              <a:rPr b="1" lang="es-MX" sz="2800" spc="-1" strike="noStrike">
                <a:solidFill>
                  <a:srgbClr val="ff0000"/>
                </a:solidFill>
                <a:latin typeface="Times New Roman"/>
              </a:rPr>
              <a:t>igualdad y competencia</a:t>
            </a:r>
            <a:r>
              <a:rPr b="1" lang="es-MX" sz="2800" spc="-1" strike="noStrike">
                <a:solidFill>
                  <a:srgbClr val="000000"/>
                </a:solidFill>
                <a:latin typeface="Times New Roman"/>
              </a:rPr>
              <a:t>.</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Korea-01"/>
          <p:cNvPicPr/>
          <p:nvPr/>
        </p:nvPicPr>
        <p:blipFill>
          <a:blip r:embed="rId1">
            <a:lum bright="70000" contrast="-70000"/>
          </a:blip>
          <a:stretch/>
        </p:blipFill>
        <p:spPr>
          <a:xfrm>
            <a:off x="297000" y="333360"/>
            <a:ext cx="8550000" cy="6067440"/>
          </a:xfrm>
          <a:prstGeom prst="rect">
            <a:avLst/>
          </a:prstGeom>
          <a:ln w="0">
            <a:noFill/>
          </a:ln>
        </p:spPr>
      </p:pic>
      <p:sp>
        <p:nvSpPr>
          <p:cNvPr id="81" name="Text Box 3"/>
          <p:cNvSpPr/>
          <p:nvPr/>
        </p:nvSpPr>
        <p:spPr>
          <a:xfrm>
            <a:off x="250920" y="404640"/>
            <a:ext cx="8642160" cy="8657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rPr>
              <a:t>La Reforma Política</a:t>
            </a:r>
            <a:endParaRPr b="0" lang="en-US" sz="4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rPr>
              <a:t>Reforma agraria</a:t>
            </a:r>
            <a:r>
              <a:rPr b="1" lang="es-MX" sz="2000" spc="-1" strike="noStrike">
                <a:solidFill>
                  <a:srgbClr val="000000"/>
                </a:solidFill>
                <a:latin typeface="Times New Roman"/>
              </a:rPr>
              <a:t> </a:t>
            </a:r>
            <a:r>
              <a:rPr b="1" lang="es-MX" sz="2400" spc="-1" strike="noStrike">
                <a:solidFill>
                  <a:srgbClr val="000000"/>
                </a:solidFill>
                <a:latin typeface="Times New Roman"/>
              </a:rPr>
              <a:t>fomentó una mayor igualdad: eliminó a terratenientes que no utilizaban sus tierras y creó la clase de agricultores poseedora de la tierra que cultivab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i="1" lang="es-MX" sz="2400" spc="-1" strike="noStrike">
                <a:solidFill>
                  <a:srgbClr val="000000"/>
                </a:solidFill>
                <a:latin typeface="Times New Roman"/>
              </a:rPr>
              <a:t>Durante el período inmediato a la posguerra se hizo patente un hambre masiva. Se consideraba que EE.UU. era el país más democrático del mundo, pues había entregado tierras a quienes no tenían, le quitaron la riqueza a los más ricos y se la distribuyeron al pueblo. La ocupación norteamericana creó premisas favorables, muy especialmente con la reforma agraria, como mecanismo de transferencia del excedente económico hacia la reconstrucción industrial</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Un </a:t>
            </a:r>
            <a:r>
              <a:rPr b="1" lang="es-MX" sz="2800" spc="-1" strike="noStrike">
                <a:solidFill>
                  <a:srgbClr val="ff0000"/>
                </a:solidFill>
                <a:latin typeface="Times New Roman"/>
              </a:rPr>
              <a:t>código civil</a:t>
            </a:r>
            <a:r>
              <a:rPr b="1" lang="es-MX" sz="2400" spc="-1" strike="noStrike">
                <a:solidFill>
                  <a:srgbClr val="000000"/>
                </a:solidFill>
                <a:latin typeface="Times New Roman"/>
              </a:rPr>
              <a:t> por la igualdad entre el hombre y la mujer.</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5" name="Text Box 3"/>
          <p:cNvSpPr/>
          <p:nvPr/>
        </p:nvSpPr>
        <p:spPr>
          <a:xfrm>
            <a:off x="0" y="333360"/>
            <a:ext cx="8893080" cy="9115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a:t>
            </a:r>
            <a:r>
              <a:rPr b="1" lang="es-MX" sz="2800" spc="-1" strike="noStrike">
                <a:solidFill>
                  <a:srgbClr val="ff0000"/>
                </a:solidFill>
                <a:latin typeface="Times New Roman"/>
              </a:rPr>
              <a:t>reforma educativa</a:t>
            </a:r>
            <a:r>
              <a:rPr b="1" lang="es-MX" sz="2400" spc="-1" strike="noStrike">
                <a:solidFill>
                  <a:srgbClr val="000000"/>
                </a:solidFill>
                <a:latin typeface="Times New Roman"/>
              </a:rPr>
              <a:t> con gran impacto. </a:t>
            </a:r>
            <a:r>
              <a:rPr b="1" i="1" lang="es-MX" sz="2000" spc="-1" strike="noStrike">
                <a:solidFill>
                  <a:srgbClr val="000000"/>
                </a:solidFill>
                <a:latin typeface="Times New Roman"/>
              </a:rPr>
              <a:t>El nuevo sistema,</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basado en modelos norteamericanos estableció nueve años de educación obligatoria gratuita y tres años más opcionales de enseñanza media. Quienes reunían aptitudes adecuadas y pagaban las modestas tarifas educativas, podían llegar a graduarse en la universidad. </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El establecimiento de </a:t>
            </a:r>
            <a:r>
              <a:rPr b="1" lang="es-MX" sz="2800" spc="-1" strike="noStrike">
                <a:solidFill>
                  <a:srgbClr val="ff0000"/>
                </a:solidFill>
                <a:latin typeface="Times New Roman"/>
              </a:rPr>
              <a:t>reformas democráticas</a:t>
            </a:r>
            <a:r>
              <a:rPr b="1" lang="es-MX" sz="2400" spc="-1" strike="noStrike">
                <a:solidFill>
                  <a:srgbClr val="000000"/>
                </a:solidFill>
                <a:latin typeface="Times New Roman"/>
              </a:rPr>
              <a:t>: Libertad de reunión, asociación y expresión, incluido el Partido Comunista;</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bolición del sintoísmo como religión oficial; y libertad de cul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t>
            </a:r>
            <a:r>
              <a:rPr b="1" lang="es-MX" sz="2800" spc="-1" strike="noStrike">
                <a:solidFill>
                  <a:srgbClr val="ff0000"/>
                </a:solidFill>
                <a:latin typeface="Times New Roman"/>
              </a:rPr>
              <a:t>Disolución de los Zaibatsus:</a:t>
            </a:r>
            <a:r>
              <a:rPr b="1" lang="es-MX" sz="2400" spc="-1" strike="noStrike">
                <a:solidFill>
                  <a:srgbClr val="000000"/>
                </a:solidFill>
                <a:latin typeface="Times New Roman"/>
              </a:rPr>
              <a:t> fomentó la competencia, al disminuir el diseño empresarial de la industria y surgieron las PYMES, las cuales debían luchar ferozmente entre ellas para conseguir mayor número de ventas. </a:t>
            </a:r>
            <a:r>
              <a:rPr b="1" i="1" lang="es-MX" sz="2000" spc="-1" strike="noStrike">
                <a:solidFill>
                  <a:srgbClr val="3333cc"/>
                </a:solidFill>
                <a:latin typeface="Times New Roman"/>
              </a:rPr>
              <a:t>El objetivo de los Estados Unidos al eliminar los zaibatsus fue desintegrar la potencia militar para evitar que Japón tomara fuerza y luchara contra ellos.</a:t>
            </a:r>
            <a:r>
              <a:rPr b="0" i="1" lang="es-MX"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9" name="Text Box 3"/>
          <p:cNvSpPr/>
          <p:nvPr/>
        </p:nvSpPr>
        <p:spPr>
          <a:xfrm>
            <a:off x="250920" y="189000"/>
            <a:ext cx="8642160" cy="9055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El Miti: </a:t>
            </a:r>
            <a:r>
              <a:rPr b="1" lang="es-MX" sz="2000" spc="-1" strike="noStrike">
                <a:solidFill>
                  <a:srgbClr val="000000"/>
                </a:solidFill>
                <a:latin typeface="Times New Roman"/>
              </a:rPr>
              <a:t>En 1949 surgió el Ministerio de Industria y Comercio Internacional (MITI). Se estableció el Departamento de Empresa del MITI con el </a:t>
            </a:r>
            <a:r>
              <a:rPr b="1" i="1" lang="es-MX" sz="2000" spc="-1" strike="noStrike">
                <a:solidFill>
                  <a:srgbClr val="ff0000"/>
                </a:solidFill>
                <a:latin typeface="Times New Roman"/>
              </a:rPr>
              <a:t>objetivo de desarrollar de modo estratégico las empresas del país y crear un entorno favorable a la competencia</a:t>
            </a:r>
            <a:r>
              <a:rPr b="1" i="1" lang="es-MX" sz="2000" spc="-1" strike="noStrike">
                <a:solidFill>
                  <a:srgbClr val="000000"/>
                </a:solidFill>
                <a:latin typeface="Times New Roman"/>
              </a:rPr>
              <a:t>; o sea, el </a:t>
            </a:r>
            <a:r>
              <a:rPr b="1" i="1" lang="es-MX" sz="2000" spc="-1" strike="noStrike">
                <a:solidFill>
                  <a:srgbClr val="ff0000"/>
                </a:solidFill>
                <a:latin typeface="Times New Roman"/>
              </a:rPr>
              <a:t>Estado dirigió su acción reguladora como máximo responsable de la competencia y el desarrollo de las empresas</a:t>
            </a:r>
            <a:r>
              <a:rPr b="1" lang="es-MX" sz="2000" spc="-1" strike="noStrike">
                <a:solidFill>
                  <a:srgbClr val="000000"/>
                </a:solidFill>
                <a:latin typeface="Times New Roman"/>
              </a:rPr>
              <a:t>. El último ministro del MCI fue el primero del MITI: Inagaki Heitar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Después de la guerra había poca oferta de capital y los tipos de interés eran consecuentemente altos. Sin embargo, </a:t>
            </a:r>
            <a:r>
              <a:rPr b="1" i="1" lang="es-MX" sz="2000" spc="-1" strike="noStrike">
                <a:solidFill>
                  <a:srgbClr val="ff0000"/>
                </a:solidFill>
                <a:latin typeface="Times New Roman"/>
              </a:rPr>
              <a:t>el Gobierno hizo posible que las empresas con más futuro obtuvieran fondos a tipos de interés extremadamente bajos</a:t>
            </a:r>
            <a:r>
              <a:rPr b="1" lang="es-MX" sz="2000" spc="-1" strike="noStrike">
                <a:solidFill>
                  <a:srgbClr val="000000"/>
                </a:solidFill>
                <a:latin typeface="Times New Roman"/>
              </a:rPr>
              <a:t>. Como regla, estas empresas orientaban su producción hacia el mercado extern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Los bancos</a:t>
            </a:r>
            <a:r>
              <a:rPr b="1" lang="es-MX" sz="2000" spc="-1" strike="noStrike">
                <a:solidFill>
                  <a:srgbClr val="000000"/>
                </a:solidFill>
                <a:latin typeface="Times New Roman"/>
              </a:rPr>
              <a:t> canalizaban el capital acumulado para prestarlo a industrias estratégicamente importantes, apoyadas por las garantías de créditos del Banco de Japón. Asimismo, </a:t>
            </a:r>
            <a:r>
              <a:rPr b="1" lang="es-MX" sz="2400" spc="-1" strike="noStrike">
                <a:solidFill>
                  <a:srgbClr val="ff0000"/>
                </a:solidFill>
                <a:latin typeface="Times New Roman"/>
              </a:rPr>
              <a:t>el Gobierno</a:t>
            </a:r>
            <a:r>
              <a:rPr b="1" lang="es-MX" sz="2000" spc="-1" strike="noStrike">
                <a:solidFill>
                  <a:srgbClr val="000000"/>
                </a:solidFill>
                <a:latin typeface="Times New Roman"/>
              </a:rPr>
              <a:t> ofrecía importantes concesiones tributarias a los ingresos por exportación, a la vez que establecía la adquisición de tecnología como prioridad nacion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3" name="Text Box 3"/>
          <p:cNvSpPr/>
          <p:nvPr/>
        </p:nvSpPr>
        <p:spPr>
          <a:xfrm>
            <a:off x="324000" y="692280"/>
            <a:ext cx="8496000" cy="8748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epartamento de Empresa MITI preparó la nueva política para la racionalización industrial basada en la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ol cambiario total a las importaciones de tecnología – poder de selección de las industrias para el desarroll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Financiamiento preferencial.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Exenciones fiscale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utoridad para ordenar la creación de conglomerados industriales basados en bancos (nuevos zaibatsu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 Aparato institucional para política de racionalización e incentiv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7" name="Text Box 3"/>
          <p:cNvSpPr/>
          <p:nvPr/>
        </p:nvSpPr>
        <p:spPr>
          <a:xfrm>
            <a:off x="324000" y="1197000"/>
            <a:ext cx="8569080" cy="77133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los primeros años después de la guerra, debido a la escasez de materiales, las fábricas prácticamente no producían nada y para vender lo poco que elaboraban tenían que competir en precio y calidad, o sea, tenían un entorno muy fuerte no sólo externo, sino también interno. Las empresas que no conseguían recortar costos se encontraban sin clientes. Esta presión causó una verdadera revolución en la planificación de las empres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l Departamento de Empresa del MITI contribuyó en gran medida a flexibilizar los caminos hacia la competitividad nacional e internacional. Todos podían esperar el triunfo si trabajaban lo suficiente para vencer en la competenci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1" name="Text Box 3"/>
          <p:cNvSpPr/>
          <p:nvPr/>
        </p:nvSpPr>
        <p:spPr>
          <a:xfrm>
            <a:off x="324000" y="692280"/>
            <a:ext cx="8569080" cy="8261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características del </a:t>
            </a:r>
            <a:r>
              <a:rPr b="1" lang="es-MX" sz="2800" spc="-1" strike="noStrike">
                <a:solidFill>
                  <a:srgbClr val="ff0000"/>
                </a:solidFill>
                <a:latin typeface="Times New Roman"/>
              </a:rPr>
              <a:t>entorno interno</a:t>
            </a:r>
            <a:r>
              <a:rPr b="1" lang="es-MX" sz="2400" spc="-1" strike="noStrike">
                <a:solidFill>
                  <a:srgbClr val="000000"/>
                </a:solidFill>
                <a:latin typeface="Times New Roman"/>
              </a:rPr>
              <a:t> que creó el Departamento de Empresa constituyeron la fuerza motriz que guió el desarrollo económico de la nación en la posguerra. Estos fueron los sgt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Un Estado protector exigente.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Las condiciones de la concurrencia no eran resultado del laissez faire; el riesgo se reducía para el capital con mayor concurrenci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concentración en determinadas empresas para: lograr una reestructuración industrial; facilitar la transferencia tecnológica; garantizar el largo plazo, como criterio; y atender las prioridades internas y las amenazas externa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5" name="Text Box 3"/>
          <p:cNvSpPr/>
          <p:nvPr/>
        </p:nvSpPr>
        <p:spPr>
          <a:xfrm>
            <a:off x="324000" y="476280"/>
            <a:ext cx="8569080" cy="89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as funciones del Departamento de Empresas era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aborar la política de reestructuración y racionalización empresarial sobre la base de medidas fiscales, crediticias y de desarrollo de infraestructur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romover la cooperación empresarial en cuestiones, como: compartir tecnologías; lograr la especialización en líneas de producción; utilizar conjuntamente recursos y almacenes, y consultar planes de inversió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Coordinar las acciones conjuntas de las asociaciones de empresarios sectoriales para la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carácter selectivo del Departamento de Empresas del MITI protegía el desarrollo industrial y abarcaba todo el ciclo económico.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9" name="Text Box 3"/>
          <p:cNvSpPr/>
          <p:nvPr/>
        </p:nvSpPr>
        <p:spPr>
          <a:xfrm>
            <a:off x="324000" y="333360"/>
            <a:ext cx="8569080" cy="8505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onsejo de Racionalización Industrial</a:t>
            </a:r>
            <a:r>
              <a:rPr b="1" lang="es-MX" sz="2400" spc="-1" strike="noStrike">
                <a:solidFill>
                  <a:srgbClr val="000000"/>
                </a:solidFill>
                <a:latin typeface="Times New Roman"/>
              </a:rPr>
              <a:t> (Dic.1949), promovió durante la década de los 50 una cultura empresarial común con énfasis en la administración científica. </a:t>
            </a:r>
            <a:r>
              <a:rPr b="1" i="1" lang="es-MX" sz="2400" spc="-1" strike="noStrike">
                <a:solidFill>
                  <a:srgbClr val="ff0000"/>
                </a:solidFill>
                <a:latin typeface="Times New Roman"/>
              </a:rPr>
              <a:t>La vida empresarial se centraba en las prácticas administrativas y no en las preferencias arbitrarias de los propietarios del capital</a:t>
            </a:r>
            <a:r>
              <a:rPr b="1" i="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La concurrencia inducida</a:t>
            </a:r>
            <a:r>
              <a:rPr b="1" lang="es-MX" sz="2400" spc="-1" strike="noStrike">
                <a:solidFill>
                  <a:srgbClr val="000000"/>
                </a:solidFill>
                <a:latin typeface="Times New Roman"/>
              </a:rPr>
              <a:t> significaba que esta competencia se daba siempre en el contexto de la racionalización, de la selectividad, con conciliación productiva nacional. El MITI promovió </a:t>
            </a:r>
            <a:r>
              <a:rPr b="1" lang="es-MX" sz="2800" spc="-1" strike="noStrike">
                <a:solidFill>
                  <a:srgbClr val="3333cc"/>
                </a:solidFill>
                <a:latin typeface="Times New Roman"/>
              </a:rPr>
              <a:t>prácticas administrativas</a:t>
            </a:r>
            <a:r>
              <a:rPr b="1" lang="es-MX" sz="2400" spc="-1" strike="noStrike">
                <a:solidFill>
                  <a:srgbClr val="000000"/>
                </a:solidFill>
                <a:latin typeface="Times New Roman"/>
              </a:rPr>
              <a:t> </a:t>
            </a:r>
            <a:r>
              <a:rPr b="1" lang="es-MX" sz="2800" spc="-1" strike="noStrike">
                <a:solidFill>
                  <a:srgbClr val="3333cc"/>
                </a:solidFill>
                <a:latin typeface="Times New Roman"/>
              </a:rPr>
              <a:t>racionales</a:t>
            </a:r>
            <a:r>
              <a:rPr b="1" lang="es-MX" sz="2400" spc="-1" strike="noStrike">
                <a:solidFill>
                  <a:srgbClr val="000000"/>
                </a:solidFill>
                <a:latin typeface="Times New Roman"/>
              </a:rPr>
              <a:t>, por 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000" spc="-1" strike="noStrike">
                <a:solidFill>
                  <a:srgbClr val="000000"/>
                </a:solidFill>
                <a:latin typeface="Times New Roman"/>
              </a:rPr>
              <a:t>Modelos para los sistemas salariales y de promoció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Modelos para la organización de los locales de trabajo en función de una mayor intensidad del trabaj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Modelos para entrenar empleados y cuadr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3" name="Text Box 3"/>
          <p:cNvSpPr/>
          <p:nvPr/>
        </p:nvSpPr>
        <p:spPr>
          <a:xfrm>
            <a:off x="324000" y="692280"/>
            <a:ext cx="8569080" cy="88858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arácter selectivo para el crecimiento acelerado 1955 – 1990</a:t>
            </a:r>
            <a:r>
              <a:rPr b="1" lang="es-MX" sz="2400" spc="-1" strike="noStrike">
                <a:solidFill>
                  <a:srgbClr val="000000"/>
                </a:solidFill>
                <a:latin typeface="Times New Roman"/>
              </a:rPr>
              <a:t> se manifestó en las sgtes. políticas básic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olíticas industriales proteccionistas de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olítica tributaria para promover ahorro e inver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Aislamiento del mercado interno de la influ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olítica de estructura financiera (créditos preferenciales, etcét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cc"/>
                </a:solidFill>
                <a:latin typeface="Times New Roman"/>
              </a:rPr>
              <a:t>Relevante papel del MITI y su Departamento de Empresas en la creación de un entorno interno muy competitivo que “entrenase” a la empresa nacional para la competencia internacional. Por eso, puede identificarse como competencia inducida esta forma de protección estatal.</a:t>
            </a:r>
            <a:r>
              <a:rPr b="1" i="1" lang="es-MX"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5"/>
          <p:cNvSpPr/>
          <p:nvPr/>
        </p:nvSpPr>
        <p:spPr>
          <a:xfrm>
            <a:off x="304920" y="0"/>
            <a:ext cx="831852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r>
              <a:rPr b="1" lang="es-ES_tradnl" sz="4000" spc="-1" strike="noStrike">
                <a:solidFill>
                  <a:srgbClr val="0000ff"/>
                </a:solidFill>
                <a:latin typeface="Times New Roman"/>
              </a:rPr>
              <a:t>Japón, el Milagro Económico</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Text Box 6"/>
          <p:cNvSpPr/>
          <p:nvPr/>
        </p:nvSpPr>
        <p:spPr>
          <a:xfrm>
            <a:off x="3449520" y="5229360"/>
            <a:ext cx="24177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f. 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9"/>
          <p:cNvSpPr/>
          <p:nvPr/>
        </p:nvSpPr>
        <p:spPr>
          <a:xfrm>
            <a:off x="539640" y="2059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7" name="Text Box 3"/>
          <p:cNvSpPr/>
          <p:nvPr/>
        </p:nvSpPr>
        <p:spPr>
          <a:xfrm>
            <a:off x="324000" y="260280"/>
            <a:ext cx="8569080" cy="94500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Papel del Estado</a:t>
            </a:r>
            <a:r>
              <a:rPr b="1" lang="es-MX" sz="2400" spc="-1" strike="noStrike">
                <a:solidFill>
                  <a:srgbClr val="3333cc"/>
                </a:solidFill>
                <a:latin typeface="Times New Roman"/>
              </a:rPr>
              <a:t> en la creación del movimiento por la productividad y los círculos de control de la cal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El Estado creó en primera mitad 50’s el movimiento por la productividad con ayuda del Gobierno de los Estado Unido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os tres principios del movimiento eran: cooperación entre el pueblo y el Gobierno; cooperación entre empresarios y trabajadores; y distribución de los beneficios derivados del aumento de la productiv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Se creó la </a:t>
            </a:r>
            <a:r>
              <a:rPr b="1" lang="es-MX" sz="2400" spc="-1" strike="noStrike">
                <a:solidFill>
                  <a:srgbClr val="3333cc"/>
                </a:solidFill>
                <a:latin typeface="Times New Roman"/>
              </a:rPr>
              <a:t>Asociación para la Educación Industrial</a:t>
            </a:r>
            <a:r>
              <a:rPr b="1" lang="es-MX" sz="2400" spc="-1" strike="noStrike">
                <a:solidFill>
                  <a:srgbClr val="000000"/>
                </a:solidFill>
                <a:latin typeface="Times New Roman"/>
              </a:rPr>
              <a:t> (1952) con el objetivo de estrechar los vínculos entre el capital privado y las comunidades. Luego se fundó el </a:t>
            </a:r>
            <a:r>
              <a:rPr b="1" lang="es-MX" sz="2400" spc="-1" strike="noStrike">
                <a:solidFill>
                  <a:srgbClr val="3333cc"/>
                </a:solidFill>
                <a:latin typeface="Times New Roman"/>
              </a:rPr>
              <a:t>Consejo Cooperativo para la Productividad </a:t>
            </a:r>
            <a:r>
              <a:rPr b="1" lang="es-MX" sz="2400" spc="-1" strike="noStrike">
                <a:solidFill>
                  <a:srgbClr val="000000"/>
                </a:solidFill>
                <a:latin typeface="Times New Roman"/>
              </a:rPr>
              <a:t>(1954); la industria privada se lanzó en ese movimiento. Se crea el </a:t>
            </a:r>
            <a:r>
              <a:rPr b="1" lang="es-MX" sz="2400" spc="-1" strike="noStrike">
                <a:solidFill>
                  <a:srgbClr val="3333cc"/>
                </a:solidFill>
                <a:latin typeface="Times New Roman"/>
              </a:rPr>
              <a:t>Centro para la productividad de Japón</a:t>
            </a:r>
            <a:r>
              <a:rPr b="1" lang="es-MX" sz="2400" spc="-1" strike="noStrike">
                <a:solidFill>
                  <a:srgbClr val="000000"/>
                </a:solidFill>
                <a:latin typeface="Times New Roman"/>
              </a:rPr>
              <a:t> (1955) que aún es una institución fundamental. Se creó un </a:t>
            </a:r>
            <a:r>
              <a:rPr b="1" lang="es-MX" sz="2400" spc="-1" strike="noStrike">
                <a:solidFill>
                  <a:srgbClr val="3333cc"/>
                </a:solidFill>
                <a:latin typeface="Times New Roman"/>
              </a:rPr>
              <a:t>Consejo para la Productividad</a:t>
            </a:r>
            <a:r>
              <a:rPr b="1" lang="es-MX" sz="2400" spc="-1" strike="noStrike">
                <a:solidFill>
                  <a:srgbClr val="000000"/>
                </a:solidFill>
                <a:latin typeface="Times New Roman"/>
              </a:rPr>
              <a:t> que servía de enlace entre el Centro y el Gobiern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1" name="Text Box 3"/>
          <p:cNvSpPr/>
          <p:nvPr/>
        </p:nvSpPr>
        <p:spPr>
          <a:xfrm>
            <a:off x="324000" y="0"/>
            <a:ext cx="8569080" cy="9635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a:t>
            </a:r>
            <a:r>
              <a:rPr b="1" lang="es-MX" sz="2800" spc="-1" strike="noStrike">
                <a:solidFill>
                  <a:srgbClr val="3333cc"/>
                </a:solidFill>
                <a:latin typeface="Times New Roman"/>
              </a:rPr>
              <a:t>Las tres joyas” de la gerencia japonesa</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lucha del movimiento obrero obligó al capital, en alianza con el Estado a realizar cambios en las relaciones laborales y humanas en las empresas, con lo cual se generalizó el </a:t>
            </a:r>
            <a:r>
              <a:rPr b="1" lang="es-MX" sz="2400" spc="-1" strike="noStrike">
                <a:solidFill>
                  <a:srgbClr val="ff0000"/>
                </a:solidFill>
                <a:latin typeface="Times New Roman"/>
              </a:rPr>
              <a:t>salario por antigüedad, el empleo de por vida y el sindicato por empresas</a:t>
            </a:r>
            <a:r>
              <a:rPr b="1" lang="es-MX" sz="2000" spc="-1" strike="noStrike">
                <a:solidFill>
                  <a:srgbClr val="000000"/>
                </a:solidFill>
                <a:latin typeface="Times New Roman"/>
              </a:rPr>
              <a:t>, llamados “las tres joyas “de la gerencia japones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alario por antigüedad</a:t>
            </a:r>
            <a:r>
              <a:rPr b="1" lang="es-MX" sz="2000" spc="-1" strike="noStrike">
                <a:solidFill>
                  <a:srgbClr val="000000"/>
                </a:solidFill>
                <a:latin typeface="Times New Roman"/>
              </a:rPr>
              <a:t>: Los salarios de los trabajadores suben anualmente, de acuerdo con el tiempo que estos llevan en la entidad, si cumplen satisfactoriamente con los planes y las tareas asignadas cada año. Este tipo de salario llega al máximo cuando se produce la jubilación, lo cual estimula la permanencia en el centro y refuerza la estabilidad labora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Empleo de por vida o a largo plazo</a:t>
            </a:r>
            <a:r>
              <a:rPr b="1" lang="es-MX" sz="2000" spc="-1" strike="noStrike">
                <a:solidFill>
                  <a:srgbClr val="000000"/>
                </a:solidFill>
                <a:latin typeface="Times New Roman"/>
              </a:rPr>
              <a:t>: La tasa anual de traslado de trabajadores es solo de 16% y los trabajadores en general están aislados del mercado laboral exterior. Esta tendencia se encuentra estrechamente vinculada con el sistema salarial por antigüedad en el que los empleados con más tiempo en la empresa reciben más salarios. De esta forma, los trabajadores dependen más de la empresa y dan mucha importancia a que esta salga adelan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5" name="Text Box 3"/>
          <p:cNvSpPr/>
          <p:nvPr/>
        </p:nvSpPr>
        <p:spPr>
          <a:xfrm>
            <a:off x="324000" y="692280"/>
            <a:ext cx="8569080" cy="8507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demás, el empleo vitalicio significa que una empresa importante u organismo gubernamental contrata una vez al año, en la primavera, cuando los jóvenes se gradúan de secundaria, preparatoria y la universidad. Una firma grande que ocupa sólo “novatos” contrata a la vez una larga lista de empleados nuevos, aún cuando no tenga trabajo para todos ellos de inmediat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indicato por empresas</a:t>
            </a:r>
            <a:r>
              <a:rPr b="1" lang="es-MX" sz="2000" spc="-1" strike="noStrike">
                <a:solidFill>
                  <a:srgbClr val="000000"/>
                </a:solidFill>
                <a:latin typeface="Times New Roman"/>
              </a:rPr>
              <a:t>: Es la base de la estrategia para elevar la intensidad y la productividad del trabajo y competir por la ganancia extraordinari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 Japón los obreros deben tener unos veinte años de experiencia antes de poder acceder al puesto de supervisor y se les inculca que debe mantener buenas relaciones con sus subordinados después de ser nombrados. Los supervisores japoneses son veteranos en la empresa y dedican gran parte del tiempo a las relaciones humanas: juegan béisbol con los trabajadores más jóvenes los domingos, acuden a sus bodas y generalmente están bien informados de sus asuntos familiares. Su popularidad entre los operarios de menor edad ha contribuido al funcionamiento del sistem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9" name="Text Box 3"/>
          <p:cNvSpPr/>
          <p:nvPr/>
        </p:nvSpPr>
        <p:spPr>
          <a:xfrm>
            <a:off x="324000" y="0"/>
            <a:ext cx="8569080" cy="91756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La organización empresarial japonesa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organización empresarial de Japón es muy diferente a la existente en Estados Unidos y Europa, pues se caracteriza por haber alcanzado niveles superiores de eficiencia en la gestión empresarial y por generar un conjunto de prácticas estables, las cuales, a pesar de no estar teorizadas muchas de ellas, permiten sostener que se ha estructurado una Escuela Económica Empresarial propia de la experiencia nipon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cuela o modalidad de organización de la competencia empresarial y su regulación estatal se caracteriza por la forma diferente en la que se establecen los siguientes rasgos en relación con la eficiencia del capitalismo occidental: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1800" spc="-1" strike="noStrike">
                <a:solidFill>
                  <a:srgbClr val="000000"/>
                </a:solidFill>
                <a:latin typeface="Times New Roman"/>
              </a:rPr>
              <a:t>El grado de separación entre la propiedad y la gest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 El empresario y el colectivo laboral; sus formas de estimulac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3. Las formas básicas de la gerencia eficiente: el costo y la calidad.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4. La creación de la base tecnológica del sistema empresarial.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5. La doble estructura empresarial y la organización horizontal y vertical de los acuerdos monopolistas.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 La globalización de la economía mundial y la empresa “inmigrada”.</a:t>
            </a:r>
            <a:r>
              <a:rPr b="0" lang="es-MX"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3" name="Text Box 3"/>
          <p:cNvSpPr/>
          <p:nvPr/>
        </p:nvSpPr>
        <p:spPr>
          <a:xfrm>
            <a:off x="324000" y="333360"/>
            <a:ext cx="8569080" cy="94831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1. El grado de separación entre la propiedad y la gestión</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MX" sz="2000" spc="-1" strike="noStrike">
                <a:solidFill>
                  <a:srgbClr val="000000"/>
                </a:solidFill>
                <a:latin typeface="Times New Roman"/>
              </a:rPr>
              <a:t>En Japón los presidentes y los directores de las grandes empresas en general no son sus principales accionistas, sino que constituyen los llamados “directores empleados”. El eje principal de la organización empresarial japonesa radica en el alto grado de separación que existe entre la función y la propiedad, o sea, no funciona el capital individual, sino el de las personas jurídicas (firmas que ponen su capital). El administrador no lo pone el propietario, como ocurre en los países occidentales, él va a ser elegido por el colectivo (empresa) y está en función de las características que él tiene; por lo tanto, la competencia va a ser mayor entre los trabajadores, pues el empresario va a ser elegido no por su cantidad de acciones, sino por su capacidad.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tructura de dirección de empresa ofrece una ilusión a las aspiraciones de los empleados y agudiza la carrera por ocupar los primeros puestos en el escalafón. Otro factor curioso es que el 75% de las acciones pertenecen a personas jurídicas, mientras el 25% pertenecen a accionistas individuales, contrario a lo que sucede en los Estados Unidos y Europa. Todo este mecanismo el Estado lo ha sabido estimular y lo ha manejado de modo muy inteligente de forma tal que satisfaga sus interes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7" name="Text Box 3"/>
          <p:cNvSpPr/>
          <p:nvPr/>
        </p:nvSpPr>
        <p:spPr>
          <a:xfrm>
            <a:off x="324000" y="-171360"/>
            <a:ext cx="8569080" cy="10031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5. La doble estructura empresarial y la organización horizontal y vertical de los acuerdos monopolistas.</a:t>
            </a:r>
            <a:endParaRPr b="0" lang="en-US" sz="2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n Japón existe una agrupación entre empresas, interrelacionadas de manera horizontal, con el nombre de </a:t>
            </a:r>
            <a:r>
              <a:rPr b="1" lang="es-MX" sz="2400" spc="-1" strike="noStrike">
                <a:solidFill>
                  <a:srgbClr val="ff0000"/>
                </a:solidFill>
                <a:latin typeface="Times New Roman"/>
              </a:rPr>
              <a:t>zaitbatsus</a:t>
            </a:r>
            <a:r>
              <a:rPr b="1" lang="es-MX" sz="2000" spc="-1" strike="noStrike">
                <a:solidFill>
                  <a:srgbClr val="000000"/>
                </a:solidFill>
                <a:latin typeface="Times New Roman"/>
              </a:rPr>
              <a:t>. Estos son grupos de grandes firmas que operan en la economía japonesa. En el período de la guerra se dedicaron a la industria militar y fueron desmantelados por los Estados Unidos al finalizar la guerra, resurgiendo como monopolios. Los nipones cuentan actualmente con seis grandes zaitbatsus: los grupos </a:t>
            </a:r>
            <a:r>
              <a:rPr b="1" lang="es-MX" sz="2000" spc="-1" strike="noStrike">
                <a:solidFill>
                  <a:srgbClr val="3333cc"/>
                </a:solidFill>
                <a:latin typeface="Times New Roman"/>
              </a:rPr>
              <a:t>Mitsui, Mitsubishi, Sumitomo, Fuyo, Sanwa e Ichica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Cada zaitbatsu está conformado por varias firmas, una banca, casa comercializadora, casa de seguros, astilleros y el dominio de una industria determinada. Las relaciones entre los zaitbatsus se realizan de manera horizontal, pues no están sujetas a vínculos tecnológicos ni de propiedad o estructura productiva, sino más bien se limitan a acuerdos monopólicos en cuanto a precios y liderazgo en mercados y territorio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Vinculados con los zaitbatsus, pero observando una estructura vertical, se encuentran los llamados </a:t>
            </a:r>
            <a:r>
              <a:rPr b="1" lang="es-MX" sz="2400" spc="-1" strike="noStrike">
                <a:solidFill>
                  <a:srgbClr val="ff0000"/>
                </a:solidFill>
                <a:latin typeface="Times New Roman"/>
              </a:rPr>
              <a:t>keiretsus.</a:t>
            </a:r>
            <a:r>
              <a:rPr b="1" lang="es-MX" sz="2000" spc="-1" strike="noStrike">
                <a:solidFill>
                  <a:srgbClr val="000000"/>
                </a:solidFill>
                <a:latin typeface="Times New Roman"/>
              </a:rPr>
              <a:t> Su aparición se enmarca en la década de los 60, al desarrollarse grupos corporativos de pequeñas y medianas empresas subordinadas a la gran industria cuya relación venía dada por actividades de subcontratación. Las empresas subcontratistas se agruparon bajo las grandes en condiciones de subordinació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1" name="Text Box 3"/>
          <p:cNvSpPr/>
          <p:nvPr/>
        </p:nvSpPr>
        <p:spPr>
          <a:xfrm>
            <a:off x="324000" y="-171360"/>
            <a:ext cx="8569080" cy="97419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Estructura económica de Japón</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Comenzó a experimentar grandes cambios desde mediados de los años 80. La industria japonesa logró y desarrolló vigorosamente la política de ajuste estructural compuesta por las medidas siguientes:</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2400" spc="-1" strike="noStrike">
                <a:solidFill>
                  <a:srgbClr val="3333cc"/>
                </a:solidFill>
                <a:latin typeface="Times New Roman"/>
              </a:rPr>
              <a:t>La inversión en tecnologías modernas</a:t>
            </a:r>
            <a:r>
              <a:rPr b="1" lang="es-MX" sz="2000" spc="-1" strike="noStrike">
                <a:solidFill>
                  <a:srgbClr val="000000"/>
                </a:solidFill>
                <a:latin typeface="Times New Roman"/>
              </a:rPr>
              <a:t> que hacen posible la economía de combustible y el surgimiento de nuevos productos de mayor valor, reduciendo las operaciones de industrias estructuralmente estancadas, mediante el traslado del eje de las industrias pesada y química por ejemplo, la industria de automóviles, electrodomésticos e industria naviera hacia las de electrónica con productos, como: semiconductores y computadoras de alta tecnologí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a:t>
            </a:r>
            <a:r>
              <a:rPr b="1" lang="es-MX" sz="2400" spc="-1" strike="noStrike">
                <a:solidFill>
                  <a:srgbClr val="3333cc"/>
                </a:solidFill>
                <a:latin typeface="Times New Roman"/>
              </a:rPr>
              <a:t>El crecimiento económico basado en la demanda externa se traslada a la demanda interna</a:t>
            </a:r>
            <a:r>
              <a:rPr b="1" lang="es-MX" sz="2000" spc="-1" strike="noStrike">
                <a:solidFill>
                  <a:srgbClr val="000000"/>
                </a:solidFill>
                <a:latin typeface="Times New Roman"/>
              </a:rPr>
              <a:t> por el énfasis que se dio al consumo personal, la inversión pública y el aumento de las importaciones provocadas por el alza del yen y la presión de los Estados Unidos y Europ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a:t>
            </a:r>
            <a:r>
              <a:rPr b="1" lang="es-MX" sz="2400" spc="-1" strike="noStrike">
                <a:solidFill>
                  <a:srgbClr val="3333cc"/>
                </a:solidFill>
                <a:latin typeface="Times New Roman"/>
              </a:rPr>
              <a:t>La expansión de la inversión directa en el exterior</a:t>
            </a:r>
            <a:r>
              <a:rPr b="1" lang="es-MX" sz="2000" spc="-1" strike="noStrike">
                <a:solidFill>
                  <a:srgbClr val="000000"/>
                </a:solidFill>
                <a:latin typeface="Times New Roman"/>
              </a:rPr>
              <a:t>, el traslado de las bases de la producción al exterior para reducir los costos de producción y, al mismo tiempo, abastecerse de las plantas del exterior para obtener materias primas, piezas o partes prefabricadas; todo esto motivado por la acelerada apreciación del yen</a:t>
            </a:r>
            <a:r>
              <a:rPr b="0" lang="es-ES" sz="20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5" name="Text Box 3"/>
          <p:cNvSpPr/>
          <p:nvPr/>
        </p:nvSpPr>
        <p:spPr>
          <a:xfrm>
            <a:off x="324000" y="692280"/>
            <a:ext cx="8569080" cy="66762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cc"/>
                </a:solidFill>
                <a:latin typeface="Times New Roman"/>
              </a:rPr>
              <a:t>El Gran Salto Tecnológico</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s cuatro ramas tecnológicas más destacadas en Japón s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Automotriz</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Informática (Computador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Electrónic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Robótica</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Asia"/>
          <p:cNvPicPr/>
          <p:nvPr/>
        </p:nvPicPr>
        <p:blipFill>
          <a:blip r:embed="rId2"/>
          <a:stretch/>
        </p:blipFill>
        <p:spPr>
          <a:xfrm>
            <a:off x="250920" y="404640"/>
            <a:ext cx="8642160" cy="597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53" name="Text Box 3"/>
          <p:cNvSpPr/>
          <p:nvPr/>
        </p:nvSpPr>
        <p:spPr>
          <a:xfrm>
            <a:off x="324000" y="476280"/>
            <a:ext cx="8439120" cy="423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4" name="Picture 5" descr=""/>
          <p:cNvPicPr/>
          <p:nvPr/>
        </p:nvPicPr>
        <p:blipFill>
          <a:blip r:embed="rId2"/>
          <a:stretch/>
        </p:blipFill>
        <p:spPr>
          <a:xfrm>
            <a:off x="4500720" y="692280"/>
            <a:ext cx="4103640" cy="5545080"/>
          </a:xfrm>
          <a:prstGeom prst="rect">
            <a:avLst/>
          </a:prstGeom>
          <a:ln w="0">
            <a:noFill/>
          </a:ln>
        </p:spPr>
      </p:pic>
      <p:pic>
        <p:nvPicPr>
          <p:cNvPr id="55" name="Picture 7" descr="JAPON"/>
          <p:cNvPicPr/>
          <p:nvPr/>
        </p:nvPicPr>
        <p:blipFill>
          <a:blip r:embed="rId3"/>
          <a:stretch/>
        </p:blipFill>
        <p:spPr>
          <a:xfrm>
            <a:off x="684360" y="69228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gtEl>
                                        <p:attrNameLst>
                                          <p:attrName>style.visibility</p:attrName>
                                        </p:attrNameLst>
                                      </p:cBhvr>
                                      <p:to>
                                        <p:strVal val="visible"/>
                                      </p:to>
                                    </p:set>
                                    <p:animEffect filter="dissolve" transition="in">
                                      <p:cBhvr additive="repl">
                                        <p:cTn id="1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Korea-01"/>
          <p:cNvPicPr/>
          <p:nvPr/>
        </p:nvPicPr>
        <p:blipFill>
          <a:blip r:embed="rId1">
            <a:lum bright="70000" contrast="-70000"/>
          </a:blip>
          <a:stretch/>
        </p:blipFill>
        <p:spPr>
          <a:xfrm>
            <a:off x="0" y="0"/>
            <a:ext cx="9144000" cy="6858000"/>
          </a:xfrm>
          <a:prstGeom prst="rect">
            <a:avLst/>
          </a:prstGeom>
          <a:ln w="0">
            <a:noFill/>
          </a:ln>
        </p:spPr>
      </p:pic>
      <p:sp>
        <p:nvSpPr>
          <p:cNvPr id="57" name="Text Box 3"/>
          <p:cNvSpPr/>
          <p:nvPr/>
        </p:nvSpPr>
        <p:spPr>
          <a:xfrm>
            <a:off x="684360" y="-316080"/>
            <a:ext cx="8280360" cy="819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Algunos indicador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IB Estimado 2006 (USD)</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911 trill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80-199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90-200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oblación Estimada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27,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Fuerza de Trabajo Est.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66,4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Superficie (km2)</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377,873 km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Tasa de nacimientos Est. 2006</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9,37/10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Gobierno</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Monarquía Constitu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1" name="Text Box 3"/>
          <p:cNvSpPr/>
          <p:nvPr/>
        </p:nvSpPr>
        <p:spPr>
          <a:xfrm>
            <a:off x="324000" y="404640"/>
            <a:ext cx="8496000" cy="725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Un país pequeño, con el 70% de su territorio montañoso y escasos recursos naturales ha logrado un desarrollo económico envidiable, posicionándose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Segunda Potencia Económica Mund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u="sng">
                <a:solidFill>
                  <a:srgbClr val="3333cc"/>
                </a:solidFill>
                <a:uFillTx/>
                <a:latin typeface="Times New Roman"/>
              </a:rPr>
              <a:t>Después de la Guerr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n agosto de 1945 un Japón exhausto por la guerra aceptó los términos de la rendición impuesta por los aliados y, por edicto imperial, depuso las armas. Por primera y única vez, Japón fue ocupado por las tropas aliadas bajo el control de los Estados Unidos, hasta abril de 195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Text Box 5"/>
          <p:cNvSpPr/>
          <p:nvPr/>
        </p:nvSpPr>
        <p:spPr>
          <a:xfrm>
            <a:off x="304920" y="1916280"/>
            <a:ext cx="831852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5" name="Text Box 3"/>
          <p:cNvSpPr/>
          <p:nvPr/>
        </p:nvSpPr>
        <p:spPr>
          <a:xfrm>
            <a:off x="324000" y="260280"/>
            <a:ext cx="8496000" cy="739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Japón perdió el 42% de la riqueza nacio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el 44% de la capacidad industrial – energía, instalaciones, maquinaria, etcétera-.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ersonal militar desmovilizado y los civiles que regresaron, por una parte, agravaron la ruina y el hambre y, por otra parte, se unieron de inmediato a la fuerza de trabajo, cubriendo las necesidades de mano de obra para la reconstrucción económica durante la primera etapa del período de posguer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A</a:t>
            </a:r>
            <a:r>
              <a:rPr b="1" lang="es-MX" sz="2800" spc="-1" strike="noStrike">
                <a:solidFill>
                  <a:srgbClr val="000000"/>
                </a:solidFill>
                <a:latin typeface="Times New Roman"/>
              </a:rPr>
              <a:t>lgunos años después de la derrota, la economía japonesa estuvo casi totalmente paralizada, con una severa escasez de alimentos, una inflación galopante y bajo los efectos de un mercado negro generalizad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7"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9" name="Text Box 3"/>
          <p:cNvSpPr/>
          <p:nvPr/>
        </p:nvSpPr>
        <p:spPr>
          <a:xfrm>
            <a:off x="250920" y="549360"/>
            <a:ext cx="8642160" cy="6767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todos sus territorios de ultramar, mientras su población sobrepasaba los 80 millones, además de recibir cerca de 6 millones de repatriado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demanda interna descendió con la interrupción de las compras militares y el comercio exterior se hallaba restringido por las Fuerzas de Ocupación Aliad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ueblo japonés emprendió la tarea de reconstruir su país, y la ocupación norteamericana se ocupó sólo de desmilitarizar y democratizar la sociedad nipona. No asumió ni el costo de la reparación de los daños ni la elaboración de una política estratégica para la reconstrucción económ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3" name="Text Box 3"/>
          <p:cNvSpPr/>
          <p:nvPr/>
        </p:nvSpPr>
        <p:spPr>
          <a:xfrm>
            <a:off x="324000" y="333360"/>
            <a:ext cx="8496000" cy="6218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sde la reconstrucción de su economía, hasta los logros actuales, desempeña un papel fundamental la </a:t>
            </a:r>
            <a:r>
              <a:rPr b="1" lang="es-MX" sz="2800" spc="-1" strike="noStrike">
                <a:solidFill>
                  <a:srgbClr val="3333cc"/>
                </a:solidFill>
                <a:latin typeface="Times New Roman"/>
              </a:rPr>
              <a:t>regulación económica estatal</a:t>
            </a:r>
            <a:r>
              <a:rPr b="1" lang="es-MX" sz="2800" spc="-1" strike="noStrike">
                <a:solidFill>
                  <a:srgbClr val="000000"/>
                </a:solidFill>
                <a:latin typeface="Times New Roman"/>
              </a:rPr>
              <a:t> y la</a:t>
            </a:r>
            <a:r>
              <a:rPr b="1" lang="es-MX" sz="2800" spc="-1" strike="noStrike">
                <a:solidFill>
                  <a:srgbClr val="3333cc"/>
                </a:solidFill>
                <a:latin typeface="Times New Roman"/>
              </a:rPr>
              <a:t> política industrial concebida para la reconstruc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burocracia japonesa emitió en 1946 el documento </a:t>
            </a:r>
            <a:r>
              <a:rPr b="1" lang="es-MX" sz="2800" spc="-1" strike="noStrike">
                <a:solidFill>
                  <a:srgbClr val="ff0000"/>
                </a:solidFill>
                <a:latin typeface="Times New Roman"/>
              </a:rPr>
              <a:t>“Problemas básicos para la reconstrucción de la economía japonesa de posguerra”</a:t>
            </a:r>
            <a:r>
              <a:rPr b="1" lang="es-MX" sz="2800" spc="-1" strike="noStrike">
                <a:solidFill>
                  <a:srgbClr val="000000"/>
                </a:solidFill>
                <a:latin typeface="Times New Roman"/>
              </a:rPr>
              <a:t>. Aquí se planteaba que Japón debía seguir un modelo intermedio entre la planificación socialista y las instituciones capitalistas; había pasado el período de laissez faire. Ahora, en el período del </a:t>
            </a:r>
            <a:r>
              <a:rPr b="1" lang="es-MX" sz="2800" spc="-1" strike="noStrike">
                <a:solidFill>
                  <a:srgbClr val="3333cc"/>
                </a:solidFill>
                <a:latin typeface="Times New Roman"/>
              </a:rPr>
              <a:t>capitalismo de Estado</a:t>
            </a:r>
            <a:r>
              <a:rPr b="1" lang="es-MX" sz="2800" spc="-1" strike="noStrike">
                <a:solidFill>
                  <a:srgbClr val="000000"/>
                </a:solidFill>
                <a:latin typeface="Times New Roman"/>
              </a:rPr>
              <a:t>, Japón se ubicaba en la frontera de dos sistemas, </a:t>
            </a:r>
            <a:r>
              <a:rPr b="1" lang="es-MX" sz="2800" spc="-1" strike="noStrike">
                <a:solidFill>
                  <a:srgbClr val="3333cc"/>
                </a:solidFill>
                <a:latin typeface="Times New Roman"/>
              </a:rPr>
              <a:t>debía ser un intermediario político y económico entre bloques</a:t>
            </a:r>
            <a:r>
              <a:rPr b="1" lang="es-MX"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1:17Z</dcterms:modified>
  <cp:revision>336</cp:revision>
  <dc:subject/>
  <dc:title>Presentación de PowerPoint</dc:title>
</cp:coreProperties>
</file>