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3212-2774-4B00-B5EC-1E5B35870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2F8D-0265-41FB-811D-7A5623CD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A790-4B8F-4041-8DF2-E2577E4C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DEF-36AA-4CDE-9EA2-A3F3546EF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6F4-0A57-4536-ADB9-465627486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590E-E3A5-447A-BEF2-3F51C6D75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66CA-CECF-4A01-9528-A56BB847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2054-ABDC-4F05-A3A7-03475099F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BFB8-B1B8-4412-96AE-E6F0233D9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E5C9-404A-4835-BF7C-59DDCB36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F308-B35A-4182-9FC5-A05606514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1DAE-D407-41E0-8B3F-76BD5B550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624-A61A-4B8F-A9B2-A30E4426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7AD-F493-4681-B561-8CBDD4CB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D13-1614-48C1-A6D1-A4EC2C35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A9D-0228-423E-B214-C51DF47BB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5F7B-B1B3-430B-8C92-7B8963410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667-D94F-4DD6-863D-76665DAB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8F58-DCFC-4A1D-8556-23DB517E9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860-2831-4E91-B039-32E1B65A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D54-8ECD-42A7-9BEF-588D589B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4DF-4D44-4D45-B97A-9697CC7A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4386-49EC-4467-AEBA-EC00BE13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38F6-D02F-4A0B-A6C5-945D0EC7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263B-012C-4565-9D47-A6EA46957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06F-D1B2-4996-941F-7A354C0E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5B8F-7C9C-49CA-99E5-BDD8770AF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E91E-5E49-444F-9FB6-BF9C37F7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507-69EF-4294-87F1-564477E0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65E-5E2D-4F4B-9D4F-AC3B203A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637-0FF1-4393-97C8-CFB5D590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D15-30C2-4EFA-AEE2-6E8C4A27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291-9F80-487C-97F8-FE9F06E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C54-78FE-4184-9FC4-582357BB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5D8-1208-4066-B78F-6F1443D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840-E577-4CE1-A30D-BED21E2B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645-1551-48AF-8F14-F3D41651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9A3-2F7A-471F-934E-5A81201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F7E-E77B-4EF7-9E58-C7D5958D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B4F-CBE8-4441-BF8D-E8D0795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5FBA-294A-4443-9AE0-CC7B9527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inostro@dii.uchile.c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857160"/>
            <a:ext cx="92901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00000"/>
                </a:solidFill>
                <a:latin typeface="Arial"/>
              </a:rPr>
              <a:t>Creación de Valor </a:t>
            </a: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en el Sector Público. Un modelo gerencial.</a:t>
            </a:r>
            <a:br>
              <a:rPr sz="49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de Septiembre de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7280" y="6473880"/>
            <a:ext cx="987264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-249120" y="2946240"/>
            <a:ext cx="8648640" cy="2244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84320" y="3449520"/>
            <a:ext cx="898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o: Introducción a los Sistemas Púb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5"/>
          <a:stretch/>
        </p:blipFill>
        <p:spPr>
          <a:xfrm>
            <a:off x="7311960" y="28116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jinostro\AppData\Local\Microsoft\Windows\Temporary Internet Files\Content.IE5\WPKQ5ZVF\MC900289958[1].wmf"/>
          <p:cNvPicPr/>
          <p:nvPr/>
        </p:nvPicPr>
        <p:blipFill>
          <a:blip r:embed="rId6"/>
          <a:stretch/>
        </p:blipFill>
        <p:spPr>
          <a:xfrm>
            <a:off x="6907320" y="2535120"/>
            <a:ext cx="310176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Supone que los propósitos son nítidos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“administración”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(objetivos y procedimientos definidos)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que en “la gestión”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j0195812"/>
          <p:cNvPicPr/>
          <p:nvPr/>
        </p:nvPicPr>
        <p:blipFill>
          <a:blip r:embed="rId2"/>
          <a:stretch/>
        </p:blipFill>
        <p:spPr>
          <a:xfrm>
            <a:off x="8589960" y="1054080"/>
            <a:ext cx="13352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ocimiento exper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e conocen la respuestas, no requiere participació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2000" y="569520"/>
            <a:ext cx="9367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2873160"/>
            <a:ext cx="10159920" cy="59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alor agregad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produce el sector público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 proveniente de lo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beneficios percibid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iudadanos/comunida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uarios/consumidores 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descontando los cost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 que se incu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240695"/>
          <p:cNvPicPr/>
          <p:nvPr/>
        </p:nvPicPr>
        <p:blipFill>
          <a:blip r:embed="rId3"/>
          <a:stretch/>
        </p:blipFill>
        <p:spPr>
          <a:xfrm>
            <a:off x="-6480" y="-6480"/>
            <a:ext cx="16336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2880" y="56952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176400" y="2153880"/>
            <a:ext cx="1033596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Los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eneficio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pueden darse a nivel 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Productos o servici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puts): Ej .Vacun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mpactos o resultad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comes) Ej. Tasa de enfermedad específ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(Ejs. Filtración de info en Banco Central, Caso CORFO/Inverlink, Crisis sanitarias (ESB/´vaca loca’), Corrupció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omponentes de la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590920" cy="262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7600" y="857160"/>
            <a:ext cx="87519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585880"/>
            <a:ext cx="990432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cost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 también se refiere a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stos monetarios y NO monetari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 Ejs. de NO monetarios: 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rectos, Indirectos y de Oportunida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¿Qué se podría hacer alternativamente con los recursos utilizados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139840" cy="217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500200"/>
            <a:ext cx="10159920" cy="549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ambos casos - beneficios y costos - el criterio para su definición son las “preferencias públicas” generadas en procesos colectivos (Ej. ley, grupo de ciudadanos, medios de comunicació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también las “preferencias privadas” expresadas por los usuarios/clientes/beneficiarios de los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j0233018"/>
          <p:cNvPicPr/>
          <p:nvPr/>
        </p:nvPicPr>
        <p:blipFill>
          <a:blip r:embed="rId2"/>
          <a:stretch/>
        </p:blipFill>
        <p:spPr>
          <a:xfrm>
            <a:off x="-255600" y="-371520"/>
            <a:ext cx="2462400" cy="217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17" name="7 Rectángulo"/>
          <p:cNvSpPr/>
          <p:nvPr/>
        </p:nvSpPr>
        <p:spPr>
          <a:xfrm>
            <a:off x="4071960" y="3233880"/>
            <a:ext cx="4032360" cy="431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8 Rectángulo"/>
          <p:cNvSpPr/>
          <p:nvPr/>
        </p:nvSpPr>
        <p:spPr>
          <a:xfrm>
            <a:off x="2776680" y="4962600"/>
            <a:ext cx="4103640" cy="28728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30960" y="3852000"/>
            <a:ext cx="3170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-19080" y="2889360"/>
            <a:ext cx="3219480" cy="271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84320" y="3956040"/>
            <a:ext cx="2774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495600" y="2909880"/>
            <a:ext cx="2325600" cy="26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3639960" y="3862440"/>
            <a:ext cx="2019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6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153880"/>
            <a:ext cx="1015992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procesos de identificación y valoración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preferencias públicas (profundiza la democracia) y las preferencias priv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305257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3240" y="569880"/>
            <a:ext cx="871704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2763720"/>
            <a:ext cx="10159920" cy="48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estimar para el futuro y traerlo a valor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¿Cuánto vale una organización pública? =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ujo de beneficios - costos, a valor present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muchos casos los beneficios y costos, no pueden ser medidos monetariamente, pero es intrínseco a esta aproximación generar esfuerzos crecientes de cuantificación en aquellos ámbitos donde sea posible. Con el tiempo se crearán indic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j0233018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51" name="7 Rectángulo"/>
          <p:cNvSpPr/>
          <p:nvPr/>
        </p:nvSpPr>
        <p:spPr>
          <a:xfrm>
            <a:off x="326880" y="3881520"/>
            <a:ext cx="9577440" cy="10080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ánsito Paradigmátic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969840" y="2755800"/>
            <a:ext cx="2675160" cy="163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047600" y="2916360"/>
            <a:ext cx="215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567240" y="3162240"/>
            <a:ext cx="3303360" cy="13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638600" y="4595760"/>
            <a:ext cx="376236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0" name="Text Box 8"/>
          <p:cNvGrpSpPr/>
          <p:nvPr/>
        </p:nvGrpSpPr>
        <p:grpSpPr>
          <a:xfrm>
            <a:off x="4627440" y="4998960"/>
            <a:ext cx="3632400" cy="615960"/>
            <a:chOff x="4627440" y="4998960"/>
            <a:chExt cx="3632400" cy="615960"/>
          </a:xfrm>
        </p:grpSpPr>
        <p:pic>
          <p:nvPicPr>
            <p:cNvPr id="61" name="Text Box 8" descr=""/>
            <p:cNvPicPr/>
            <p:nvPr/>
          </p:nvPicPr>
          <p:blipFill>
            <a:blip r:embed="rId5"/>
            <a:stretch/>
          </p:blipFill>
          <p:spPr>
            <a:xfrm>
              <a:off x="4627440" y="4998960"/>
              <a:ext cx="36324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648320" y="5017320"/>
              <a:ext cx="3600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"/>
          <p:cNvPicPr/>
          <p:nvPr/>
        </p:nvPicPr>
        <p:blipFill>
          <a:blip r:embed="rId6"/>
          <a:stretch/>
        </p:blipFill>
        <p:spPr>
          <a:xfrm>
            <a:off x="7383600" y="35388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7600" y="1361880"/>
            <a:ext cx="871704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620440"/>
            <a:ext cx="10159920" cy="49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l concepto de VP es análogo al de Valor Privado: valor para dueños y valor para client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ro difiere de manera importante por la dificultad de la métrica. El valor público no es completamente reducible a $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j0222015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369880"/>
            <a:ext cx="1015992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r otra parte, en el caso del V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os ciudadanos (dueños) son clientes y usuarios tambié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j0233018"/>
          <p:cNvPicPr/>
          <p:nvPr/>
        </p:nvPicPr>
        <p:blipFill>
          <a:blip r:embed="rId2"/>
          <a:stretch/>
        </p:blipFill>
        <p:spPr>
          <a:xfrm>
            <a:off x="-55440" y="-317520"/>
            <a:ext cx="2189160" cy="2225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4280" y="2647800"/>
            <a:ext cx="10071360" cy="497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n el sector público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to equitativo 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s muy relevante. Es decir, la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l VP e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ás intensivo en demandar cambios en normas sociales y códigos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 de comportamiento (COPRODUCC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conducción bajo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higiene y prevención (salud públ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lactancia materna y salud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Programas contra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j0233018"/>
          <p:cNvPicPr/>
          <p:nvPr/>
        </p:nvPicPr>
        <p:blipFill>
          <a:blip r:embed="rId3"/>
          <a:stretch/>
        </p:blipFill>
        <p:spPr>
          <a:xfrm>
            <a:off x="-6480" y="-6480"/>
            <a:ext cx="1779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C:\Users\jinostro\AppData\Local\Microsoft\Windows\Temporary Internet Files\Content.IE5\WPKQ5ZVF\MC900437323[1].jpg"/>
          <p:cNvPicPr/>
          <p:nvPr/>
        </p:nvPicPr>
        <p:blipFill>
          <a:blip r:embed="rId3"/>
          <a:stretch/>
        </p:blipFill>
        <p:spPr>
          <a:xfrm>
            <a:off x="682560" y="3444840"/>
            <a:ext cx="3213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stratégica de una Organización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7458120" y="208116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55600" y="1146240"/>
            <a:ext cx="216072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6"/>
          <a:stretch/>
        </p:blipFill>
        <p:spPr>
          <a:xfrm>
            <a:off x="2104920" y="4462560"/>
            <a:ext cx="2327400" cy="2025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"/>
          <p:cNvPicPr/>
          <p:nvPr/>
        </p:nvPicPr>
        <p:blipFill>
          <a:blip r:embed="rId8"/>
          <a:stretch/>
        </p:blipFill>
        <p:spPr>
          <a:xfrm>
            <a:off x="2487600" y="22255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8040" y="1073160"/>
            <a:ext cx="9061560" cy="496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br>
              <a:rPr sz="40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El Entorno Polític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Técnicas de Gestión Polí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moción activ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rketing y Comunicación Estratég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” (en U-Cursos)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j0285360"/>
          <p:cNvPicPr/>
          <p:nvPr/>
        </p:nvPicPr>
        <p:blipFill>
          <a:blip r:embed="rId4"/>
          <a:stretch/>
        </p:blipFill>
        <p:spPr>
          <a:xfrm>
            <a:off x="8156520" y="914400"/>
            <a:ext cx="150516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7616880" y="661824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39680" y="182520"/>
            <a:ext cx="14810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84320" y="1322280"/>
            <a:ext cx="4859280" cy="59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165240" y="1316160"/>
            <a:ext cx="4870440" cy="6310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291280" y="785880"/>
            <a:ext cx="461484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6456240" y="387612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frenta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iesg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los directivos públicos conduzcan la administració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gún interese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tinto a los púb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n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énfasis en el control de procedimiento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la verticalidad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C:\Users\jinostro\AppData\Local\Microsoft\Windows\Temporary Internet Files\Content.IE5\V1Y4D0BW\MC900286922[1].wmf"/>
          <p:cNvPicPr/>
          <p:nvPr/>
        </p:nvPicPr>
        <p:blipFill>
          <a:blip r:embed="rId3"/>
          <a:stretch/>
        </p:blipFill>
        <p:spPr>
          <a:xfrm>
            <a:off x="7888320" y="6257880"/>
            <a:ext cx="19843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</cp:lastModifiedBy>
  <dcterms:modified xsi:type="dcterms:W3CDTF">2010-09-07T21:09:08Z</dcterms:modified>
  <cp:revision>6</cp:revision>
  <dc:subject/>
  <dc:title>PowerPoint Presentation</dc:title>
</cp:coreProperties>
</file>