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9.wmf" ContentType="image/x-wmf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3.png" ContentType="image/png"/>
  <Override PartName="/ppt/media/image37.wmf" ContentType="image/x-wmf"/>
  <Override PartName="/ppt/media/image9.png" ContentType="image/png"/>
  <Override PartName="/ppt/media/image39.png" ContentType="image/png"/>
  <Override PartName="/ppt/media/image41.png" ContentType="image/png"/>
  <Override PartName="/ppt/media/image38.wmf" ContentType="image/x-wmf"/>
  <Override PartName="/ppt/media/image40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8.png" ContentType="image/png"/>
  <Override PartName="/ppt/media/image3.png" ContentType="image/png"/>
  <Override PartName="/ppt/media/image33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317B6-2666-4560-8B0D-1B67B9368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DB941-9342-42D6-8007-B8699FFAAA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ngo que "limpiar" mas la presentación. Basarme mas en el Kelly y Muers, con mas ejemplos concre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84576-32A8-4971-987F-4319879CA4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7D7FF-FCBA-49E5-8C26-8014266DD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FFFBA-95C6-4F53-BBDA-2F2CDE199D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0D844-8AC7-4260-B70E-C35197B6C9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371C2-30B3-4E12-9037-AD4C037448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0739D-2274-47EC-8507-99D055B69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A3931-2960-4BEE-AFC5-A081B0FDC2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FC13C-C9E0-434D-A036-BFE8DB8CCD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20970-DE2A-44EC-A144-6E590F318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FB99D-5957-4652-9773-821AE2964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ECCD8-D477-4763-801F-6953731E3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cer link entre paradigma "privado-ingenieril" (matemático, racional, optimizador) y paradigma "burocrático" (ése es el que se "desmonta" verdad?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06092-C744-40F4-A6AC-C9DD605C22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F9EB1-4B5D-476E-9C9C-E323DF660B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D73D3-9EE6-49DF-8A41-145C87D15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0AF71-ACE6-4798-9389-9B1D8B2C8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1F461-C8B4-42B0-9ED2-40CA24187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6C1D9-C7CF-462E-9858-14A755FA8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7E89C-5856-4B6B-A63F-CB064FEAA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D0C55-4EA4-4BCD-84AE-33C0213C6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estará muy larga? creo que no se alcanza a ver todo en 1,5 h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3FE56-D98C-4032-B3CD-7020E398CE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.      En síntesis, cuál era el desafío relevante y prioritario de Ruckelshaus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.      Identifique el listado de actores, sus intereses  y sus posiciones relativas, que están en el entorno relevante de la EPA y señale cómo  determinan a las definiciones estratégicas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ii.      ¿Cuáles fueron las amenazas-restricciones y las oportunidades observadas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v.      En síntesis, explique cuál fue la estrategia y sus atributos (ventajas, desventajas) de la misma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.      ¿Qué ventajas/desventajas desde el punto de vista de los ecologistas, industriales, organización, gobierno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.      ¿Qué otra misión habría usted señalado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i.      ¿Qué hizo R. respecto a los siguiente atributos deseables (como señala el texto) de una estrategia en el sector público?)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      Sustantivamente relevante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      Viable políticamente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      Operativamente factible y suficientemente clar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46BBD-C2AB-4BEC-9A8B-D8EB9F732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ando no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17732-5B0C-4EEC-A49A-5E652F5FEC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regar el sentido de probidad / transparencia que hay detrás de esta forma de operar en el Eº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es llegar y aplicar formas privadas (este comentario es en gral. Podemos caer en la solución fáci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2FEF4-57A3-4130-9ACC-74E02527FE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56984-DAEB-4191-A557-C23F000FF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6E9D6-4350-4576-AC1F-1A89A365D0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8930D-5F50-4D05-BBB2-227394AC7F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B7CA-5037-4798-AE13-F55C83684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4ED2-065D-4BDE-B3FA-0BCBEA645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8C15-5162-4652-B41A-AD0947698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41B8-83BC-4C67-996B-6D78B1A43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A0DD-F168-48BC-9A3A-806652852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5E05-4AF5-4EB4-A8B1-A70B81354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875A-9CD3-4583-8330-F8384AAC0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D329-7F37-47C1-954F-73CF01ECF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0703-C964-48DE-A0F1-DA3724CB6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4EB2-F4FD-425C-B621-7FBD6F45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6A0C-8D24-45AF-8AB7-40D33096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BF0C-11F4-4BE6-B97F-FEB395DE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7F651-D90C-48F4-915D-466ACB6D06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mailto:jinostro@dii.uchile.cl" TargetMode="Externa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9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7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8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9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image" Target="../media/image48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42880" y="857160"/>
            <a:ext cx="9290160" cy="23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c00000"/>
                </a:solidFill>
                <a:latin typeface="Arial"/>
              </a:rPr>
              <a:t>Creación de Valor </a:t>
            </a:r>
            <a:r>
              <a:rPr b="1" lang="en-US" sz="4900" spc="-1" strike="noStrike">
                <a:solidFill>
                  <a:srgbClr val="003366"/>
                </a:solidFill>
                <a:latin typeface="Arial"/>
              </a:rPr>
              <a:t>en el Sector Público. Un modelo gerencial.</a:t>
            </a:r>
            <a:br>
              <a:rPr sz="4900"/>
            </a:b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9 de Septiembre de 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0" y="5969160"/>
            <a:ext cx="9969480" cy="14508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7280" y="6473880"/>
            <a:ext cx="9872640" cy="88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6666"/>
                </a:solidFill>
                <a:latin typeface="Arial"/>
              </a:rPr>
              <a:t>a) Moore, Mark: “Gestión Estratégica y Creación de Valor en el Sector Público”. Paidos, 1998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6666"/>
                </a:solidFill>
                <a:latin typeface="Arial"/>
              </a:rPr>
              <a:t>b) Kelly, G. y Muers, S., “Creating Public Value. An analytical framework for public service reform”, Strategy Unit, Cabinet Office UK, 200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-249120" y="2946240"/>
            <a:ext cx="8648640" cy="22449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7"/>
          <p:cNvSpPr/>
          <p:nvPr/>
        </p:nvSpPr>
        <p:spPr>
          <a:xfrm>
            <a:off x="184320" y="3449520"/>
            <a:ext cx="8983440" cy="15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urso: Introducción a los Sistemas Público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LAS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José Inostroza L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jinostro@dii.uchile.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5"/>
          <a:stretch/>
        </p:blipFill>
        <p:spPr>
          <a:xfrm>
            <a:off x="7311960" y="281160"/>
            <a:ext cx="2543400" cy="500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" descr="C:\Users\jinostro\AppData\Local\Microsoft\Windows\Temporary Internet Files\Content.IE5\WPKQ5ZVF\MC900289958[1].wmf"/>
          <p:cNvPicPr/>
          <p:nvPr/>
        </p:nvPicPr>
        <p:blipFill>
          <a:blip r:embed="rId6"/>
          <a:stretch/>
        </p:blipFill>
        <p:spPr>
          <a:xfrm>
            <a:off x="6907320" y="2535120"/>
            <a:ext cx="3101760" cy="22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90640" y="1120320"/>
            <a:ext cx="871704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MODELO TRADIC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47800" y="2569680"/>
            <a:ext cx="930888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00000"/>
                </a:solidFill>
                <a:latin typeface="Arial"/>
              </a:rPr>
              <a:t>Supone que los propósitos son nítidos </a:t>
            </a:r>
            <a:r>
              <a:rPr b="1" lang="en-US" sz="3100" spc="-1" strike="noStrike">
                <a:solidFill>
                  <a:srgbClr val="003366"/>
                </a:solidFill>
                <a:latin typeface="Arial"/>
              </a:rPr>
              <a:t>en las pautas normativas (Leyes, discursos o declaraciones de las “autoridades”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366"/>
                </a:solidFill>
                <a:latin typeface="Arial"/>
              </a:rPr>
              <a:t>Enfatiza más en la </a:t>
            </a:r>
            <a:r>
              <a:rPr b="1" lang="en-US" sz="3100" spc="-1" strike="noStrike">
                <a:solidFill>
                  <a:srgbClr val="c00000"/>
                </a:solidFill>
                <a:latin typeface="Arial"/>
              </a:rPr>
              <a:t>“administración” </a:t>
            </a:r>
            <a:r>
              <a:rPr b="1" lang="en-US" sz="3100" spc="-1" strike="noStrike">
                <a:solidFill>
                  <a:srgbClr val="003366"/>
                </a:solidFill>
                <a:latin typeface="Arial"/>
              </a:rPr>
              <a:t>(objetivos y procedimientos definidos) </a:t>
            </a:r>
            <a:r>
              <a:rPr b="1" lang="en-US" sz="3100" spc="-1" strike="noStrike">
                <a:solidFill>
                  <a:srgbClr val="c00000"/>
                </a:solidFill>
                <a:latin typeface="Arial"/>
              </a:rPr>
              <a:t>que en “la gestión”</a:t>
            </a:r>
            <a:r>
              <a:rPr b="1" lang="en-US" sz="3100" spc="-1" strike="noStrike">
                <a:solidFill>
                  <a:srgbClr val="003366"/>
                </a:solidFill>
                <a:latin typeface="Arial"/>
              </a:rPr>
              <a:t> (respuesta a objetivos declarados, procedimientos amplios)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5" descr="j0195812"/>
          <p:cNvPicPr/>
          <p:nvPr/>
        </p:nvPicPr>
        <p:blipFill>
          <a:blip r:embed="rId2"/>
          <a:stretch/>
        </p:blipFill>
        <p:spPr>
          <a:xfrm>
            <a:off x="8589960" y="1054080"/>
            <a:ext cx="1335240" cy="1371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"/>
          <p:cNvPicPr/>
          <p:nvPr/>
        </p:nvPicPr>
        <p:blipFill>
          <a:blip r:embed="rId3"/>
          <a:stretch/>
        </p:blipFill>
        <p:spPr>
          <a:xfrm>
            <a:off x="7383600" y="281160"/>
            <a:ext cx="2543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90640" y="896760"/>
            <a:ext cx="871704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MODELO TRADIC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75960" y="2742840"/>
            <a:ext cx="8458200" cy="38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 algn="just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l directivo debe cumplir sus mandatos con eficacia y eficiencia, tiende a suponer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onocimiento experto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se conocen la respuestas, no requiere participación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just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 algn="just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ás “burocracia”, menos “emprendimiento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just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 algn="just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Las fuerzas son: descendentes y hacia adentr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just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 algn="just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iende a no abrir reflexión sobre propósi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2"/>
          <a:stretch/>
        </p:blipFill>
        <p:spPr>
          <a:xfrm>
            <a:off x="7383600" y="281160"/>
            <a:ext cx="2543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92000" y="569520"/>
            <a:ext cx="9367920" cy="13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0" y="2873160"/>
            <a:ext cx="10159920" cy="599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Valor agregado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que produce el sector público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) proveniente de los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“beneficios percibidos”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iudadanos/comunidad 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usuarios/consumidores /client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b)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“descontando los costos”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n los que se incur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 “Valor Present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2"/>
          <a:stretch/>
        </p:blipFill>
        <p:spPr>
          <a:xfrm>
            <a:off x="7383600" y="281160"/>
            <a:ext cx="2543040" cy="5000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j0240695"/>
          <p:cNvPicPr/>
          <p:nvPr/>
        </p:nvPicPr>
        <p:blipFill>
          <a:blip r:embed="rId3"/>
          <a:stretch/>
        </p:blipFill>
        <p:spPr>
          <a:xfrm>
            <a:off x="-6480" y="-6480"/>
            <a:ext cx="163368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2880" y="569520"/>
            <a:ext cx="905508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-176400" y="2153880"/>
            <a:ext cx="10335960" cy="546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Los </a:t>
            </a: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beneficios</a:t>
            </a: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 pueden darse a nivel d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Productos o servicios </a:t>
            </a: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(outputs): Ej .Vacun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Impactos o resultados </a:t>
            </a: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(outcomes) Ej. Tasa de enfermedad específic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Confianza</a:t>
            </a: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: (Ejs. Filtración de info en Banco Central, Caso CORFO/Inverlink, Crisis sanitarias (ESB/´vaca loca’), Corrupción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Componentes de la </a:t>
            </a: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Confianza</a:t>
            </a: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Percepción de eficacia/desempeño (aunque causalidad es compleja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Percepción de integridad, étic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Percepción de transparencia/sinceridad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4" descr="j0233018"/>
          <p:cNvPicPr/>
          <p:nvPr/>
        </p:nvPicPr>
        <p:blipFill>
          <a:blip r:embed="rId2"/>
          <a:stretch/>
        </p:blipFill>
        <p:spPr>
          <a:xfrm>
            <a:off x="-255600" y="-517680"/>
            <a:ext cx="2590920" cy="2627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"/>
          <p:cNvPicPr/>
          <p:nvPr/>
        </p:nvPicPr>
        <p:blipFill>
          <a:blip r:embed="rId3"/>
          <a:stretch/>
        </p:blipFill>
        <p:spPr>
          <a:xfrm>
            <a:off x="7383600" y="281160"/>
            <a:ext cx="2543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07600" y="857160"/>
            <a:ext cx="87519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0" y="2585880"/>
            <a:ext cx="9904320" cy="55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n los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 costos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, también se refiere a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ostos monetarios y NO monetarios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. Ejs. de NO monetarios: pérdida de confianza, pérdida de libertad, medidas coercitivas, perdida de intim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Directos, Indirectos y de Oportunidad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(¿Qué se podría hacer alternativamente con los recursos utilizados?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0">
              <a:lnSpc>
                <a:spcPct val="95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4" descr="j0233018"/>
          <p:cNvPicPr/>
          <p:nvPr/>
        </p:nvPicPr>
        <p:blipFill>
          <a:blip r:embed="rId2"/>
          <a:stretch/>
        </p:blipFill>
        <p:spPr>
          <a:xfrm>
            <a:off x="-255600" y="-517680"/>
            <a:ext cx="2139840" cy="2175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3"/>
          <a:stretch/>
        </p:blipFill>
        <p:spPr>
          <a:xfrm>
            <a:off x="7383600" y="281160"/>
            <a:ext cx="2543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90640" y="896760"/>
            <a:ext cx="871704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0" y="2500200"/>
            <a:ext cx="10159920" cy="549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n ambos casos - beneficios y costos - el criterio para su definición son las “preferencias públicas” generadas en procesos colectivos (Ej. ley, grupo de ciudadanos, medios de comunicación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y también las “preferencias privadas” expresadas por los usuarios/clientes/beneficiarios de los servicios públ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4" descr="j0233018"/>
          <p:cNvPicPr/>
          <p:nvPr/>
        </p:nvPicPr>
        <p:blipFill>
          <a:blip r:embed="rId2"/>
          <a:stretch/>
        </p:blipFill>
        <p:spPr>
          <a:xfrm>
            <a:off x="-255600" y="-371520"/>
            <a:ext cx="2462400" cy="2170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3"/>
          <a:stretch/>
        </p:blipFill>
        <p:spPr>
          <a:xfrm>
            <a:off x="7383600" y="281160"/>
            <a:ext cx="2543040" cy="500040"/>
          </a:xfrm>
          <a:prstGeom prst="rect">
            <a:avLst/>
          </a:prstGeom>
          <a:ln w="0">
            <a:noFill/>
          </a:ln>
        </p:spPr>
      </p:pic>
      <p:sp>
        <p:nvSpPr>
          <p:cNvPr id="117" name="7 Rectángulo"/>
          <p:cNvSpPr/>
          <p:nvPr/>
        </p:nvSpPr>
        <p:spPr>
          <a:xfrm>
            <a:off x="4071960" y="3233880"/>
            <a:ext cx="4032360" cy="431640"/>
          </a:xfrm>
          <a:prstGeom prst="rect">
            <a:avLst/>
          </a:prstGeom>
          <a:noFill/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8 Rectángulo"/>
          <p:cNvSpPr/>
          <p:nvPr/>
        </p:nvSpPr>
        <p:spPr>
          <a:xfrm>
            <a:off x="2776680" y="4962600"/>
            <a:ext cx="4103640" cy="287280"/>
          </a:xfrm>
          <a:prstGeom prst="rect">
            <a:avLst/>
          </a:prstGeom>
          <a:noFill/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90640" y="896760"/>
            <a:ext cx="871704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ORIGEN DE LAS PREFERENCI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6243480" y="3111480"/>
            <a:ext cx="3430800" cy="19162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6330960" y="3852000"/>
            <a:ext cx="31701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Valor Públ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-19080" y="2889360"/>
            <a:ext cx="3219480" cy="27194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7"/>
          <p:cNvSpPr/>
          <p:nvPr/>
        </p:nvSpPr>
        <p:spPr>
          <a:xfrm>
            <a:off x="184320" y="3956040"/>
            <a:ext cx="27748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lientes/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3495600" y="2909880"/>
            <a:ext cx="2325600" cy="26892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9"/>
          <p:cNvSpPr/>
          <p:nvPr/>
        </p:nvSpPr>
        <p:spPr>
          <a:xfrm>
            <a:off x="3639960" y="3862440"/>
            <a:ext cx="201960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munid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and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802480" y="3860640"/>
            <a:ext cx="311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3176640" y="3774960"/>
            <a:ext cx="5047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12" descr=""/>
          <p:cNvPicPr/>
          <p:nvPr/>
        </p:nvPicPr>
        <p:blipFill>
          <a:blip r:embed="rId5"/>
          <a:stretch/>
        </p:blipFill>
        <p:spPr>
          <a:xfrm>
            <a:off x="1628640" y="5715000"/>
            <a:ext cx="7220160" cy="900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"/>
          <p:cNvPicPr/>
          <p:nvPr/>
        </p:nvPicPr>
        <p:blipFill>
          <a:blip r:embed="rId6"/>
          <a:stretch/>
        </p:blipFill>
        <p:spPr>
          <a:xfrm>
            <a:off x="7383600" y="281160"/>
            <a:ext cx="2543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52240" y="50400"/>
            <a:ext cx="905508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0" y="2153880"/>
            <a:ext cx="10159920" cy="546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uerte componente subjetivo (preferencia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Valor final NO se define en gabinete, sino por ciudadanos/usuarios/client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ayores esfuerzos en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“procesos de identificación y valoración”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 preferencias públicas (profundiza la democracia) y las preferencias privad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focus group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onsejos consultivo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páginas web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omunicación con las autoridades políticas y representantes de las comunidad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encuestas de satisfacción de usuarios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4" descr="j0305257"/>
          <p:cNvPicPr/>
          <p:nvPr/>
        </p:nvPicPr>
        <p:blipFill>
          <a:blip r:embed="rId2"/>
          <a:stretch/>
        </p:blipFill>
        <p:spPr>
          <a:xfrm>
            <a:off x="399960" y="209520"/>
            <a:ext cx="1138320" cy="18288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"/>
          <p:cNvPicPr/>
          <p:nvPr/>
        </p:nvPicPr>
        <p:blipFill>
          <a:blip r:embed="rId3"/>
          <a:stretch/>
        </p:blipFill>
        <p:spPr>
          <a:xfrm>
            <a:off x="7383600" y="281160"/>
            <a:ext cx="2543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3240" y="569880"/>
            <a:ext cx="8717040" cy="9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ÁMBITOS BÁSICOS DONDE MEDI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2"/>
          <a:stretch/>
        </p:blipFill>
        <p:spPr>
          <a:xfrm>
            <a:off x="4032360" y="5450040"/>
            <a:ext cx="3111480" cy="20016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4140360" y="6266160"/>
            <a:ext cx="2806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VALOR PÚBL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3"/>
          <a:stretch/>
        </p:blipFill>
        <p:spPr>
          <a:xfrm>
            <a:off x="231840" y="1725480"/>
            <a:ext cx="3346560" cy="244476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7"/>
          <p:cNvSpPr/>
          <p:nvPr/>
        </p:nvSpPr>
        <p:spPr>
          <a:xfrm>
            <a:off x="314280" y="2800080"/>
            <a:ext cx="3097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PRODUCTOS/SERVI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8" descr=""/>
          <p:cNvPicPr/>
          <p:nvPr/>
        </p:nvPicPr>
        <p:blipFill>
          <a:blip r:embed="rId4"/>
          <a:stretch/>
        </p:blipFill>
        <p:spPr>
          <a:xfrm>
            <a:off x="3639960" y="1722600"/>
            <a:ext cx="3345120" cy="244476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9"/>
          <p:cNvSpPr/>
          <p:nvPr/>
        </p:nvSpPr>
        <p:spPr>
          <a:xfrm>
            <a:off x="3780000" y="2801520"/>
            <a:ext cx="310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IMPA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0" descr=""/>
          <p:cNvPicPr/>
          <p:nvPr/>
        </p:nvPicPr>
        <p:blipFill>
          <a:blip r:embed="rId5"/>
          <a:stretch/>
        </p:blipFill>
        <p:spPr>
          <a:xfrm>
            <a:off x="7175520" y="1587600"/>
            <a:ext cx="2889360" cy="253044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7256520" y="1674360"/>
            <a:ext cx="2643120" cy="22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ONFIAN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11" descr=""/>
          <p:cNvPicPr/>
          <p:nvPr/>
        </p:nvPicPr>
        <p:blipFill>
          <a:blip r:embed="rId6"/>
          <a:stretch/>
        </p:blipFill>
        <p:spPr>
          <a:xfrm>
            <a:off x="2413080" y="4168800"/>
            <a:ext cx="1650960" cy="11653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2" descr=""/>
          <p:cNvPicPr/>
          <p:nvPr/>
        </p:nvPicPr>
        <p:blipFill>
          <a:blip r:embed="rId7"/>
          <a:stretch/>
        </p:blipFill>
        <p:spPr>
          <a:xfrm>
            <a:off x="5375160" y="4222800"/>
            <a:ext cx="266760" cy="12175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3" descr=""/>
          <p:cNvPicPr/>
          <p:nvPr/>
        </p:nvPicPr>
        <p:blipFill>
          <a:blip r:embed="rId8"/>
          <a:stretch/>
        </p:blipFill>
        <p:spPr>
          <a:xfrm>
            <a:off x="7112160" y="3946680"/>
            <a:ext cx="815760" cy="13032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"/>
          <p:cNvPicPr/>
          <p:nvPr/>
        </p:nvPicPr>
        <p:blipFill>
          <a:blip r:embed="rId9"/>
          <a:stretch/>
        </p:blipFill>
        <p:spPr>
          <a:xfrm>
            <a:off x="7383600" y="281160"/>
            <a:ext cx="2543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90640" y="896760"/>
            <a:ext cx="871704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ALOR PRIVADO VS PÚBL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0" y="2763720"/>
            <a:ext cx="10159920" cy="485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nálogamente a como ocurre en el sector privado se podría estimar para el futuro y traerlo a valor present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¿Cuánto vale una organización pública? =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lujo de beneficios - costos, a valor presente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n muchos casos los beneficios y costos, no pueden ser medidos monetariamente, pero es intrínseco a esta aproximación generar esfuerzos crecientes de cuantificación en aquellos ámbitos donde sea posible. Con el tiempo se crearán indicado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4" descr="j0233018"/>
          <p:cNvPicPr/>
          <p:nvPr/>
        </p:nvPicPr>
        <p:blipFill>
          <a:blip r:embed="rId2"/>
          <a:stretch/>
        </p:blipFill>
        <p:spPr>
          <a:xfrm>
            <a:off x="-249120" y="-511200"/>
            <a:ext cx="2574720" cy="26146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"/>
          <p:cNvPicPr/>
          <p:nvPr/>
        </p:nvPicPr>
        <p:blipFill>
          <a:blip r:embed="rId3"/>
          <a:stretch/>
        </p:blipFill>
        <p:spPr>
          <a:xfrm>
            <a:off x="7383600" y="281160"/>
            <a:ext cx="2543040" cy="500040"/>
          </a:xfrm>
          <a:prstGeom prst="rect">
            <a:avLst/>
          </a:prstGeom>
          <a:ln w="0">
            <a:noFill/>
          </a:ln>
        </p:spPr>
      </p:pic>
      <p:sp>
        <p:nvSpPr>
          <p:cNvPr id="151" name="7 Rectángulo"/>
          <p:cNvSpPr/>
          <p:nvPr/>
        </p:nvSpPr>
        <p:spPr>
          <a:xfrm>
            <a:off x="326880" y="3881520"/>
            <a:ext cx="9577440" cy="1008000"/>
          </a:xfrm>
          <a:prstGeom prst="rect">
            <a:avLst/>
          </a:prstGeom>
          <a:noFill/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90640" y="896760"/>
            <a:ext cx="871704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Tránsito Paradigmático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2"/>
          <a:stretch/>
        </p:blipFill>
        <p:spPr>
          <a:xfrm>
            <a:off x="969840" y="2755800"/>
            <a:ext cx="2675160" cy="16336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1047600" y="2916360"/>
            <a:ext cx="215604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Bucrocrá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3"/>
          <a:stretch/>
        </p:blipFill>
        <p:spPr>
          <a:xfrm>
            <a:off x="3567240" y="3162240"/>
            <a:ext cx="3303360" cy="1332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9" name="Picture 7" descr=""/>
          <p:cNvPicPr/>
          <p:nvPr/>
        </p:nvPicPr>
        <p:blipFill>
          <a:blip r:embed="rId4"/>
          <a:stretch/>
        </p:blipFill>
        <p:spPr>
          <a:xfrm>
            <a:off x="4638600" y="4595760"/>
            <a:ext cx="3762360" cy="1519200"/>
          </a:xfrm>
          <a:prstGeom prst="rect">
            <a:avLst/>
          </a:prstGeom>
          <a:ln w="0">
            <a:noFill/>
          </a:ln>
        </p:spPr>
      </p:pic>
      <p:grpSp>
        <p:nvGrpSpPr>
          <p:cNvPr id="60" name="Text Box 8"/>
          <p:cNvGrpSpPr/>
          <p:nvPr/>
        </p:nvGrpSpPr>
        <p:grpSpPr>
          <a:xfrm>
            <a:off x="4627440" y="4998960"/>
            <a:ext cx="3632400" cy="615960"/>
            <a:chOff x="4627440" y="4998960"/>
            <a:chExt cx="3632400" cy="615960"/>
          </a:xfrm>
        </p:grpSpPr>
        <p:pic>
          <p:nvPicPr>
            <p:cNvPr id="61" name="Text Box 8" descr=""/>
            <p:cNvPicPr/>
            <p:nvPr/>
          </p:nvPicPr>
          <p:blipFill>
            <a:blip r:embed="rId5"/>
            <a:stretch/>
          </p:blipFill>
          <p:spPr>
            <a:xfrm>
              <a:off x="4627440" y="4998960"/>
              <a:ext cx="363240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4648320" y="5017320"/>
              <a:ext cx="36003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Arial"/>
                </a:rPr>
                <a:t>Nuevo Enfoque, Nuevo Rol: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</a:rPr>
                <a:t>Creación de Valor Públi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" name="Picture 4" descr=""/>
          <p:cNvPicPr/>
          <p:nvPr/>
        </p:nvPicPr>
        <p:blipFill>
          <a:blip r:embed="rId6"/>
          <a:stretch/>
        </p:blipFill>
        <p:spPr>
          <a:xfrm>
            <a:off x="7383600" y="353880"/>
            <a:ext cx="2543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7600" y="1361880"/>
            <a:ext cx="871704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0" y="2620440"/>
            <a:ext cx="10159920" cy="499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El concepto de VP es análogo al de Valor Privado: valor para dueños y valor para cliente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Pero difiere de manera importante por la dificultad de la métrica. El valor público no es completamente reducible a $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4" descr="j0222015"/>
          <p:cNvPicPr/>
          <p:nvPr/>
        </p:nvPicPr>
        <p:blipFill>
          <a:blip r:embed="rId2"/>
          <a:stretch/>
        </p:blipFill>
        <p:spPr>
          <a:xfrm>
            <a:off x="0" y="0"/>
            <a:ext cx="1779480" cy="17874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"/>
          <p:cNvPicPr/>
          <p:nvPr/>
        </p:nvPicPr>
        <p:blipFill>
          <a:blip r:embed="rId3"/>
          <a:stretch/>
        </p:blipFill>
        <p:spPr>
          <a:xfrm>
            <a:off x="7383600" y="281160"/>
            <a:ext cx="2543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90640" y="1353960"/>
            <a:ext cx="8717040" cy="5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0" y="2369880"/>
            <a:ext cx="10159920" cy="483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Por otra parte, en el caso del VP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los ciudadanos (dueños) son clientes y usuarios tambié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ambién son proveedores y empleados (ej. Funcionarios de salud y educación)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La comunidad de dueños también considera a las generaciones futur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4" descr="j0233018"/>
          <p:cNvPicPr/>
          <p:nvPr/>
        </p:nvPicPr>
        <p:blipFill>
          <a:blip r:embed="rId2"/>
          <a:stretch/>
        </p:blipFill>
        <p:spPr>
          <a:xfrm>
            <a:off x="-55440" y="-317520"/>
            <a:ext cx="2189160" cy="22255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"/>
          <p:cNvPicPr/>
          <p:nvPr/>
        </p:nvPicPr>
        <p:blipFill>
          <a:blip r:embed="rId3"/>
          <a:stretch/>
        </p:blipFill>
        <p:spPr>
          <a:xfrm>
            <a:off x="7383600" y="281160"/>
            <a:ext cx="2543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90640" y="1182600"/>
            <a:ext cx="871704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4280" y="2647800"/>
            <a:ext cx="10071360" cy="497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91966"/>
                </a:solidFill>
                <a:latin typeface="Arial"/>
              </a:rPr>
              <a:t>En el sector público el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trato equitativo </a:t>
            </a:r>
            <a:r>
              <a:rPr b="1" lang="en-US" sz="2800" spc="-1" strike="noStrike">
                <a:solidFill>
                  <a:srgbClr val="191966"/>
                </a:solidFill>
                <a:latin typeface="Arial"/>
              </a:rPr>
              <a:t>es muy relevante. Es decir, la valoración de los usuarios depende también del trato a ot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91966"/>
                </a:solidFill>
                <a:latin typeface="Arial"/>
              </a:rPr>
              <a:t>El VP es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más intensivo en demandar cambios en normas sociales y códigos</a:t>
            </a:r>
            <a:r>
              <a:rPr b="1" lang="en-US" sz="2800" spc="-1" strike="noStrike">
                <a:solidFill>
                  <a:srgbClr val="191966"/>
                </a:solidFill>
                <a:latin typeface="Arial"/>
              </a:rPr>
              <a:t> de comportamiento (COPRODUCCION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91966"/>
                </a:solidFill>
                <a:latin typeface="Arial"/>
              </a:rPr>
              <a:t>conducción bajo 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91966"/>
                </a:solidFill>
                <a:latin typeface="Arial"/>
              </a:rPr>
              <a:t>higiene y prevención (salud públi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91966"/>
                </a:solidFill>
                <a:latin typeface="Arial"/>
              </a:rPr>
              <a:t>lactancia materna y salud infant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91966"/>
                </a:solidFill>
                <a:latin typeface="Arial"/>
              </a:rPr>
              <a:t>Programas contra la pobre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2"/>
          <a:stretch/>
        </p:blipFill>
        <p:spPr>
          <a:xfrm>
            <a:off x="7383600" y="281160"/>
            <a:ext cx="2543040" cy="5000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j0233018"/>
          <p:cNvPicPr/>
          <p:nvPr/>
        </p:nvPicPr>
        <p:blipFill>
          <a:blip r:embed="rId3"/>
          <a:stretch/>
        </p:blipFill>
        <p:spPr>
          <a:xfrm>
            <a:off x="-6480" y="-6480"/>
            <a:ext cx="17798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06040" y="1150920"/>
            <a:ext cx="9055080" cy="20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La Estrategia Organizativa en el Sector Públic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5237280" y="3303720"/>
            <a:ext cx="43704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99"/>
                </a:solidFill>
                <a:latin typeface="Arial"/>
              </a:rPr>
              <a:t>Enfoque ESTRATEGICO de Creación de Valor Públic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2"/>
          <a:stretch/>
        </p:blipFill>
        <p:spPr>
          <a:xfrm>
            <a:off x="7383600" y="281160"/>
            <a:ext cx="2543040" cy="5000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0" descr="C:\Users\jinostro\AppData\Local\Microsoft\Windows\Temporary Internet Files\Content.IE5\WPKQ5ZVF\MC900437323[1].jpg"/>
          <p:cNvPicPr/>
          <p:nvPr/>
        </p:nvPicPr>
        <p:blipFill>
          <a:blip r:embed="rId3"/>
          <a:stretch/>
        </p:blipFill>
        <p:spPr>
          <a:xfrm>
            <a:off x="682560" y="3444840"/>
            <a:ext cx="321300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763800" y="420840"/>
            <a:ext cx="9288720" cy="13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Modelo Analítico Básico (Mark Moore)</a:t>
            </a:r>
            <a:br>
              <a:rPr sz="2400"/>
            </a:b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Diagnóstico de la Posición </a:t>
            </a:r>
            <a:br>
              <a:rPr sz="2400"/>
            </a:b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Estratégica de una Organización</a:t>
            </a:r>
            <a:r>
              <a:rPr b="1" lang="en-US" sz="2200" spc="-1" strike="noStrike">
                <a:solidFill>
                  <a:srgbClr val="006666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2"/>
          <a:stretch/>
        </p:blipFill>
        <p:spPr>
          <a:xfrm>
            <a:off x="1936800" y="3386160"/>
            <a:ext cx="3016080" cy="2583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025720" y="4378680"/>
            <a:ext cx="284004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3"/>
          <a:stretch/>
        </p:blipFill>
        <p:spPr>
          <a:xfrm>
            <a:off x="7164360" y="2084400"/>
            <a:ext cx="2806560" cy="133524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7"/>
          <p:cNvSpPr/>
          <p:nvPr/>
        </p:nvSpPr>
        <p:spPr>
          <a:xfrm>
            <a:off x="7458120" y="2081160"/>
            <a:ext cx="270180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1. Propósito/Va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Vi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Val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i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8" descr=""/>
          <p:cNvPicPr/>
          <p:nvPr/>
        </p:nvPicPr>
        <p:blipFill>
          <a:blip r:embed="rId4"/>
          <a:stretch/>
        </p:blipFill>
        <p:spPr>
          <a:xfrm>
            <a:off x="190440" y="1481040"/>
            <a:ext cx="2360520" cy="21495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9"/>
          <p:cNvSpPr/>
          <p:nvPr/>
        </p:nvSpPr>
        <p:spPr>
          <a:xfrm>
            <a:off x="255600" y="1146240"/>
            <a:ext cx="2160720" cy="222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2. Entorn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Clien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E. Polít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Supervis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E. Económ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Tecnologí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7396200" y="4371840"/>
            <a:ext cx="2552760" cy="31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3. Capac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struc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rocesos Sustantivos y de Apoy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Sistemas de evaluación y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RRH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Finanz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11" descr=""/>
          <p:cNvPicPr/>
          <p:nvPr/>
        </p:nvPicPr>
        <p:blipFill>
          <a:blip r:embed="rId5"/>
          <a:stretch/>
        </p:blipFill>
        <p:spPr>
          <a:xfrm>
            <a:off x="920880" y="6529320"/>
            <a:ext cx="4181400" cy="44604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2"/>
          <p:cNvSpPr/>
          <p:nvPr/>
        </p:nvSpPr>
        <p:spPr>
          <a:xfrm>
            <a:off x="985680" y="6599160"/>
            <a:ext cx="4056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aximizar Valor Público que c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13" descr=""/>
          <p:cNvPicPr/>
          <p:nvPr/>
        </p:nvPicPr>
        <p:blipFill>
          <a:blip r:embed="rId6"/>
          <a:stretch/>
        </p:blipFill>
        <p:spPr>
          <a:xfrm>
            <a:off x="2104920" y="4462560"/>
            <a:ext cx="2327400" cy="2025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4" descr=""/>
          <p:cNvPicPr/>
          <p:nvPr/>
        </p:nvPicPr>
        <p:blipFill>
          <a:blip r:embed="rId7"/>
          <a:stretch/>
        </p:blipFill>
        <p:spPr>
          <a:xfrm>
            <a:off x="3174840" y="2635200"/>
            <a:ext cx="3090960" cy="247644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15"/>
          <p:cNvSpPr/>
          <p:nvPr/>
        </p:nvSpPr>
        <p:spPr>
          <a:xfrm>
            <a:off x="4645080" y="3139920"/>
            <a:ext cx="257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16" descr=""/>
          <p:cNvPicPr/>
          <p:nvPr/>
        </p:nvPicPr>
        <p:blipFill>
          <a:blip r:embed="rId8"/>
          <a:stretch/>
        </p:blipFill>
        <p:spPr>
          <a:xfrm>
            <a:off x="2487600" y="2225520"/>
            <a:ext cx="4753080" cy="366408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17"/>
          <p:cNvSpPr/>
          <p:nvPr/>
        </p:nvSpPr>
        <p:spPr>
          <a:xfrm>
            <a:off x="5981760" y="4762440"/>
            <a:ext cx="257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9"/>
          <a:stretch/>
        </p:blipFill>
        <p:spPr>
          <a:xfrm>
            <a:off x="7383600" y="281160"/>
            <a:ext cx="2543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98040" y="1073160"/>
            <a:ext cx="9061560" cy="4968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Del análisis anterior, la estrategia de la organización debe ser esencialmente, según Moore…</a:t>
            </a:r>
            <a:br>
              <a:rPr sz="4000"/>
            </a:br>
            <a:br>
              <a:rPr sz="4000"/>
            </a:br>
            <a:r>
              <a:rPr b="1" i="1" lang="en-US" sz="3300" spc="-1" strike="noStrike">
                <a:solidFill>
                  <a:srgbClr val="660033"/>
                </a:solidFill>
                <a:latin typeface="Arial"/>
              </a:rPr>
              <a:t>(A) Sustantivamente valiosa</a:t>
            </a:r>
            <a:br>
              <a:rPr sz="3300"/>
            </a:br>
            <a:r>
              <a:rPr b="1" i="1" lang="en-US" sz="3300" spc="-1" strike="noStrike">
                <a:solidFill>
                  <a:srgbClr val="660033"/>
                </a:solidFill>
                <a:latin typeface="Arial"/>
              </a:rPr>
              <a:t>(B) Políticamente Sustentable</a:t>
            </a:r>
            <a:br>
              <a:rPr sz="3300"/>
            </a:br>
            <a:r>
              <a:rPr b="1" i="1" lang="en-US" sz="3300" spc="-1" strike="noStrike">
                <a:solidFill>
                  <a:srgbClr val="660033"/>
                </a:solidFill>
                <a:latin typeface="Arial"/>
              </a:rPr>
              <a:t>(C) Técnicamente Factibl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2"/>
          <a:stretch/>
        </p:blipFill>
        <p:spPr>
          <a:xfrm>
            <a:off x="7383600" y="281160"/>
            <a:ext cx="2543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06040" y="1374840"/>
            <a:ext cx="905508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366"/>
                </a:solidFill>
                <a:latin typeface="Arial"/>
              </a:rPr>
              <a:t>El Entorno Político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2"/>
          <a:stretch/>
        </p:blipFill>
        <p:spPr>
          <a:xfrm>
            <a:off x="7383600" y="281160"/>
            <a:ext cx="2543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90640" y="896760"/>
            <a:ext cx="871704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Técnicas de Gestión Polític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975960" y="2674800"/>
            <a:ext cx="84582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Promoción activa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Gestión del Desarrollo de la polít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Negociació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Deliberación pública, aprendizaje social y liderazg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Marketing y Comunicación Estratégic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2"/>
          <a:stretch/>
        </p:blipFill>
        <p:spPr>
          <a:xfrm>
            <a:off x="7383600" y="281160"/>
            <a:ext cx="2543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0" y="127080"/>
            <a:ext cx="10159920" cy="15984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" y="178920"/>
            <a:ext cx="10071360" cy="14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so : “William Ruckelshaus y la Agencia de Protección Ambiental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” (en U-Cursos)</a:t>
            </a:r>
            <a:br>
              <a:rPr sz="3600"/>
            </a:br>
            <a:r>
              <a:rPr b="1" lang="en-US" sz="2200" spc="-1" strike="noStrike">
                <a:solidFill>
                  <a:srgbClr val="006666"/>
                </a:solidFill>
                <a:latin typeface="Arial"/>
              </a:rPr>
              <a:t>( Moore, 1998; p 108 y s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3"/>
          <a:stretch/>
        </p:blipFill>
        <p:spPr>
          <a:xfrm>
            <a:off x="0" y="1882800"/>
            <a:ext cx="10159920" cy="57387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-360" y="1990440"/>
            <a:ext cx="9975960" cy="52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366"/>
                </a:solidFill>
                <a:latin typeface="Arial"/>
              </a:rPr>
              <a:t>Discusión del caso: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100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¿Cuáles son los antecedentes básicos? (actores/intereses/tendenci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100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100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¿Cuál es el valor público asociado a la agencia de la EPA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100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100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¿Cuáles son las motivaciones del gobiern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100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100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¿Cuáles son los “desafíos clave” de Ruckleshaus? ¿Cuáles son los “ámbitos donde debe gestionar” R.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100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100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¿Cuáles son las estratégicas que adopta? ¿Qué características/ventajas tien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100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100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¿Agrega Valor Público la gestión de R., cóm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6" descr="j0285360"/>
          <p:cNvPicPr/>
          <p:nvPr/>
        </p:nvPicPr>
        <p:blipFill>
          <a:blip r:embed="rId4"/>
          <a:stretch/>
        </p:blipFill>
        <p:spPr>
          <a:xfrm>
            <a:off x="8156520" y="914400"/>
            <a:ext cx="1505160" cy="1847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5"/>
          <a:stretch/>
        </p:blipFill>
        <p:spPr>
          <a:xfrm>
            <a:off x="7616880" y="6618240"/>
            <a:ext cx="2543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75960" y="2674800"/>
            <a:ext cx="84582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003366"/>
                </a:solidFill>
                <a:latin typeface="Arial"/>
              </a:rPr>
              <a:t>¿Cuál es el principal supuesto de la doctrina tradicional de las funciones del sector público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2"/>
          <a:stretch/>
        </p:blipFill>
        <p:spPr>
          <a:xfrm>
            <a:off x="7383600" y="281160"/>
            <a:ext cx="2543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75960" y="2674800"/>
            <a:ext cx="84582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366"/>
                </a:solidFill>
                <a:latin typeface="Arial"/>
              </a:rPr>
              <a:t>¿Cuál es el principal supuesto de la doctrina tradicional de las funciones del sector público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2"/>
          <a:stretch/>
        </p:blipFill>
        <p:spPr>
          <a:xfrm>
            <a:off x="0" y="3354480"/>
            <a:ext cx="10159920" cy="42656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49320" y="4344840"/>
            <a:ext cx="10061640" cy="26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Arial"/>
              </a:rPr>
              <a:t>(1)El funcionario debe hacer lo que está mandatado expresamente por las normas, y esto es siempre muy clar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Arial"/>
              </a:rPr>
              <a:t>(2) La misión es ser fiel al mandato formal y producirlo eficientement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3"/>
          <a:stretch/>
        </p:blipFill>
        <p:spPr>
          <a:xfrm>
            <a:off x="7383600" y="281160"/>
            <a:ext cx="2543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975960" y="2674800"/>
            <a:ext cx="84582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oore rebate una tendencia reduccionista o simplificadora de esta doctri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ropone un transito de un enfoque (A) burocrático a uno (B) de “emprendedor público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2"/>
          <a:stretch/>
        </p:blipFill>
        <p:spPr>
          <a:xfrm>
            <a:off x="7383600" y="281160"/>
            <a:ext cx="2543040" cy="5000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3"/>
          <a:stretch/>
        </p:blipFill>
        <p:spPr>
          <a:xfrm>
            <a:off x="139680" y="182520"/>
            <a:ext cx="148104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975960" y="2674800"/>
            <a:ext cx="84582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366"/>
                </a:solidFill>
                <a:latin typeface="Arial"/>
              </a:rPr>
              <a:t>Moore rebate una tendencia reduccionista o simplificadora de esta doctrina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366"/>
                </a:solidFill>
                <a:latin typeface="Arial"/>
              </a:rPr>
              <a:t>Propone un transito de un enfoque (A) burocrático a uno (B) de “emprendedor público”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184320" y="1322280"/>
            <a:ext cx="4859280" cy="59389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1395360" y="3536640"/>
            <a:ext cx="240840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6699"/>
                </a:solidFill>
                <a:latin typeface="Arial"/>
              </a:rPr>
              <a:t>Enfoque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6699"/>
                </a:solidFill>
                <a:latin typeface="Arial"/>
              </a:rPr>
              <a:t>descenden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6456240" y="3876480"/>
            <a:ext cx="228924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6699"/>
                </a:solidFill>
                <a:latin typeface="Arial"/>
              </a:rPr>
              <a:t>Enfoque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6699"/>
                </a:solidFill>
                <a:latin typeface="Arial"/>
              </a:rPr>
              <a:t>ascenden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3"/>
          <a:stretch/>
        </p:blipFill>
        <p:spPr>
          <a:xfrm>
            <a:off x="7383600" y="281160"/>
            <a:ext cx="2543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975960" y="2674800"/>
            <a:ext cx="84582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366"/>
                </a:solidFill>
                <a:latin typeface="Arial"/>
              </a:rPr>
              <a:t>Moore rebate una tendencia reduccionista o simplificadora de esta doctrina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366"/>
                </a:solidFill>
                <a:latin typeface="Arial"/>
              </a:rPr>
              <a:t>Propone un transito de un enfoque (A) burocrático a uno (B) de “emprendedor público”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2"/>
          <a:stretch/>
        </p:blipFill>
        <p:spPr>
          <a:xfrm>
            <a:off x="165240" y="1316160"/>
            <a:ext cx="4870440" cy="63100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1395360" y="3536640"/>
            <a:ext cx="240840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d2db9"/>
                </a:solidFill>
                <a:latin typeface="Arial"/>
              </a:rPr>
              <a:t>Enfoque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d2db9"/>
                </a:solidFill>
                <a:latin typeface="Arial"/>
              </a:rPr>
              <a:t>descenden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3"/>
          <a:stretch/>
        </p:blipFill>
        <p:spPr>
          <a:xfrm>
            <a:off x="5291280" y="785880"/>
            <a:ext cx="4614840" cy="68403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7"/>
          <p:cNvSpPr/>
          <p:nvPr/>
        </p:nvSpPr>
        <p:spPr>
          <a:xfrm>
            <a:off x="6456240" y="3876120"/>
            <a:ext cx="228924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d2db9"/>
                </a:solidFill>
                <a:latin typeface="Arial"/>
              </a:rPr>
              <a:t>Enfoque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d2db9"/>
                </a:solidFill>
                <a:latin typeface="Arial"/>
              </a:rPr>
              <a:t>ascenden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4"/>
          <a:stretch/>
        </p:blipFill>
        <p:spPr>
          <a:xfrm>
            <a:off x="7383600" y="281160"/>
            <a:ext cx="2543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90640" y="896760"/>
            <a:ext cx="871704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MODELO TRADIC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55360" y="2587320"/>
            <a:ext cx="913932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scribe cómo los directivos públicos deben entender y llevar a cabo su trabaj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nfrenta el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riesgo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que los directivos públicos conduzcan la administración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según intereses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istinto a los públ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one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énfasis en el control de procedimientos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y la verticalidad</a:t>
            </a:r>
            <a:r>
              <a:rPr b="1" lang="en-US" sz="31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7383600" y="281160"/>
            <a:ext cx="2543040" cy="500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1" descr="C:\Users\jinostro\AppData\Local\Microsoft\Windows\Temporary Internet Files\Content.IE5\V1Y4D0BW\MC900286922[1].wmf"/>
          <p:cNvPicPr/>
          <p:nvPr/>
        </p:nvPicPr>
        <p:blipFill>
          <a:blip r:embed="rId3"/>
          <a:stretch/>
        </p:blipFill>
        <p:spPr>
          <a:xfrm>
            <a:off x="7888320" y="6257880"/>
            <a:ext cx="198432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jinostro</cp:lastModifiedBy>
  <dcterms:modified xsi:type="dcterms:W3CDTF">2010-09-07T21:09:08Z</dcterms:modified>
  <cp:revision>6</cp:revision>
  <dc:subject/>
  <dc:title>PowerPoint Presentation</dc:title>
</cp:coreProperties>
</file>