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3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38.wmf" ContentType="image/x-wmf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4F74-3E24-482E-884C-29D0A772E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6D4E-ADB3-4934-979C-3E9604564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go que "limpiar" mas la presentación. Basarme mas en el Kelly y Muers, con mas ejemplos concre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21EF-7828-4877-BB87-D37808305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AC45-ACC7-4958-967D-F44FFD29D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46B9-91F7-45FB-9671-E810A22CE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BE94-7E18-4E26-965B-0D2FD9BCB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DD05-B6A8-4F55-8D18-6993E7AC7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E1A8-5B82-4840-909F-8780EBB58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62F5-901E-4EDA-A433-DAAD1EBA2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FFA0-DE62-4C87-A734-23BFE45D2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44AC-5E58-461C-9A79-F1F2CC8F0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2B69-5330-4AB0-9E6F-A42589D70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5882-4417-4231-ABCD-DD179F3CB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cer link entre paradigma "privado-ingenieril" (matemático, racional, optimizador) y paradigma "burocrático" (ése es el que se "desmonta" verdad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21ED-53D5-4D82-ADEA-FB14FD29F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5EBF-2835-467E-AF39-7C103EC0F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43C5-5480-4436-BF24-731885500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F41C-01FA-4DF7-83D4-DB77876A9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D703-9078-4D61-A313-014CDBECF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A03C-2DE3-43A4-967F-14CB8B853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9962-CBBC-4DBE-8608-0CA900B34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AF25-619D-4F7F-886C-0E52C1D37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tará muy larga? creo que no se alcanza a ver todo en 1,5 h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C42E-6C8C-462C-AEF8-ACEE3347B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En síntesis, cuál era el desafío relevante y prioritario de Ruckelshau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Identifique el listado de actores, sus intereses  y sus posiciones relativas, que están en el entorno relevante de la EPA y señale cómo  determinan a las definiciones estratégica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.      ¿Cuáles fueron las amenazas-restricciones y las oportunidades observada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.      En síntesis, explique cuál fue la estrategia y sus atributos (ventajas, desventajas) de la misma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.      ¿Qué ventajas/desventajas desde el punto de vista de los ecologistas, industriales, organización, gobiern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.      ¿Qué otra misión habría usted señalad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.      ¿Qué hizo R. respecto a los siguiente atributos deseables (como señala el texto) de una estrategia en el sector público?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      Sustantivamente releva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      Viable políticame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      Operativamente factible y suficientemente cl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22AC-328C-42E8-836D-D81C00BE1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ando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C144-2A8C-4494-912C-3D4440F8E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gar el sentido de probidad / transparencia que hay detrás de esta forma de operar en el E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 llegar y aplicar formas privadas (este comentario es en gral. Podemos caer en la solución fác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0B80-855F-42FE-AA5F-D9FBCD36A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4423-6478-4E91-AF3A-3AD3CD50C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09D0-99DA-4AE6-A097-716A0FC03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F872-DF74-4B44-80D7-63D02A210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9BF-BFB9-4A26-8F6D-9DC6C9EE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CED-FB5E-40EB-8E25-5BF19DD9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CFB-4762-41D0-B5BD-02C85B1B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B15C-A0EB-454C-8BE3-55194E57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245-FA99-446B-9359-D5B77D67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320-F9B1-49B3-A223-1504193F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8FB-2605-44E1-BD41-01D65C16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482-BF5C-4348-B8FF-519403E2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BD5-E38F-45F5-84C8-5BE280D8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FDA1-15B6-4314-9C73-792C011F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5DEB-D73B-496D-ACB6-600BF439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72E-F0CB-4042-91CD-1922580B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AD90-3F2E-4B92-B9E8-E6D0F1CA7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mailto:jinostro@dii.uchile.cl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7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8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2880" y="857160"/>
            <a:ext cx="9290160" cy="23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c00000"/>
                </a:solidFill>
                <a:latin typeface="Arial"/>
              </a:rPr>
              <a:t>Creación de Valor </a:t>
            </a:r>
            <a:r>
              <a:rPr b="1" lang="en-US" sz="4900" spc="-1" strike="noStrike">
                <a:solidFill>
                  <a:srgbClr val="003366"/>
                </a:solidFill>
                <a:latin typeface="Arial"/>
              </a:rPr>
              <a:t>en el Sector Público. Un modelo gerencial.</a:t>
            </a:r>
            <a:br>
              <a:rPr sz="49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 de Septiembre de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0" y="5969160"/>
            <a:ext cx="9969480" cy="1450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7280" y="6473880"/>
            <a:ext cx="9872640" cy="88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6666"/>
                </a:solidFill>
                <a:latin typeface="Arial"/>
              </a:rPr>
              <a:t>a) Moore, Mark: “Gestión Estratégica y Creación de Valor en el Sector Público”. Paidos, 1998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6666"/>
                </a:solidFill>
                <a:latin typeface="Arial"/>
              </a:rPr>
              <a:t>b) Kelly, G. y Muers, S., “Creating Public Value. An analytical framework for public service reform”, Strategy Unit, Cabinet Office UK, 200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-249120" y="2946240"/>
            <a:ext cx="8648640" cy="2244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184320" y="3449520"/>
            <a:ext cx="89834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urso: Introducción a los Sistemas Públ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AS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5"/>
          <a:stretch/>
        </p:blipFill>
        <p:spPr>
          <a:xfrm>
            <a:off x="7311960" y="281160"/>
            <a:ext cx="2543400" cy="50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C:\Users\jinostro\AppData\Local\Microsoft\Windows\Temporary Internet Files\Content.IE5\WPKQ5ZVF\MC900289958[1].wmf"/>
          <p:cNvPicPr/>
          <p:nvPr/>
        </p:nvPicPr>
        <p:blipFill>
          <a:blip r:embed="rId6"/>
          <a:stretch/>
        </p:blipFill>
        <p:spPr>
          <a:xfrm>
            <a:off x="6907320" y="2535120"/>
            <a:ext cx="310176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0640" y="1120320"/>
            <a:ext cx="87170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7800" y="2569680"/>
            <a:ext cx="93088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00000"/>
                </a:solidFill>
                <a:latin typeface="Arial"/>
              </a:rPr>
              <a:t>Supone que los propósitos son nítidos </a:t>
            </a: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 las pautas normativas (Leyes, discursos o declaraciones de las “autoridades”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fatiza más en la </a:t>
            </a:r>
            <a:r>
              <a:rPr b="1" lang="en-US" sz="3100" spc="-1" strike="noStrike">
                <a:solidFill>
                  <a:srgbClr val="c00000"/>
                </a:solidFill>
                <a:latin typeface="Arial"/>
              </a:rPr>
              <a:t>“administración” </a:t>
            </a: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(objetivos y procedimientos definidos) </a:t>
            </a:r>
            <a:r>
              <a:rPr b="1" lang="en-US" sz="3100" spc="-1" strike="noStrike">
                <a:solidFill>
                  <a:srgbClr val="c00000"/>
                </a:solidFill>
                <a:latin typeface="Arial"/>
              </a:rPr>
              <a:t>que en “la gestión”</a:t>
            </a: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 (respuesta a objetivos declarados, procedimientos amplios)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j0195812"/>
          <p:cNvPicPr/>
          <p:nvPr/>
        </p:nvPicPr>
        <p:blipFill>
          <a:blip r:embed="rId2"/>
          <a:stretch/>
        </p:blipFill>
        <p:spPr>
          <a:xfrm>
            <a:off x="8589960" y="1054080"/>
            <a:ext cx="133524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5960" y="2742840"/>
            <a:ext cx="84582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l directivo debe cumplir sus mandatos con eficacia y eficiencia, tiende a suponer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ocimiento expert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se conocen la respuestas, no requiere participación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ás “burocracia”, menos “emprendimient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s fuerzas son: descendentes y hacia adent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iende a no abrir reflexión sobre propósi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2000" y="569520"/>
            <a:ext cx="93679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0" y="2873160"/>
            <a:ext cx="10159920" cy="599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alor agregad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 produce el sector público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) proveniente de los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“beneficios percibidos”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iudadanos/comunidad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uarios/consumidores /client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)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“descontando los costos”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 los que se incur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 “Valor Prese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j0240695"/>
          <p:cNvPicPr/>
          <p:nvPr/>
        </p:nvPicPr>
        <p:blipFill>
          <a:blip r:embed="rId3"/>
          <a:stretch/>
        </p:blipFill>
        <p:spPr>
          <a:xfrm>
            <a:off x="-6480" y="-6480"/>
            <a:ext cx="16336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2880" y="56952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176400" y="2153880"/>
            <a:ext cx="10335960" cy="546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Los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beneficios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 pueden darse a nivel 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Productos o servicios 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(outputs): Ej .Vacun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Impactos o resultados 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(outcomes) Ej. Tasa de enfermedad específ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Confianza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: (Ejs. Filtración de info en Banco Central, Caso CORFO/Inverlink, Crisis sanitarias (ESB/´vaca loca’), Corrupció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Componentes de la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Confianza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Percepción de eficacia/desempeño (aunque causalidad es complej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Percepción de integridad, étic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Percepción de transparencia/sincerida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j0233018"/>
          <p:cNvPicPr/>
          <p:nvPr/>
        </p:nvPicPr>
        <p:blipFill>
          <a:blip r:embed="rId2"/>
          <a:stretch/>
        </p:blipFill>
        <p:spPr>
          <a:xfrm>
            <a:off x="-255600" y="-517680"/>
            <a:ext cx="2590920" cy="2627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7600" y="857160"/>
            <a:ext cx="87519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2585880"/>
            <a:ext cx="990432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 los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costo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, también se refiere a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stos monetarios y NO monetario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. Ejs. de NO monetarios: pérdida de confianza, pérdida de libertad, medidas coercitivas, perdida de intim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irectos, Indirectos y de Oportunidad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(¿Qué se podría hacer alternativamente con los recursos utilizados?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0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j0233018"/>
          <p:cNvPicPr/>
          <p:nvPr/>
        </p:nvPicPr>
        <p:blipFill>
          <a:blip r:embed="rId2"/>
          <a:stretch/>
        </p:blipFill>
        <p:spPr>
          <a:xfrm>
            <a:off x="-255600" y="-517680"/>
            <a:ext cx="2139840" cy="2175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2500200"/>
            <a:ext cx="10159920" cy="549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 ambos casos - beneficios y costos - el criterio para su definición son las “preferencias públicas” generadas en procesos colectivos (Ej. ley, grupo de ciudadanos, medios de comunicació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y también las “preferencias privadas” expresadas por los usuarios/clientes/beneficiarios de los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j0233018"/>
          <p:cNvPicPr/>
          <p:nvPr/>
        </p:nvPicPr>
        <p:blipFill>
          <a:blip r:embed="rId2"/>
          <a:stretch/>
        </p:blipFill>
        <p:spPr>
          <a:xfrm>
            <a:off x="-255600" y="-371520"/>
            <a:ext cx="2462400" cy="2170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sp>
        <p:nvSpPr>
          <p:cNvPr id="117" name="7 Rectángulo"/>
          <p:cNvSpPr/>
          <p:nvPr/>
        </p:nvSpPr>
        <p:spPr>
          <a:xfrm>
            <a:off x="4071960" y="3233880"/>
            <a:ext cx="4032360" cy="43164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8 Rectángulo"/>
          <p:cNvSpPr/>
          <p:nvPr/>
        </p:nvSpPr>
        <p:spPr>
          <a:xfrm>
            <a:off x="2776680" y="4962600"/>
            <a:ext cx="4103640" cy="28728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ORIGEN DE LAS PREFEREN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6243480" y="3111480"/>
            <a:ext cx="3430800" cy="1916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6330960" y="3852000"/>
            <a:ext cx="3170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-19080" y="2889360"/>
            <a:ext cx="3219480" cy="2719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184320" y="3956040"/>
            <a:ext cx="2774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entes/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3495600" y="2909880"/>
            <a:ext cx="2325600" cy="2689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3639960" y="3862440"/>
            <a:ext cx="20196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un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nd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802480" y="3860640"/>
            <a:ext cx="311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3176640" y="3774960"/>
            <a:ext cx="504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5"/>
          <a:stretch/>
        </p:blipFill>
        <p:spPr>
          <a:xfrm>
            <a:off x="1628640" y="5715000"/>
            <a:ext cx="7220160" cy="900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6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2240" y="5040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0" y="2153880"/>
            <a:ext cx="10159920" cy="546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uerte componente subjetivo (preferencia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Valor final NO se define en gabinete, sino por ciudadanos/usuarios/client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yores esfuerzos en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“procesos de identificación y valoración”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preferencias públicas (profundiza la democracia) y las preferencias privad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ocus group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sejos consultiv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áginas web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unicación con las autoridades políticas y representantes de las comunidad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ncuestas de satisfacción de usuario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j0305257"/>
          <p:cNvPicPr/>
          <p:nvPr/>
        </p:nvPicPr>
        <p:blipFill>
          <a:blip r:embed="rId2"/>
          <a:stretch/>
        </p:blipFill>
        <p:spPr>
          <a:xfrm>
            <a:off x="399960" y="20952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3240" y="569880"/>
            <a:ext cx="871704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ÁMBITOS BÁSICOS DONDE MED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4032360" y="5450040"/>
            <a:ext cx="3111480" cy="2001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4140360" y="6266160"/>
            <a:ext cx="28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231840" y="1725480"/>
            <a:ext cx="3346560" cy="2444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314280" y="2800080"/>
            <a:ext cx="309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DUCTOS/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4"/>
          <a:stretch/>
        </p:blipFill>
        <p:spPr>
          <a:xfrm>
            <a:off x="3639960" y="1722600"/>
            <a:ext cx="3345120" cy="24447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3780000" y="2801520"/>
            <a:ext cx="310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MP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5"/>
          <a:stretch/>
        </p:blipFill>
        <p:spPr>
          <a:xfrm>
            <a:off x="7175520" y="1587600"/>
            <a:ext cx="2889360" cy="25304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56520" y="1674360"/>
            <a:ext cx="2643120" cy="22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FIA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6"/>
          <a:stretch/>
        </p:blipFill>
        <p:spPr>
          <a:xfrm>
            <a:off x="2413080" y="4168800"/>
            <a:ext cx="1650960" cy="1165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"/>
          <p:cNvPicPr/>
          <p:nvPr/>
        </p:nvPicPr>
        <p:blipFill>
          <a:blip r:embed="rId7"/>
          <a:stretch/>
        </p:blipFill>
        <p:spPr>
          <a:xfrm>
            <a:off x="5375160" y="4222800"/>
            <a:ext cx="266760" cy="1217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"/>
          <p:cNvPicPr/>
          <p:nvPr/>
        </p:nvPicPr>
        <p:blipFill>
          <a:blip r:embed="rId8"/>
          <a:stretch/>
        </p:blipFill>
        <p:spPr>
          <a:xfrm>
            <a:off x="7112160" y="3946680"/>
            <a:ext cx="815760" cy="1303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9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RIVADO VS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0" y="2763720"/>
            <a:ext cx="10159920" cy="48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álogamente a como ocurre en el sector privado se podría estimar para el futuro y traerlo a valor pres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¿Cuánto vale una organización pública? =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lujo de beneficios - costos, a valor present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 muchos casos los beneficios y costos, no pueden ser medidos monetariamente, pero es intrínseco a esta aproximación generar esfuerzos crecientes de cuantificación en aquellos ámbitos donde sea posible. Con el tiempo se crearán indic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j0233018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sp>
        <p:nvSpPr>
          <p:cNvPr id="151" name="7 Rectángulo"/>
          <p:cNvSpPr/>
          <p:nvPr/>
        </p:nvSpPr>
        <p:spPr>
          <a:xfrm>
            <a:off x="326880" y="3881520"/>
            <a:ext cx="9577440" cy="100800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Tránsito Paradigmátic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969840" y="2755800"/>
            <a:ext cx="2675160" cy="1633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047600" y="2916360"/>
            <a:ext cx="2156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ucrocr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3567240" y="3162240"/>
            <a:ext cx="3303360" cy="13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Picture 7" descr=""/>
          <p:cNvPicPr/>
          <p:nvPr/>
        </p:nvPicPr>
        <p:blipFill>
          <a:blip r:embed="rId4"/>
          <a:stretch/>
        </p:blipFill>
        <p:spPr>
          <a:xfrm>
            <a:off x="4638600" y="4595760"/>
            <a:ext cx="3762360" cy="1519200"/>
          </a:xfrm>
          <a:prstGeom prst="rect">
            <a:avLst/>
          </a:prstGeom>
          <a:ln w="0">
            <a:noFill/>
          </a:ln>
        </p:spPr>
      </p:pic>
      <p:grpSp>
        <p:nvGrpSpPr>
          <p:cNvPr id="60" name="Text Box 8"/>
          <p:cNvGrpSpPr/>
          <p:nvPr/>
        </p:nvGrpSpPr>
        <p:grpSpPr>
          <a:xfrm>
            <a:off x="4627440" y="4998960"/>
            <a:ext cx="3632400" cy="615960"/>
            <a:chOff x="4627440" y="4998960"/>
            <a:chExt cx="3632400" cy="615960"/>
          </a:xfrm>
        </p:grpSpPr>
        <p:pic>
          <p:nvPicPr>
            <p:cNvPr id="61" name="Text Box 8" descr=""/>
            <p:cNvPicPr/>
            <p:nvPr/>
          </p:nvPicPr>
          <p:blipFill>
            <a:blip r:embed="rId5"/>
            <a:stretch/>
          </p:blipFill>
          <p:spPr>
            <a:xfrm>
              <a:off x="4627440" y="4998960"/>
              <a:ext cx="36324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648320" y="5017320"/>
              <a:ext cx="3600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Nuevo Enfoque, Nuevo Rol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</a:rPr>
                <a:t>Creación de Valor Públ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4" descr=""/>
          <p:cNvPicPr/>
          <p:nvPr/>
        </p:nvPicPr>
        <p:blipFill>
          <a:blip r:embed="rId6"/>
          <a:stretch/>
        </p:blipFill>
        <p:spPr>
          <a:xfrm>
            <a:off x="7383600" y="35388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7600" y="1361880"/>
            <a:ext cx="871704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2620440"/>
            <a:ext cx="10159920" cy="499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l concepto de VP es análogo al de Valor Privado: valor para dueños y valor para client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ero difiere de manera importante por la dificultad de la métrica. El valor público no es completamente reducible a $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j0222015"/>
          <p:cNvPicPr/>
          <p:nvPr/>
        </p:nvPicPr>
        <p:blipFill>
          <a:blip r:embed="rId2"/>
          <a:stretch/>
        </p:blipFill>
        <p:spPr>
          <a:xfrm>
            <a:off x="0" y="0"/>
            <a:ext cx="1779480" cy="1787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90640" y="1353960"/>
            <a:ext cx="871704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0" y="2369880"/>
            <a:ext cx="1015992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or otra parte, en el caso del V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os ciudadanos (dueños) son clientes y usuarios tambié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ambién son proveedores y empleados (ej. Funcionarios de salud y educación)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a comunidad de dueños también considera a las generaciones futu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j0233018"/>
          <p:cNvPicPr/>
          <p:nvPr/>
        </p:nvPicPr>
        <p:blipFill>
          <a:blip r:embed="rId2"/>
          <a:stretch/>
        </p:blipFill>
        <p:spPr>
          <a:xfrm>
            <a:off x="-55440" y="-317520"/>
            <a:ext cx="2189160" cy="2225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90640" y="1182600"/>
            <a:ext cx="871704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4280" y="2647800"/>
            <a:ext cx="10071360" cy="497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En el sector público el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to equitativo </a:t>
            </a: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es muy relevante. Es decir, la valoración de los usuarios depende también del trato a o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El VP es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ás intensivo en demandar cambios en normas sociales y códigos</a:t>
            </a: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 de comportamiento (COPRODUCC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conducción bajo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higiene y prevención (salud públ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lactancia materna y salud infa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Programas contra la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j0233018"/>
          <p:cNvPicPr/>
          <p:nvPr/>
        </p:nvPicPr>
        <p:blipFill>
          <a:blip r:embed="rId3"/>
          <a:stretch/>
        </p:blipFill>
        <p:spPr>
          <a:xfrm>
            <a:off x="-6480" y="-6480"/>
            <a:ext cx="1779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06040" y="1150920"/>
            <a:ext cx="905508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La Estrategia Organizativa en el Sector Públic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237280" y="3303720"/>
            <a:ext cx="43704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Enfoque ESTRATEGICO de Creación de Valor Públic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C:\Users\jinostro\AppData\Local\Microsoft\Windows\Temporary Internet Files\Content.IE5\WPKQ5ZVF\MC900437323[1].jpg"/>
          <p:cNvPicPr/>
          <p:nvPr/>
        </p:nvPicPr>
        <p:blipFill>
          <a:blip r:embed="rId3"/>
          <a:stretch/>
        </p:blipFill>
        <p:spPr>
          <a:xfrm>
            <a:off x="682560" y="3444840"/>
            <a:ext cx="32130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763800" y="420840"/>
            <a:ext cx="928872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Modelo Analítico Básico (Mark Moore)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Diagnóstico de la Posición 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stratégica de una Organización</a:t>
            </a: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1936800" y="3386160"/>
            <a:ext cx="3016080" cy="2583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025720" y="4378680"/>
            <a:ext cx="28400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7164360" y="2084400"/>
            <a:ext cx="2806560" cy="133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7458120" y="2081160"/>
            <a:ext cx="27018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Propósito/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4"/>
          <a:stretch/>
        </p:blipFill>
        <p:spPr>
          <a:xfrm>
            <a:off x="190440" y="1481040"/>
            <a:ext cx="2360520" cy="21495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255600" y="1146240"/>
            <a:ext cx="2160720" cy="222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2.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Cli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Polít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Supervi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Económ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Tecnolo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7396200" y="4371840"/>
            <a:ext cx="255276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Capac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cesos Sustantivos y de Apoy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istemas de evaluación 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1" descr=""/>
          <p:cNvPicPr/>
          <p:nvPr/>
        </p:nvPicPr>
        <p:blipFill>
          <a:blip r:embed="rId5"/>
          <a:stretch/>
        </p:blipFill>
        <p:spPr>
          <a:xfrm>
            <a:off x="920880" y="6529320"/>
            <a:ext cx="4181400" cy="4460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2"/>
          <p:cNvSpPr/>
          <p:nvPr/>
        </p:nvSpPr>
        <p:spPr>
          <a:xfrm>
            <a:off x="985680" y="6599160"/>
            <a:ext cx="4056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ximizar Valor Público que c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3" descr=""/>
          <p:cNvPicPr/>
          <p:nvPr/>
        </p:nvPicPr>
        <p:blipFill>
          <a:blip r:embed="rId6"/>
          <a:stretch/>
        </p:blipFill>
        <p:spPr>
          <a:xfrm>
            <a:off x="2104920" y="4462560"/>
            <a:ext cx="2327400" cy="2025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"/>
          <p:cNvPicPr/>
          <p:nvPr/>
        </p:nvPicPr>
        <p:blipFill>
          <a:blip r:embed="rId7"/>
          <a:stretch/>
        </p:blipFill>
        <p:spPr>
          <a:xfrm>
            <a:off x="3174840" y="2635200"/>
            <a:ext cx="3090960" cy="24764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5"/>
          <p:cNvSpPr/>
          <p:nvPr/>
        </p:nvSpPr>
        <p:spPr>
          <a:xfrm>
            <a:off x="4645080" y="313992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6" descr=""/>
          <p:cNvPicPr/>
          <p:nvPr/>
        </p:nvPicPr>
        <p:blipFill>
          <a:blip r:embed="rId8"/>
          <a:stretch/>
        </p:blipFill>
        <p:spPr>
          <a:xfrm>
            <a:off x="2487600" y="2225520"/>
            <a:ext cx="4753080" cy="36640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7"/>
          <p:cNvSpPr/>
          <p:nvPr/>
        </p:nvSpPr>
        <p:spPr>
          <a:xfrm>
            <a:off x="5981760" y="476244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9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8040" y="1073160"/>
            <a:ext cx="9061560" cy="4968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l análisis anterior, la estrategia de la organización debe ser esencialmente, según Moore…</a:t>
            </a:r>
            <a:br>
              <a:rPr sz="4000"/>
            </a:br>
            <a:br>
              <a:rPr sz="4000"/>
            </a:br>
            <a:r>
              <a:rPr b="1" i="1" lang="en-US" sz="3300" spc="-1" strike="noStrike">
                <a:solidFill>
                  <a:srgbClr val="660033"/>
                </a:solidFill>
                <a:latin typeface="Arial"/>
              </a:rPr>
              <a:t>(A) Sustantivamente valiosa</a:t>
            </a:r>
            <a:br>
              <a:rPr sz="3300"/>
            </a:br>
            <a:r>
              <a:rPr b="1" i="1" lang="en-US" sz="3300" spc="-1" strike="noStrike">
                <a:solidFill>
                  <a:srgbClr val="660033"/>
                </a:solidFill>
                <a:latin typeface="Arial"/>
              </a:rPr>
              <a:t>(B) Políticamente Sustentable</a:t>
            </a:r>
            <a:br>
              <a:rPr sz="3300"/>
            </a:br>
            <a:r>
              <a:rPr b="1" i="1" lang="en-US" sz="3300" spc="-1" strike="noStrike">
                <a:solidFill>
                  <a:srgbClr val="660033"/>
                </a:solidFill>
                <a:latin typeface="Arial"/>
              </a:rPr>
              <a:t>(C) Técnicamente Facti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040" y="1374840"/>
            <a:ext cx="905508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66"/>
                </a:solidFill>
                <a:latin typeface="Arial"/>
              </a:rPr>
              <a:t>El Entorno Político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Técnicas de Gestión Polít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moción activ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Gestión del Desarrollo de la p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egocia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liberación pública, aprendizaje social y lideraz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arketing y Comunicación Estratégi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0" y="127080"/>
            <a:ext cx="10159920" cy="1598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" y="178920"/>
            <a:ext cx="1007136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o : “William Ruckelshaus y la Agencia de Protección Ambiental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” (en U-Cursos)</a:t>
            </a:r>
            <a:br>
              <a:rPr sz="36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( Moore, 1998; p 108 y 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0" y="1882800"/>
            <a:ext cx="10159920" cy="57387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-360" y="1990440"/>
            <a:ext cx="997596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Discusión del caso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Cuáles son los antecedentes básicos? (actores/intereses/tendenci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Cuál es el valor público asociado a la agencia de la EP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Cuáles son las motivaciones del gobiern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Cuáles son los “desafíos clave” de Ruckleshaus? ¿Cuáles son los “ámbitos donde debe gestionar” R.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Cuáles son las estratégicas que adopta? ¿Qué características/ventajas tie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Agrega Valor Público la gestión de R., cóm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j0285360"/>
          <p:cNvPicPr/>
          <p:nvPr/>
        </p:nvPicPr>
        <p:blipFill>
          <a:blip r:embed="rId4"/>
          <a:stretch/>
        </p:blipFill>
        <p:spPr>
          <a:xfrm>
            <a:off x="8156520" y="914400"/>
            <a:ext cx="150516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5"/>
          <a:stretch/>
        </p:blipFill>
        <p:spPr>
          <a:xfrm>
            <a:off x="7616880" y="661824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0" y="3354480"/>
            <a:ext cx="10159920" cy="4265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49320" y="4344840"/>
            <a:ext cx="1006164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1)El funcionario debe hacer lo que está mandatado expresamente por las normas, y esto es siempre muy cla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2) La misión es ser fiel al mandato formal y producirlo eficientemen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39680" y="182520"/>
            <a:ext cx="148104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84320" y="1322280"/>
            <a:ext cx="4859280" cy="5938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456240" y="387648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165240" y="1316160"/>
            <a:ext cx="4870440" cy="6310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d2db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d2db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5291280" y="785880"/>
            <a:ext cx="4614840" cy="6840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6456240" y="387612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d2db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d2db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55360" y="2587320"/>
            <a:ext cx="91393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scribe cómo los directivos públicos deben entender y llevar a cabo su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frenta el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iesg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 los directivos públicos conduzcan la administración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egún interese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tinto a los públ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n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énfasis en el control de procedimiento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y la verticalidad</a:t>
            </a: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1" descr="C:\Users\jinostro\AppData\Local\Microsoft\Windows\Temporary Internet Files\Content.IE5\V1Y4D0BW\MC900286922[1].wmf"/>
          <p:cNvPicPr/>
          <p:nvPr/>
        </p:nvPicPr>
        <p:blipFill>
          <a:blip r:embed="rId3"/>
          <a:stretch/>
        </p:blipFill>
        <p:spPr>
          <a:xfrm>
            <a:off x="7888320" y="6257880"/>
            <a:ext cx="198432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jinostro</cp:lastModifiedBy>
  <dcterms:modified xsi:type="dcterms:W3CDTF">2010-09-07T21:09:08Z</dcterms:modified>
  <cp:revision>6</cp:revision>
  <dc:subject/>
  <dc:title>PowerPoint Presentation</dc:title>
</cp:coreProperties>
</file>