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0EC57B-AD1A-4FED-8C3D-3712DC4AAD1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32C643-CA6B-432E-9585-D6CC22009E1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FCF68C-E98F-4F95-8F67-4426FE1F320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ADFE1F-2275-4FFD-A94F-DF9E0CF2E2F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7B5F24-2C3B-468D-B600-B399E817C41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abas chahuá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42B6A5-372E-46AE-B363-70F2D91EF4E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7A6A96-DE64-4548-893E-04F976D7D63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0B4D8D-1AEF-4868-A24F-78FB537A75F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E83632-5574-4BEA-9D27-A3080DD01B6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694218-9719-4D03-9381-49585E73377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CA8353-DD11-4D25-9AE0-0551A64F716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EC1D0E-930F-410A-B06E-9ED6745EF1D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7B850E-353A-4AD2-AD92-867E85B6FCD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B39CE2-7EC1-4C7B-832A-C28160724C9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3FD56A-3B7F-4D2E-9156-89CD20B1BE7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B5A971-E65B-4564-906F-E3F40C9603E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E719BA-31A2-465B-94B8-A7ACCF8F511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F6A49E-AE6E-4DA7-BBFE-3D3AA9DDFDE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7A5B95-5A9E-485D-91F7-19770DE15FA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30425F-972D-479E-83D7-31F20DC9DFB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62F471-E853-40BE-946F-4C8D0646E24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228E14-106C-4553-A947-C993D70E3B7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464CE0-DBC2-4912-AF8B-5D107AE022D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435C0B-81B4-4D9A-A0C2-B7C8CE763F0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337811-78BD-4B35-A4BF-7CAB466190D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57E-35FB-4B33-9E8B-2A277333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C9A-255D-4CA4-A802-F2DCA78F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9DC-4F70-4B29-B888-DA52B7D0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96D-32A1-4E56-8712-83861D81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B0F9-FFED-4A2B-AE9A-F3FDA389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0324-EC4C-4EF4-9AE2-AF12FFEC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EB74-24D8-4D7D-BF22-7E318DA3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D8E2-4EA8-493C-AA4F-95011125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0F26-1A47-449E-B1C2-F2B53630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1DA7-4A79-417B-8A9F-20204F4A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17CC-6D72-469A-B0E3-570FFD32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E30-CD55-46A3-8480-BF6536A1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5E18-81FD-43C2-A771-1F9EBA48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33F3-B76B-4D57-8DC4-EDFAC01C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9F4A-DF27-457A-A873-1EBA5B27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2D2D-ACE5-4D2D-8123-3C8198D9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5471-0D9F-4263-BC25-35F62997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607-CC59-4753-BDB5-D7113BED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E781-95CA-44CA-A900-E2B8485E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F370-68D1-4296-A370-582DAB86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48FF-C43D-4989-B3D9-03FB2A28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357-FD50-4959-9D37-D6542C8D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E53-EE9F-4032-9D53-C92E4448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0BF-FAAB-4383-B0CB-8FB1F71C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8E76-F437-45F4-8B36-97FE2A4C60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6C57-C4D1-497B-8961-C3EBAE3F87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09840" y="2491920"/>
            <a:ext cx="7634160" cy="262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2800"/>
            </a:b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Introducción a los Sistemas Públicos. </a:t>
            </a:r>
            <a:br>
              <a:rPr sz="2800"/>
            </a:b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lase 3: “Macrosistemas, Estructuras y Funciones del Estado”.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jinostro@dii.uchile.c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Centro de Sistemas Públic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www.sistemaspublicos.c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“concurren” 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Fiscalizan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c00000"/>
                </a:solidFill>
                <a:latin typeface="Verdana"/>
              </a:rPr>
              <a:t>Conocer y resolver asuntos civiles y criminales 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(5)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Dirige la investigación 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s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(10)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preventiva y posteriormente de la normativ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1727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5151600"/>
            <a:ext cx="2124000" cy="1706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7380360" y="1628640"/>
            <a:ext cx="1368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erson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Hay referencias suficientes para entrar en la conversación d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; deber ser), pero se harán observaciones crítica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9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9" name="Group 50"/>
          <p:cNvGrpSpPr/>
          <p:nvPr/>
        </p:nvGrpSpPr>
        <p:grpSpPr>
          <a:xfrm>
            <a:off x="468360" y="409680"/>
            <a:ext cx="8490960" cy="6066360"/>
            <a:chOff x="468360" y="409680"/>
            <a:chExt cx="8490960" cy="6066360"/>
          </a:xfrm>
        </p:grpSpPr>
        <p:grpSp>
          <p:nvGrpSpPr>
            <p:cNvPr id="160" name="Group 51"/>
            <p:cNvGrpSpPr/>
            <p:nvPr/>
          </p:nvGrpSpPr>
          <p:grpSpPr>
            <a:xfrm>
              <a:off x="468360" y="409680"/>
              <a:ext cx="8490960" cy="4879800"/>
              <a:chOff x="468360" y="409680"/>
              <a:chExt cx="8490960" cy="4879800"/>
            </a:xfrm>
          </p:grpSpPr>
          <p:sp>
            <p:nvSpPr>
              <p:cNvPr id="161" name="AutoShape 52"/>
              <p:cNvSpPr/>
              <p:nvPr/>
            </p:nvSpPr>
            <p:spPr>
              <a:xfrm>
                <a:off x="468360" y="409680"/>
                <a:ext cx="8490960" cy="4879800"/>
              </a:xfrm>
              <a:prstGeom prst="rect">
                <a:avLst/>
              </a:prstGeom>
              <a:noFill/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Oval 53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Oval 54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Oval 55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Oval 56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Oval 57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Oval 58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Oval 59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Oval 60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AutoShape 61"/>
              <p:cNvSpPr/>
              <p:nvPr/>
            </p:nvSpPr>
            <p:spPr>
              <a:xfrm rot="18061800">
                <a:off x="5399280" y="2616480"/>
                <a:ext cx="456840" cy="384120"/>
              </a:xfrm>
              <a:custGeom>
                <a:avLst/>
                <a:gdLst>
                  <a:gd name="textAreaLeft" fmla="*/ 113400 w 456840"/>
                  <a:gd name="textAreaRight" fmla="*/ 402480 w 456840"/>
                  <a:gd name="textAreaTop" fmla="*/ 210240 h 384120"/>
                  <a:gd name="textAreaBottom" fmla="*/ 338040 h 38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429" y="0"/>
                    </a:moveTo>
                    <a:lnTo>
                      <a:pt x="9257" y="9257"/>
                    </a:lnTo>
                    <a:lnTo>
                      <a:pt x="11845" y="9257"/>
                    </a:lnTo>
                    <a:lnTo>
                      <a:pt x="11845" y="11845"/>
                    </a:lnTo>
                    <a:lnTo>
                      <a:pt x="9257" y="11845"/>
                    </a:lnTo>
                    <a:lnTo>
                      <a:pt x="9257" y="9257"/>
                    </a:lnTo>
                    <a:lnTo>
                      <a:pt x="0" y="15429"/>
                    </a:lnTo>
                    <a:lnTo>
                      <a:pt x="9257" y="21600"/>
                    </a:lnTo>
                    <a:lnTo>
                      <a:pt x="9257" y="19012"/>
                    </a:lnTo>
                    <a:lnTo>
                      <a:pt x="19012" y="19012"/>
                    </a:lnTo>
                    <a:lnTo>
                      <a:pt x="19012" y="9257"/>
                    </a:lnTo>
                    <a:lnTo>
                      <a:pt x="21600" y="925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AutoShape 62"/>
              <p:cNvSpPr/>
              <p:nvPr/>
            </p:nvSpPr>
            <p:spPr>
              <a:xfrm rot="10800000">
                <a:off x="3958560" y="2237400"/>
                <a:ext cx="402840" cy="456840"/>
              </a:xfrm>
              <a:custGeom>
                <a:avLst/>
                <a:gdLst>
                  <a:gd name="textAreaLeft" fmla="*/ 57240 w 402840"/>
                  <a:gd name="textAreaRight" fmla="*/ 345600 w 402840"/>
                  <a:gd name="textAreaTop" fmla="*/ 260640 h 456840"/>
                  <a:gd name="textAreaBottom" fmla="*/ 39168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429" y="0"/>
                    </a:moveTo>
                    <a:lnTo>
                      <a:pt x="9257" y="6171"/>
                    </a:lnTo>
                    <a:lnTo>
                      <a:pt x="12343" y="6171"/>
                    </a:lnTo>
                    <a:lnTo>
                      <a:pt x="12343" y="12343"/>
                    </a:lnTo>
                    <a:lnTo>
                      <a:pt x="6171" y="12343"/>
                    </a:lnTo>
                    <a:lnTo>
                      <a:pt x="6171" y="9257"/>
                    </a:lnTo>
                    <a:lnTo>
                      <a:pt x="0" y="15429"/>
                    </a:lnTo>
                    <a:lnTo>
                      <a:pt x="6171" y="21600"/>
                    </a:lnTo>
                    <a:lnTo>
                      <a:pt x="6171" y="18514"/>
                    </a:lnTo>
                    <a:lnTo>
                      <a:pt x="18514" y="18514"/>
                    </a:lnTo>
                    <a:lnTo>
                      <a:pt x="18514" y="6171"/>
                    </a:lnTo>
                    <a:lnTo>
                      <a:pt x="21600" y="6171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AutoShape 63"/>
              <p:cNvSpPr/>
              <p:nvPr/>
            </p:nvSpPr>
            <p:spPr>
              <a:xfrm rot="3861600">
                <a:off x="4550400" y="3184200"/>
                <a:ext cx="281880" cy="402480"/>
              </a:xfrm>
              <a:custGeom>
                <a:avLst/>
                <a:gdLst>
                  <a:gd name="textAreaLeft" fmla="*/ 39960 w 281880"/>
                  <a:gd name="textAreaRight" fmla="*/ 241920 w 281880"/>
                  <a:gd name="textAreaTop" fmla="*/ 230400 h 402480"/>
                  <a:gd name="textAreaBottom" fmla="*/ 345240 h 4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429" y="0"/>
                    </a:moveTo>
                    <a:lnTo>
                      <a:pt x="9257" y="6171"/>
                    </a:lnTo>
                    <a:lnTo>
                      <a:pt x="12343" y="6171"/>
                    </a:lnTo>
                    <a:lnTo>
                      <a:pt x="12343" y="12343"/>
                    </a:lnTo>
                    <a:lnTo>
                      <a:pt x="6171" y="12343"/>
                    </a:lnTo>
                    <a:lnTo>
                      <a:pt x="6171" y="9257"/>
                    </a:lnTo>
                    <a:lnTo>
                      <a:pt x="0" y="15429"/>
                    </a:lnTo>
                    <a:lnTo>
                      <a:pt x="6171" y="21600"/>
                    </a:lnTo>
                    <a:lnTo>
                      <a:pt x="6171" y="18514"/>
                    </a:lnTo>
                    <a:lnTo>
                      <a:pt x="18514" y="18514"/>
                    </a:lnTo>
                    <a:lnTo>
                      <a:pt x="18514" y="6171"/>
                    </a:lnTo>
                    <a:lnTo>
                      <a:pt x="21600" y="617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Oval 64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" name="Oval 65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Oval 66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AutoShape 67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AutoShape 68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AutoShape 69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AutoShape 70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AutoShape 71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AutoShape 72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73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AutoShape 74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AutoShape 75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" name="AutoShape 76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AutoShape 77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AutoShape 78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" name="AutoShape 79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AutoShape 80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AutoShape 81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AutoShape 82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AutoShape 83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Oval 84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s-E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Oval 85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AutoShape 86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6" name="Group 87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197" name="Text Box 88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Text Box 89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" name="AutoShape 90"/>
              <p:cNvSpPr/>
              <p:nvPr/>
            </p:nvSpPr>
            <p:spPr>
              <a:xfrm rot="10800000">
                <a:off x="3890520" y="5373720"/>
                <a:ext cx="1284480" cy="1093680"/>
              </a:xfrm>
              <a:custGeom>
                <a:avLst/>
                <a:gdLst>
                  <a:gd name="textAreaLeft" fmla="*/ 0 w 1284480"/>
                  <a:gd name="textAreaRight" fmla="*/ 363600 w 1284480"/>
                  <a:gd name="textAreaTop" fmla="*/ 420480 h 1093680"/>
                  <a:gd name="textAreaBottom" fmla="*/ 1094040 h 109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" name="AutoShape 91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custGeom>
                <a:avLst/>
                <a:gdLst>
                  <a:gd name="textAreaLeft" fmla="*/ -360 w 1266120"/>
                  <a:gd name="textAreaRight" fmla="*/ 357480 w 1266120"/>
                  <a:gd name="textAreaTop" fmla="*/ 420480 h 1093680"/>
                  <a:gd name="textAreaBottom" fmla="*/ 1094040 h 109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Line 92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2" name="Line 93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Text Box 94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-612720" y="0"/>
            <a:ext cx="106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774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weberi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Nueva gerencia pública, participación ciudad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capturas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políticas, gremiales, empresariales…); promueven el interés general y permanente….pero puede generar costos de transacción, administrativos importantes, e incentivos perversos en algunos ca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idencialismo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organismos autónom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dipres.cl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bcn.cl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Rol, Restricciones, Princip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360" y="2565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63280" y="1827360"/>
            <a:ext cx="738036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“promover el bien común”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para lo cual debe contribuir a crear condiciones sociales”… que permitan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“la mayor realización espiritual y material posible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(art. 1 Constitució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integración armónica de todos los sectores;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 asegurar derecho de las personas a participar con igualdad de oportunidades en la vida nacional 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(art. 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7415280" y="0"/>
            <a:ext cx="17287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descentralizada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actuar válidamente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Responder civilmente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7712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Igualdad ante la ley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ducación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DERECHO DE PROPIEDAD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(expropiación,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RECURSO DE PROTECCIÓN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2276640"/>
            <a:ext cx="7238880" cy="144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: Los “Poderes del Estado”…o la teoría de los “pesos y contrapesos”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6300720" y="4149720"/>
            <a:ext cx="23814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“gobierno y la administración del Estad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“organización básica del Estado”, y “la carrera funcionaria” 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3284640"/>
            <a:ext cx="1382760" cy="2087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0" y="5018040"/>
            <a:ext cx="14763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inostro</cp:lastModifiedBy>
  <dcterms:modified xsi:type="dcterms:W3CDTF">2010-08-26T16:54:22Z</dcterms:modified>
  <cp:revision>10</cp:revision>
  <dc:subject/>
  <dc:title>Macrosistemas, Estructuras del y Funciones del Estado.</dc:title>
</cp:coreProperties>
</file>