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296281-6779-44CB-9F13-EB11CD909E2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CBE8C5-F484-4A43-B336-27FFB9B2164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22D260-F99D-4B01-984A-3BBF14EFEB3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16BAA0-0147-47F4-AEE8-6A8724E431E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57BFB7-845A-468B-B6BB-11AB02A8953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bas chahu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D411E2-3ABC-4A66-AF0B-EC7279F85A1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F06ED7-A55D-4BA8-AB41-F269352D06F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E23765-379B-4E00-ABC1-D79C6C1CE27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96AFCE-4C65-4875-A8CC-78FABADA201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858C72-E295-4F5D-8A1A-0CBD3A6DE2A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B91AB0-5DFF-4865-8B71-5BC4CE89F1D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ED0CA6-0324-4661-B195-D79B5471E99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E99EC9-A126-44AD-AF13-3C5FE298817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3E44F0-3BEB-4045-9026-717E6FAC0B5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6AEA70-8771-443C-B616-3F475B452D9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DD6607-9218-4256-9E5F-9FB0D96940C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523EBF-33E0-4E91-B987-60D03EC8118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A77AAB-3935-41AB-9C88-6C78EC0C104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29F8F9-8E93-4C82-B410-7BD054D414C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D77CBA-490D-4B7E-B9D2-FFB2DDA66E5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6052A2-D509-49D7-856C-9EEB8487455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D423E9-9AB3-4469-AF20-EA6725F47C1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D1DC2F-6054-4D08-85E0-FF2703979EB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8D8EDC-9664-4971-94E2-F77CB1017D9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F63E79-CD63-47AA-B6F8-39D06D79789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B20-EB21-400C-8105-EA0C1A0F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BB4-05FB-4807-AB0A-6917467E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6B5-8FD8-4498-8992-25B7A9DE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E17-E426-4C2A-853C-A5495EEE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2FFC-8F52-4FAD-92BD-186556CA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22CF-2A3F-423A-93F2-9178660F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4EA1-5ACA-4859-A8FE-DDE67D25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9F0E-73C4-4473-8C17-2D80CFEF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76C8-97CC-4334-808A-AF5D2A74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C646-5AC3-409F-9D1B-DA3329BC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AC3A-994B-4C50-B439-94612DA3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0D8-2680-4CC7-8495-E000A82D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7519-305B-4A36-B9B2-D4423581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3BCB-3636-4558-8F4D-BC1A3204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D23D-4A51-4068-89CB-347D993C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88C0-CC5A-4816-B697-045C4C43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4AF3-F0A5-4F92-8F0B-6B4BF32B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2A5-A152-4E59-83E9-CCFDA04C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4C8-59D9-43D0-BC23-E8CECF8C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226-2368-4168-999E-537FED75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E7C9-C842-4299-8135-78DCCF8A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424C-85D6-47DD-A94E-8E4856B2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1B7-3CD1-4D04-8D7D-CA2A1327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907-8524-4D2B-8DB5-C68746F1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6A2F-2287-46D8-B92A-6C57CF3D2B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B31B-59A7-4603-BBCD-F3D7C02B6F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09840" y="2491920"/>
            <a:ext cx="7634160" cy="262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2800"/>
            </a:b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Introducción a los Sistemas Públicos. </a:t>
            </a:r>
            <a:br>
              <a:rPr sz="2800"/>
            </a:b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jinostro@dii.uchile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Centro de Sistemas Públic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www.sistemaspublicos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“concurren” 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Fiscalizan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c00000"/>
                </a:solidFill>
                <a:latin typeface="Verdana"/>
              </a:rPr>
              <a:t>Conocer y resolver asuntos civiles y criminales 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(5)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Dirige la investigación 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(10)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preventiva y posteriormente de la normativ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1727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5151600"/>
            <a:ext cx="2124000" cy="1706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7380360" y="1628640"/>
            <a:ext cx="1368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erson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Hay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9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" name="Group 50"/>
          <p:cNvGrpSpPr/>
          <p:nvPr/>
        </p:nvGrpSpPr>
        <p:grpSpPr>
          <a:xfrm>
            <a:off x="468360" y="409680"/>
            <a:ext cx="8490960" cy="6066360"/>
            <a:chOff x="468360" y="409680"/>
            <a:chExt cx="8490960" cy="6066360"/>
          </a:xfrm>
        </p:grpSpPr>
        <p:grpSp>
          <p:nvGrpSpPr>
            <p:cNvPr id="160" name="Group 51"/>
            <p:cNvGrpSpPr/>
            <p:nvPr/>
          </p:nvGrpSpPr>
          <p:grpSpPr>
            <a:xfrm>
              <a:off x="468360" y="409680"/>
              <a:ext cx="8490960" cy="4879800"/>
              <a:chOff x="468360" y="409680"/>
              <a:chExt cx="8490960" cy="4879800"/>
            </a:xfrm>
          </p:grpSpPr>
          <p:sp>
            <p:nvSpPr>
              <p:cNvPr id="161" name="AutoShape 52"/>
              <p:cNvSpPr/>
              <p:nvPr/>
            </p:nvSpPr>
            <p:spPr>
              <a:xfrm>
                <a:off x="468360" y="409680"/>
                <a:ext cx="8490960" cy="4879800"/>
              </a:xfrm>
              <a:prstGeom prst="rect">
                <a:avLst/>
              </a:prstGeom>
              <a:noFill/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Oval 53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Oval 54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Oval 55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Oval 56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Oval 57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Oval 58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Oval 59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Oval 60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AutoShape 61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13400 w 456840"/>
                  <a:gd name="textAreaRight" fmla="*/ 402480 w 456840"/>
                  <a:gd name="textAreaTop" fmla="*/ 210240 h 384120"/>
                  <a:gd name="textAreaBottom" fmla="*/ 33804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429" y="0"/>
                    </a:moveTo>
                    <a:lnTo>
                      <a:pt x="9257" y="9257"/>
                    </a:lnTo>
                    <a:lnTo>
                      <a:pt x="11845" y="9257"/>
                    </a:lnTo>
                    <a:lnTo>
                      <a:pt x="11845" y="11845"/>
                    </a:lnTo>
                    <a:lnTo>
                      <a:pt x="9257" y="11845"/>
                    </a:lnTo>
                    <a:lnTo>
                      <a:pt x="9257" y="9257"/>
                    </a:lnTo>
                    <a:lnTo>
                      <a:pt x="0" y="15429"/>
                    </a:lnTo>
                    <a:lnTo>
                      <a:pt x="9257" y="21600"/>
                    </a:lnTo>
                    <a:lnTo>
                      <a:pt x="9257" y="19012"/>
                    </a:lnTo>
                    <a:lnTo>
                      <a:pt x="19012" y="19012"/>
                    </a:lnTo>
                    <a:lnTo>
                      <a:pt x="19012" y="9257"/>
                    </a:lnTo>
                    <a:lnTo>
                      <a:pt x="21600" y="925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AutoShape 62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57240 w 402840"/>
                  <a:gd name="textAreaRight" fmla="*/ 345600 w 402840"/>
                  <a:gd name="textAreaTop" fmla="*/ 260640 h 456840"/>
                  <a:gd name="textAreaBottom" fmla="*/ 39168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429" y="0"/>
                    </a:moveTo>
                    <a:lnTo>
                      <a:pt x="9257" y="6171"/>
                    </a:lnTo>
                    <a:lnTo>
                      <a:pt x="12343" y="6171"/>
                    </a:lnTo>
                    <a:lnTo>
                      <a:pt x="12343" y="12343"/>
                    </a:lnTo>
                    <a:lnTo>
                      <a:pt x="6171" y="12343"/>
                    </a:lnTo>
                    <a:lnTo>
                      <a:pt x="6171" y="9257"/>
                    </a:lnTo>
                    <a:lnTo>
                      <a:pt x="0" y="15429"/>
                    </a:lnTo>
                    <a:lnTo>
                      <a:pt x="6171" y="21600"/>
                    </a:lnTo>
                    <a:lnTo>
                      <a:pt x="6171" y="18514"/>
                    </a:lnTo>
                    <a:lnTo>
                      <a:pt x="18514" y="18514"/>
                    </a:lnTo>
                    <a:lnTo>
                      <a:pt x="18514" y="6171"/>
                    </a:lnTo>
                    <a:lnTo>
                      <a:pt x="21600" y="6171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AutoShape 63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39960 w 281880"/>
                  <a:gd name="textAreaRight" fmla="*/ 241920 w 281880"/>
                  <a:gd name="textAreaTop" fmla="*/ 230400 h 402480"/>
                  <a:gd name="textAreaBottom" fmla="*/ 34524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429" y="0"/>
                    </a:moveTo>
                    <a:lnTo>
                      <a:pt x="9257" y="6171"/>
                    </a:lnTo>
                    <a:lnTo>
                      <a:pt x="12343" y="6171"/>
                    </a:lnTo>
                    <a:lnTo>
                      <a:pt x="12343" y="12343"/>
                    </a:lnTo>
                    <a:lnTo>
                      <a:pt x="6171" y="12343"/>
                    </a:lnTo>
                    <a:lnTo>
                      <a:pt x="6171" y="9257"/>
                    </a:lnTo>
                    <a:lnTo>
                      <a:pt x="0" y="15429"/>
                    </a:lnTo>
                    <a:lnTo>
                      <a:pt x="6171" y="21600"/>
                    </a:lnTo>
                    <a:lnTo>
                      <a:pt x="6171" y="18514"/>
                    </a:lnTo>
                    <a:lnTo>
                      <a:pt x="18514" y="18514"/>
                    </a:lnTo>
                    <a:lnTo>
                      <a:pt x="18514" y="6171"/>
                    </a:lnTo>
                    <a:lnTo>
                      <a:pt x="21600" y="617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Oval 64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Oval 65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Oval 66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AutoShape 67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AutoShape 68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AutoShape 69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AutoShape 70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AutoShape 71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AutoShape 72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73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AutoShape 74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AutoShape 75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" name="AutoShape 76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AutoShape 77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AutoShape 78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" name="AutoShape 79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AutoShape 80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AutoShape 81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AutoShape 82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AutoShape 83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Oval 84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s-E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Oval 85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AutoShape 86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6" name="Group 87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97" name="Text Box 88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Text Box 89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AutoShape 90"/>
              <p:cNvSpPr/>
              <p:nvPr/>
            </p:nvSpPr>
            <p:spPr>
              <a:xfrm rot="10800000">
                <a:off x="3890520" y="5373720"/>
                <a:ext cx="1284480" cy="1093680"/>
              </a:xfrm>
              <a:custGeom>
                <a:avLst/>
                <a:gdLst>
                  <a:gd name="textAreaLeft" fmla="*/ 0 w 1284480"/>
                  <a:gd name="textAreaRight" fmla="*/ 363600 w 1284480"/>
                  <a:gd name="textAreaTop" fmla="*/ 420480 h 1093680"/>
                  <a:gd name="textAreaBottom" fmla="*/ 1094040 h 109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AutoShape 91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custGeom>
                <a:avLst/>
                <a:gdLst>
                  <a:gd name="textAreaLeft" fmla="*/ -360 w 1266120"/>
                  <a:gd name="textAreaRight" fmla="*/ 357480 w 1266120"/>
                  <a:gd name="textAreaTop" fmla="*/ 420480 h 1093680"/>
                  <a:gd name="textAreaBottom" fmla="*/ 1094040 h 109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Line 92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2" name="Line 93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Text Box 94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dipres.cl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bcn.cl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63280" y="1827360"/>
            <a:ext cx="738036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“promover el bien común”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para lo cual debe contribuir a crear condiciones sociales”… que permitan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“la mayor realización espiritual y material posible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.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 asegurar derecho de las personas a participar con igualdad de oportunidades en la vida nacional 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(art.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7415280" y="0"/>
            <a:ext cx="17287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descentralizada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actuar válidamente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Responder civilmente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7712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DERECHO DE PROPIEDAD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RECURSO DE PROTECCIÓN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2276640"/>
            <a:ext cx="7238880" cy="144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: Los “Poderes del Estado”…o la teoría de los “pesos y contrapesos”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6300720" y="4149720"/>
            <a:ext cx="23814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“gobierno y la administración del Estad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“organización básica del Estado”, y “la carrera funcionaria” 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3284640"/>
            <a:ext cx="1382760" cy="2087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0" y="5018040"/>
            <a:ext cx="1476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</cp:lastModifiedBy>
  <dcterms:modified xsi:type="dcterms:W3CDTF">2010-08-26T16:54:22Z</dcterms:modified>
  <cp:revision>10</cp:revision>
  <dc:subject/>
  <dc:title>Macrosistemas, Estructuras del y Funciones del Estado.</dc:title>
</cp:coreProperties>
</file>