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C1659F-C8BB-44F7-9D59-DCB3CDC00C5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575DD4-FC9E-4E34-9175-D3A8E28CED3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8EAD2B-98C2-4253-8B1A-755AB1107B9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A0AD2B-5DB7-4C84-806F-EA934F1B6B3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134011-3C9F-4023-84D5-B8C42A71E96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bas chahu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8957CD-5DCA-434B-A26F-40914D65941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C30B6F-629E-441C-ACD7-6EBE745BB53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108762-8A71-4414-B05E-6E4322A3B97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562B54-91EB-4065-8201-2F2920DDE87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94F934-D9C7-4565-BDEF-DF5EBC372CE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AC0B1B-4A1A-4C63-BD20-3A6FC06D652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6E93FE-2881-49E8-A980-06D3AC3C1E6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7E5ED3-15EB-463E-846E-05432B0B6C3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193899-A720-45C9-8AC7-A000B6B7DED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8FB0FB-C6EF-4086-9531-2DC262E7810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834298-4C27-47CE-955E-0B261A50F94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F6BE7C-1EA4-4366-87E9-106EBCE3031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9E3B5C-4F56-43A8-991B-49EF8143732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55CA76-C9B8-4962-AAE0-01C3F363043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D66E8B-86D6-4C5E-8472-25CCCD85502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96857B-A321-440E-A2A0-55EA154D3E8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FA15E2-6A74-42E4-A48A-CEA403B0833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3A9480-1FAD-4F80-A60D-A1D4AC4A0F8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BB9FAC-9F20-4014-95B3-66F886F38EF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16E058-6D06-42FD-B7F2-7B07865DC5A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42E-347E-489B-8EAF-54DBD441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6D8-DC28-404A-ACEA-B251CAFA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BCE-F576-45A1-9A7F-CBE9D3D3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EDE-3A32-497B-8394-F835EB17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7228-8C9C-4E2B-9347-CD04FAD4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9181-8495-4640-B0F8-46246DF0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FD7B-8269-4656-BA51-A735978F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7E45-2AFD-458F-8961-FEC3EE7E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E9A7-866E-4FC5-B184-936AB9F7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3666-EE79-4CB7-BE83-E67B3C53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58E4-A79F-46E4-B62C-2E08C154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68C-61DC-4EB2-AC48-D806C1BF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1AC4-0BEB-446C-9E47-B9E6AAD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F9A6-5041-4872-8D79-AE37679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7141-5621-4EEB-8485-23B9DE09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8A3B-CD02-4C36-8144-196EBDF5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DA16-A971-480F-8B52-DDD3F21A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9EA-A0AE-4436-98AF-E74DACEA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853-3386-499F-9143-F15A1D0A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64D-B7A1-4C7E-83BA-6AA544A2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DD4-6191-47D3-A2F2-8E79ACCD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EF9-075D-4239-BC82-384C9D1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CDF-AD7B-4FC0-B9AC-97386CFA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51A-970A-4FB2-AC1E-163C39E5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661F-3D0A-4269-BA43-0E40699C91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A452-5E2C-4511-BF4E-3AD28074A4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9840" y="2491920"/>
            <a:ext cx="763416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2800"/>
            </a:b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Introducción a los Sistemas Públicos. </a:t>
            </a:r>
            <a:br>
              <a:rPr sz="2800"/>
            </a:b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inostro@dii.uchile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Centro de Sistemas Públic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concurren” 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Fiscalizan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c00000"/>
                </a:solidFill>
                <a:latin typeface="Verdana"/>
              </a:rPr>
              <a:t>Conocer y resolver asuntos civiles y criminales 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(5)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Dirige la investigación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(10)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preventiva y posteriormente de la normativ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51516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7380360" y="1628640"/>
            <a:ext cx="1368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Hay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9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Group 50"/>
          <p:cNvGrpSpPr/>
          <p:nvPr/>
        </p:nvGrpSpPr>
        <p:grpSpPr>
          <a:xfrm>
            <a:off x="468360" y="409680"/>
            <a:ext cx="8490960" cy="6066360"/>
            <a:chOff x="468360" y="409680"/>
            <a:chExt cx="8490960" cy="6066360"/>
          </a:xfrm>
        </p:grpSpPr>
        <p:grpSp>
          <p:nvGrpSpPr>
            <p:cNvPr id="160" name="Group 51"/>
            <p:cNvGrpSpPr/>
            <p:nvPr/>
          </p:nvGrpSpPr>
          <p:grpSpPr>
            <a:xfrm>
              <a:off x="468360" y="409680"/>
              <a:ext cx="8490960" cy="4879800"/>
              <a:chOff x="468360" y="409680"/>
              <a:chExt cx="8490960" cy="4879800"/>
            </a:xfrm>
          </p:grpSpPr>
          <p:sp>
            <p:nvSpPr>
              <p:cNvPr id="161" name="AutoShape 52"/>
              <p:cNvSpPr/>
              <p:nvPr/>
            </p:nvSpPr>
            <p:spPr>
              <a:xfrm>
                <a:off x="468360" y="409680"/>
                <a:ext cx="8490960" cy="4879800"/>
              </a:xfrm>
              <a:prstGeom prst="rect">
                <a:avLst/>
              </a:prstGeom>
              <a:noFill/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Oval 54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55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Oval 56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Oval 57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Oval 58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Oval 59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60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AutoShape 61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13400 w 456840"/>
                  <a:gd name="textAreaRight" fmla="*/ 402480 w 456840"/>
                  <a:gd name="textAreaTop" fmla="*/ 210240 h 384120"/>
                  <a:gd name="textAreaBottom" fmla="*/ 33804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9257"/>
                    </a:lnTo>
                    <a:lnTo>
                      <a:pt x="11845" y="9257"/>
                    </a:lnTo>
                    <a:lnTo>
                      <a:pt x="11845" y="11845"/>
                    </a:lnTo>
                    <a:lnTo>
                      <a:pt x="9257" y="11845"/>
                    </a:lnTo>
                    <a:lnTo>
                      <a:pt x="9257" y="9257"/>
                    </a:lnTo>
                    <a:lnTo>
                      <a:pt x="0" y="15429"/>
                    </a:lnTo>
                    <a:lnTo>
                      <a:pt x="9257" y="21600"/>
                    </a:lnTo>
                    <a:lnTo>
                      <a:pt x="9257" y="19012"/>
                    </a:lnTo>
                    <a:lnTo>
                      <a:pt x="19012" y="19012"/>
                    </a:lnTo>
                    <a:lnTo>
                      <a:pt x="19012" y="9257"/>
                    </a:lnTo>
                    <a:lnTo>
                      <a:pt x="21600" y="925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AutoShape 62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57240 w 402840"/>
                  <a:gd name="textAreaRight" fmla="*/ 345600 w 402840"/>
                  <a:gd name="textAreaTop" fmla="*/ 260640 h 456840"/>
                  <a:gd name="textAreaBottom" fmla="*/ 39168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6171"/>
                    </a:lnTo>
                    <a:lnTo>
                      <a:pt x="12343" y="6171"/>
                    </a:lnTo>
                    <a:lnTo>
                      <a:pt x="12343" y="12343"/>
                    </a:lnTo>
                    <a:lnTo>
                      <a:pt x="6171" y="12343"/>
                    </a:lnTo>
                    <a:lnTo>
                      <a:pt x="6171" y="9257"/>
                    </a:lnTo>
                    <a:lnTo>
                      <a:pt x="0" y="15429"/>
                    </a:lnTo>
                    <a:lnTo>
                      <a:pt x="6171" y="21600"/>
                    </a:lnTo>
                    <a:lnTo>
                      <a:pt x="6171" y="18514"/>
                    </a:lnTo>
                    <a:lnTo>
                      <a:pt x="18514" y="18514"/>
                    </a:lnTo>
                    <a:lnTo>
                      <a:pt x="18514" y="6171"/>
                    </a:lnTo>
                    <a:lnTo>
                      <a:pt x="21600" y="6171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AutoShape 63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39960 w 281880"/>
                  <a:gd name="textAreaRight" fmla="*/ 241920 w 281880"/>
                  <a:gd name="textAreaTop" fmla="*/ 230400 h 402480"/>
                  <a:gd name="textAreaBottom" fmla="*/ 34524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6171"/>
                    </a:lnTo>
                    <a:lnTo>
                      <a:pt x="12343" y="6171"/>
                    </a:lnTo>
                    <a:lnTo>
                      <a:pt x="12343" y="12343"/>
                    </a:lnTo>
                    <a:lnTo>
                      <a:pt x="6171" y="12343"/>
                    </a:lnTo>
                    <a:lnTo>
                      <a:pt x="6171" y="9257"/>
                    </a:lnTo>
                    <a:lnTo>
                      <a:pt x="0" y="15429"/>
                    </a:lnTo>
                    <a:lnTo>
                      <a:pt x="6171" y="21600"/>
                    </a:lnTo>
                    <a:lnTo>
                      <a:pt x="6171" y="18514"/>
                    </a:lnTo>
                    <a:lnTo>
                      <a:pt x="18514" y="18514"/>
                    </a:lnTo>
                    <a:lnTo>
                      <a:pt x="18514" y="6171"/>
                    </a:lnTo>
                    <a:lnTo>
                      <a:pt x="21600" y="617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Oval 64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Oval 65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Oval 66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AutoShape 67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AutoShape 68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AutoShape 69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AutoShape 70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AutoShape 71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AutoShape 72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73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AutoShape 74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AutoShape 75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AutoShape 76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AutoShape 77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AutoShape 78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AutoShape 79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AutoShape 80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AutoShape 81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AutoShape 82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AutoShape 83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Oval 84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Oval 85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AutoShape 86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6" name="Group 87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97" name="Text Box 88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Text Box 89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AutoShape 90"/>
              <p:cNvSpPr/>
              <p:nvPr/>
            </p:nvSpPr>
            <p:spPr>
              <a:xfrm rot="10800000">
                <a:off x="3890520" y="5373720"/>
                <a:ext cx="1284480" cy="1093680"/>
              </a:xfrm>
              <a:custGeom>
                <a:avLst/>
                <a:gdLst>
                  <a:gd name="textAreaLeft" fmla="*/ 0 w 1284480"/>
                  <a:gd name="textAreaRight" fmla="*/ 363600 w 1284480"/>
                  <a:gd name="textAreaTop" fmla="*/ 420480 h 1093680"/>
                  <a:gd name="textAreaBottom" fmla="*/ 109404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AutoShape 91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custGeom>
                <a:avLst/>
                <a:gdLst>
                  <a:gd name="textAreaLeft" fmla="*/ -360 w 1266120"/>
                  <a:gd name="textAreaRight" fmla="*/ 357480 w 1266120"/>
                  <a:gd name="textAreaTop" fmla="*/ 420480 h 1093680"/>
                  <a:gd name="textAreaBottom" fmla="*/ 109404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Line 92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" name="Line 93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dipres.cl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bcn.cl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827360"/>
            <a:ext cx="73803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promover el bien común”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para lo cual debe contribuir a crear condiciones sociales”… que permitan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la mayor realización espiritual y material posible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.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 asegurar derecho de las personas a participar con igualdad de oportunidades en la vida nacional 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(art.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descentralizada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actuar válida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Responder civil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12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DERECHO DE PROPIEDAD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RECURSO DE PROTECCIÓN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27664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: Los “Poderes del Estado”…o la teoría de los “pesos y contrapesos”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2381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gobierno y la administración del Estad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organización básica del Estado”, y “la carrera funcionaria”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3284640"/>
            <a:ext cx="138276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0" y="5018040"/>
            <a:ext cx="1476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</cp:lastModifiedBy>
  <dcterms:modified xsi:type="dcterms:W3CDTF">2010-08-26T16:54:22Z</dcterms:modified>
  <cp:revision>10</cp:revision>
  <dc:subject/>
  <dc:title>Macrosistemas, Estructuras del y Funciones del Estado.</dc:title>
</cp:coreProperties>
</file>