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12E87B-BB68-4008-899C-B10F21EB50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941C99-8C92-4E41-A012-1FB8BBC594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30DD0A-B1D6-4129-9A71-33C6E8F7CF5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85BA3F-5022-4034-9F05-47A334FFD6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59F7B4-92FD-4B2D-872D-89A6617C901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F8310F-3260-4594-831B-24343D8343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65037F-B73D-4B75-884A-7E27F5BB85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8623AD-D853-40C3-B057-907DAB9ED1A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4CE7AA-80AA-48BF-9418-799AD698B7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079840-0296-4EF8-B134-ACBFF7EA66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340E8F-E949-4967-B911-1DBA2D2F0FA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07AA8E-2CEC-4C88-A9B6-F5DD3849F0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239AE6-06DF-40D2-8295-D43E51D79B8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E62028-B65C-415E-94A3-B0DCBDA863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3A5EF3-3900-45C5-A8C7-299534D45F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8CD366-BEDA-4946-A702-2973A37814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972F26-AC00-4FBF-ACCE-4E423A369FF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9B3C2B-D084-40FE-82EF-EBA65FD4373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CE008E-A52D-4B1A-A88B-09A2F3CA09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3F9FFE-EA42-4228-99DF-5E7EAEE964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2AC88E-516D-493B-9221-174521DA43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8C64C2-22F8-4378-A252-ADC3CDBAEC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0E08D8-9FDA-4C46-8348-FF277BCD2F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AD43CA-55FF-425E-B933-1DE409163BC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0A735F-5E9B-4D07-90BE-CCCD2201E1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9D2-5026-43DA-9BFE-58545274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A16-5017-4187-B34C-01603B7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9C3-FAAC-405D-B73F-2DC700A9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847-4D78-4C0D-99F4-544360F9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F61-E22F-4013-9A1A-79D14DA3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48E-19F8-4E73-842F-C8D295A4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492-70E0-426E-A9E0-C601B58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3FC-2351-4A5A-8A0B-FD7B48B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BA6-1CC0-4DB9-9F47-039372C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102-1C97-4F62-BE5D-98D4C053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F636-D6EC-485C-B8FD-D6E5038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9B2-49DD-42FE-BBA7-0BAEF89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7675-35FB-4A78-80C7-83E1E7D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603-F469-4E4A-9ACB-1E74F8FC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471-FDC7-4F2A-8075-0BE98E1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E7C3-3AAA-4A81-891E-5BD85E70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FC6-9ED4-4CED-8A6C-0BCDF716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D69-E503-4A33-9069-AC3F22D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69C-351D-4901-B6B2-9EEFF365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03A-8786-4C11-AEA3-94D7AF7A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0ED-A37F-457D-925C-CA469B3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A0F-4FE3-431B-A33A-7CA19AD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F30-3D9B-4BFC-8133-1798A880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5BC-4E31-4C40-8595-3D9E62E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10D0-70F9-4693-BB04-D7F0143160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9043-228D-4DF7-9556-4228647C7E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Hay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6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6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13400 w 456840"/>
                  <a:gd name="textAreaRight" fmla="*/ 402480 w 456840"/>
                  <a:gd name="textAreaTop" fmla="*/ 210240 h 384120"/>
                  <a:gd name="textAreaBottom" fmla="*/ 3380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9257"/>
                    </a:lnTo>
                    <a:lnTo>
                      <a:pt x="11845" y="9257"/>
                    </a:lnTo>
                    <a:lnTo>
                      <a:pt x="11845" y="11845"/>
                    </a:lnTo>
                    <a:lnTo>
                      <a:pt x="9257" y="11845"/>
                    </a:lnTo>
                    <a:lnTo>
                      <a:pt x="9257" y="9257"/>
                    </a:lnTo>
                    <a:lnTo>
                      <a:pt x="0" y="15429"/>
                    </a:lnTo>
                    <a:lnTo>
                      <a:pt x="9257" y="21600"/>
                    </a:lnTo>
                    <a:lnTo>
                      <a:pt x="9257" y="19012"/>
                    </a:lnTo>
                    <a:lnTo>
                      <a:pt x="19012" y="19012"/>
                    </a:lnTo>
                    <a:lnTo>
                      <a:pt x="19012" y="9257"/>
                    </a:lnTo>
                    <a:lnTo>
                      <a:pt x="21600" y="92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57240 w 402840"/>
                  <a:gd name="textAreaRight" fmla="*/ 345600 w 402840"/>
                  <a:gd name="textAreaTop" fmla="*/ 260640 h 456840"/>
                  <a:gd name="textAreaBottom" fmla="*/ 3916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39960 w 281880"/>
                  <a:gd name="textAreaRight" fmla="*/ 241920 w 281880"/>
                  <a:gd name="textAreaTop" fmla="*/ 230400 h 402480"/>
                  <a:gd name="textAreaBottom" fmla="*/ 34524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9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custGeom>
                <a:avLst/>
                <a:gdLst>
                  <a:gd name="textAreaLeft" fmla="*/ 0 w 1284480"/>
                  <a:gd name="textAreaRight" fmla="*/ 363600 w 128448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custGeom>
                <a:avLst/>
                <a:gdLst>
                  <a:gd name="textAreaLeft" fmla="*/ -360 w 1266120"/>
                  <a:gd name="textAreaRight" fmla="*/ 357480 w 126612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827360"/>
            <a:ext cx="73803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”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.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RECURSO DE PROTECCIÓN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3284640"/>
            <a:ext cx="13827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5018040"/>
            <a:ext cx="1476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</cp:lastModifiedBy>
  <dcterms:modified xsi:type="dcterms:W3CDTF">2010-08-26T16:54:22Z</dcterms:modified>
  <cp:revision>10</cp:revision>
  <dc:subject/>
  <dc:title>Macrosistemas, Estructuras del y Funciones del Estado.</dc:title>
</cp:coreProperties>
</file>