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928C4-9C8E-400E-BFAB-C13B30BAB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FE526-5029-4968-B359-61816F5DB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DD173-A4C3-40E3-9077-5933E396D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9D415-057E-4679-8A34-14EC38CDF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26DD9-87F9-43CF-87DB-96C36024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62AE6-4459-4FB7-83F1-B645B649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52FBF-0627-4CDE-888B-06EA0863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9964F-6AF4-45B3-8E52-EECBFC74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09517-0CEC-4E1B-8159-607F28B1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27B79-8DBC-4FDA-997D-701EA005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44CD6-F57D-480C-B2D8-967CE56D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A644F-5D97-4CE5-B187-633904B05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8518E-F828-4C64-A2BC-23048AAC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ADB90-B5A3-465D-B2CC-5B96049E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9F685-6721-4337-848D-9D86E5BF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39495-2E6D-40AC-B144-64F2DD9E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57D3D-67B2-4749-9CAD-69399FFE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09F61-454D-43AD-AA18-7A98B3132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4DD7F-F8B1-4FBD-B855-3CD54561D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159C3-384D-4554-8A19-9AC92A2FF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7D1BA-D3B0-41B2-BD56-3A6002210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E3376-11F3-4ABE-8B31-40778C883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DF6B8-4383-428C-8B13-2568548E9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1A4F8-6D8E-4AEF-9651-6B46897E4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4912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1073-5175-4AAA-8DC5-6C05A8BB5AF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6ECF-0D10-4C83-A680-0E868951EF90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37339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itulo : Selección del Proceso Produc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BCC4-5E7E-4C6B-8478-5DEC88AE65C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23840" y="1341360"/>
            <a:ext cx="90201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0B07-94D7-43B1-8AD7-51CEC4E6848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96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2958-F021-4BFC-83D2-4E77E0AF4B6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702E-52FC-447A-BED2-0B808D8EE64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65240" y="1125360"/>
            <a:ext cx="851040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E05B-24E4-4966-A080-41DEB631597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A Ped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laborados de acuerdo a especificaciones del cliente (fecha, precio, etc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especif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aur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st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fombras Tej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FA70-982E-4FD2-B843-CD99664002E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ara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son elaborados para venta por stock contr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 (ventas no cumplid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V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c Dona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opa en Ti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00D9-BF36-45A5-A23F-5ADD4B736D6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conveni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r pedidos e invent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poner el ensamble d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r inventario de producto genér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Caso Benett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0D36-2E8C-49CE-A63A-9B810C9E591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querimientos de capital y costos de op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en línea requiere mayor costo de capital, pero menor costo opera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Condicione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umen alto lleva a un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ompetencia puede exigir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ponibilidad, costo y habilidades de la mano de ob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slado de industrias a países en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C331-2F65-4230-9D64-1495C569F94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apacidad administrat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bcontratación de algunos procesos (ejemplo: transpor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Disponibilidad y precio de la materia pri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necesita suministro continuo de insu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Estado de la tecn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tiene mayor riesgo frente a factor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A6CE-77EF-4FB6-ADF6-193B0639830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ctualmente se busca la producción masiva pero flexible (FMS: Sistemas de Manufactura Flex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icicletas en Jap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0ED6-FD23-4A1F-8A60-36322C880C9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selección del proceso productivo corresponde a una decisión de nivel estratég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relaciona fuertemente con el diseño del producto, los volúmenes de producción y las tecnologías utiliz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802F-F248-43E9-95C9-64C172CDE73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Hacia Atrás (a la materia prim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fiabilidad en el suminist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celulo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osq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ena de supermercad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am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esque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8CC9-7CF4-4F40-9A9D-70473811A11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Hacia Adelante (a los mercado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de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acto con 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textil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negocios de vent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operativa de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lant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.                                     productores de leche   =&gt; Col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D53D-4A33-44D7-B1F8-9C71F90033A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gración Vertical a Nivel Glob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tes se hacen en Estados Unidos, son ensambladas en México y se distribuyen desde Estados Uni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s de la Integ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de capital elev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bilidades gerenciales requer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3D8E-4E93-45F5-BC7D-1BF1CACAB59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ste en aprovechar las ventajas comparativas para expandirse a áreas simila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stigio en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istian Dior: perfum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opa, joyas y relo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ad: sk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en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da de rop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ultitienda (Falabell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ltitiend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financi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F8A7-1C18-4938-9F7A-6AFCCBBAEA6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ntaj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pertura de nuevos merc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perfilarse hacia negocios en los cuales se tiene baja exper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395280" y="2421000"/>
            <a:ext cx="201600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84360" y="2708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3057480" y="2421000"/>
            <a:ext cx="201600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059280" y="270828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MIT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6299280" y="2421000"/>
            <a:ext cx="201600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6372360" y="2708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LUJO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2411280" y="3860640"/>
            <a:ext cx="1297080" cy="936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484360" y="4149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4140360" y="3860640"/>
            <a:ext cx="1368360" cy="936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4427640" y="4149720"/>
            <a:ext cx="12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21"/>
          <p:cNvSpPr/>
          <p:nvPr/>
        </p:nvSpPr>
        <p:spPr>
          <a:xfrm flipH="1">
            <a:off x="3203280" y="3357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3851280" y="3357720"/>
            <a:ext cx="649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5857920" y="3860640"/>
            <a:ext cx="1297080" cy="936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5867280" y="3933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ÍNEAS DE ENSAM-BLA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7586640" y="3860640"/>
            <a:ext cx="1368360" cy="936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7572240" y="4149720"/>
            <a:ext cx="14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TINU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27"/>
          <p:cNvSpPr/>
          <p:nvPr/>
        </p:nvSpPr>
        <p:spPr>
          <a:xfrm flipH="1">
            <a:off x="6649560" y="3357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7297560" y="3357720"/>
            <a:ext cx="649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755640" y="5589720"/>
            <a:ext cx="8137440" cy="934920"/>
          </a:xfrm>
          <a:prstGeom prst="leftRightArrow">
            <a:avLst>
              <a:gd name="adj1" fmla="val 50000"/>
              <a:gd name="adj2" fmla="val 17327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3132000" y="587700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olúmenes de produ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31"/>
          <p:cNvSpPr/>
          <p:nvPr/>
        </p:nvSpPr>
        <p:spPr>
          <a:xfrm>
            <a:off x="1476360" y="5877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1476360" y="5877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33"/>
          <p:cNvSpPr/>
          <p:nvPr/>
        </p:nvSpPr>
        <p:spPr>
          <a:xfrm>
            <a:off x="7380360" y="587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25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4A93-2D7F-4332-B902-21623A0AC07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2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ahoma"/>
              </a:rPr>
              <a:t>Proye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abricación de productos únicos o exclus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a o muy pocas un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tividades que deben llevarse a  cabo en un lapso de tiempo  y en secu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: técnicas de administración y proyectos (PERT – CP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eríodos de fabricación largos y altos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jemplo: Construcción casas,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483920"/>
            <a:ext cx="44956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ahoma"/>
              </a:rPr>
              <a:t>Procesos intermit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ca cantidad de productos con mucha varie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tiliza las mismas instalaciones para la producción de distintos produ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quipos y trabajos similares se agrupan en centr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producto pasa por distintos centr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dividen en dos tipos: talleres y lo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465E-53AC-491E-AFEB-C6D2624D742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6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Tahoma"/>
              </a:rPr>
              <a:t>Procesos intermitentes tipo ta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fabrica una cantidad pequeña de un product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racterísticas del producto se ajustan a las exigencias d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n procesos muy flex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lote de producto puede hacerse una sola v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557360"/>
            <a:ext cx="44956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Tahoma"/>
              </a:rPr>
              <a:t>Procesos intermitentes por lo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producen lotes de productos una y otra v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cliente elige entre una amplia variedad de productos, pero no es a med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r lo general los lotes son más grandes que en los talle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lote pasa por distintos centr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39640" y="5013360"/>
            <a:ext cx="8388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En ambos casos la programación de la producción es complej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Indicados en donde hay poca estandarización y volúmenes de producción  no muy al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Requiere especialización de oper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Ejemplos: Garaje, Imprent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5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E25C-E027-423E-BE92-71D9D91752C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468360" y="1628640"/>
            <a:ext cx="770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Tahoma"/>
              </a:rPr>
              <a:t>Procesos de flujo lin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cuencia de operaciones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abricación de grandes volúme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co productos diferentes (procesos poco flexi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lto grado de automatización (los empleados sólo tienen que aprender un número reducido de operaciones sencill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Hay dos tipos: líneas de ensamblaje y procesos continu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6" descr="j0336844"/>
          <p:cNvPicPr/>
          <p:nvPr/>
        </p:nvPicPr>
        <p:blipFill>
          <a:blip r:embed="rId1"/>
          <a:stretch/>
        </p:blipFill>
        <p:spPr>
          <a:xfrm>
            <a:off x="1692360" y="4653000"/>
            <a:ext cx="1944720" cy="1876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j0281149"/>
          <p:cNvPicPr/>
          <p:nvPr/>
        </p:nvPicPr>
        <p:blipFill>
          <a:blip r:embed="rId2"/>
          <a:stretch/>
        </p:blipFill>
        <p:spPr>
          <a:xfrm>
            <a:off x="5003640" y="4581360"/>
            <a:ext cx="2267280" cy="17654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642960" y="35712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6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8BBF-E90D-4329-B7DC-094EE0FF95A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68360" y="1600200"/>
            <a:ext cx="4038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Tahoma"/>
              </a:rPr>
              <a:t>Líneas de ensambla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 fabrican productos discreto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abricación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on más eficientes que los procesos intermiten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ductos técnicamente homogéne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oca variedad de productos. El cliente participa po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j.: Juguetes, circuitos impres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4648320" y="1557360"/>
            <a:ext cx="44956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Tahoma"/>
              </a:rPr>
              <a:t>Procesos continu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empre se ejecutan las mismas operaciones, en las mismas máquinas, para la obtención del mismo produc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ay estandarización y controles de calidad efectivo. Fácil contr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veces los productos no son discre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j.: Petróleo, cerveza, productos químicos a gran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68360" y="4941720"/>
            <a:ext cx="867564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En ambos casos las máquinas se disponen en línea, una tras otra. Equipo especializados, poca flexibilidad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Productos Masivo, estandarizado, barato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Alta inversión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Costo Operacional bajo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5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6F70-1B37-406C-B3EC-0177289C103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4"/>
          <p:cNvSpPr/>
          <p:nvPr/>
        </p:nvSpPr>
        <p:spPr>
          <a:xfrm>
            <a:off x="1332000" y="836640"/>
            <a:ext cx="72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ydian BT"/>
              </a:rPr>
              <a:t>PRODUCT-PROCESS MATRIX </a:t>
            </a:r>
            <a:r>
              <a:rPr b="1" lang="en-US" sz="2000" spc="-1" strike="noStrike">
                <a:solidFill>
                  <a:srgbClr val="000000"/>
                </a:solidFill>
                <a:latin typeface="Lydian BT"/>
              </a:rPr>
              <a:t>(Figure 4.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209680" y="2298600"/>
            <a:ext cx="6153120" cy="437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505320" y="1536840"/>
            <a:ext cx="129528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Low volume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l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standardiz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3657600" y="3137040"/>
            <a:ext cx="990720" cy="955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Prin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Oval 14"/>
          <p:cNvSpPr/>
          <p:nvPr/>
        </p:nvSpPr>
        <p:spPr>
          <a:xfrm>
            <a:off x="4800600" y="3975120"/>
            <a:ext cx="1066680" cy="957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Heav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Equip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Oval 15"/>
          <p:cNvSpPr/>
          <p:nvPr/>
        </p:nvSpPr>
        <p:spPr>
          <a:xfrm>
            <a:off x="6019920" y="4660920"/>
            <a:ext cx="1035000" cy="95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Au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assembl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Oval 16"/>
          <p:cNvSpPr/>
          <p:nvPr/>
        </p:nvSpPr>
        <p:spPr>
          <a:xfrm>
            <a:off x="7162920" y="5575320"/>
            <a:ext cx="990360" cy="95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Sug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Refine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4800600" y="1536840"/>
            <a:ext cx="106668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ow volum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Multi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22"/>
          <p:cNvSpPr/>
          <p:nvPr/>
        </p:nvSpPr>
        <p:spPr>
          <a:xfrm>
            <a:off x="5867280" y="1536840"/>
            <a:ext cx="120672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igher volu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few maj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7086600" y="1536840"/>
            <a:ext cx="14479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High volume, hig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standardization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commodity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25"/>
          <p:cNvSpPr/>
          <p:nvPr/>
        </p:nvSpPr>
        <p:spPr>
          <a:xfrm>
            <a:off x="4572000" y="3898800"/>
            <a:ext cx="414360" cy="27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26"/>
          <p:cNvSpPr/>
          <p:nvPr/>
        </p:nvSpPr>
        <p:spPr>
          <a:xfrm>
            <a:off x="5791320" y="4660920"/>
            <a:ext cx="338040" cy="27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27"/>
          <p:cNvSpPr/>
          <p:nvPr/>
        </p:nvSpPr>
        <p:spPr>
          <a:xfrm>
            <a:off x="6934320" y="5499000"/>
            <a:ext cx="360360" cy="27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" name="Group 47"/>
          <p:cNvGrpSpPr/>
          <p:nvPr/>
        </p:nvGrpSpPr>
        <p:grpSpPr>
          <a:xfrm>
            <a:off x="914400" y="3137040"/>
            <a:ext cx="1314000" cy="3504600"/>
            <a:chOff x="914400" y="3137040"/>
            <a:chExt cx="1314000" cy="3504600"/>
          </a:xfrm>
        </p:grpSpPr>
        <p:sp>
          <p:nvSpPr>
            <p:cNvPr id="167" name="Rectangle 30"/>
            <p:cNvSpPr/>
            <p:nvPr/>
          </p:nvSpPr>
          <p:spPr>
            <a:xfrm>
              <a:off x="914400" y="3137040"/>
              <a:ext cx="131400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Job Sho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Rectangle 41"/>
            <p:cNvSpPr/>
            <p:nvPr/>
          </p:nvSpPr>
          <p:spPr>
            <a:xfrm>
              <a:off x="914400" y="4012920"/>
              <a:ext cx="1314000" cy="87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Batch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Rectangle 42"/>
            <p:cNvSpPr/>
            <p:nvPr/>
          </p:nvSpPr>
          <p:spPr>
            <a:xfrm>
              <a:off x="914400" y="4889880"/>
              <a:ext cx="131400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lin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Rectangle 43"/>
            <p:cNvSpPr/>
            <p:nvPr/>
          </p:nvSpPr>
          <p:spPr>
            <a:xfrm>
              <a:off x="914400" y="5765760"/>
              <a:ext cx="131400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Continuou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1" name="AutoShape 44"/>
          <p:cNvSpPr/>
          <p:nvPr/>
        </p:nvSpPr>
        <p:spPr>
          <a:xfrm>
            <a:off x="2228760" y="5003640"/>
            <a:ext cx="2138400" cy="1638360"/>
          </a:xfrm>
          <a:prstGeom prst="rtTriangl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 BT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Constru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Sobre capac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45"/>
          <p:cNvSpPr/>
          <p:nvPr/>
        </p:nvSpPr>
        <p:spPr>
          <a:xfrm flipH="1" flipV="1">
            <a:off x="6161040" y="2408400"/>
            <a:ext cx="2139840" cy="1776240"/>
          </a:xfrm>
          <a:prstGeom prst="rtTriangl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 BT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Empresa pequeñ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que cre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48"/>
          <p:cNvSpPr/>
          <p:nvPr/>
        </p:nvSpPr>
        <p:spPr>
          <a:xfrm>
            <a:off x="2209680" y="1536840"/>
            <a:ext cx="129564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Unique, one 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a kin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49"/>
          <p:cNvSpPr/>
          <p:nvPr/>
        </p:nvSpPr>
        <p:spPr>
          <a:xfrm>
            <a:off x="914400" y="2298600"/>
            <a:ext cx="1295280" cy="83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2362320" y="2451240"/>
            <a:ext cx="990360" cy="8794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Build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51"/>
          <p:cNvSpPr/>
          <p:nvPr/>
        </p:nvSpPr>
        <p:spPr>
          <a:xfrm>
            <a:off x="3276720" y="3060720"/>
            <a:ext cx="414360" cy="27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7" name="28 Conector recto de flecha"/>
          <p:cNvCxnSpPr/>
          <p:nvPr/>
        </p:nvCxnSpPr>
        <p:spPr>
          <a:xfrm>
            <a:off x="3492000" y="6021360"/>
            <a:ext cx="8643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30 Conector recto de flecha"/>
          <p:cNvCxnSpPr/>
          <p:nvPr/>
        </p:nvCxnSpPr>
        <p:spPr>
          <a:xfrm flipH="1">
            <a:off x="7380000" y="270972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EE7B-4EB0-4472-A0E7-A9E8A6B4DED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pre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masiv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tandariza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ambio de producto esta ligado a un cambio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atrasa el avance en los procesos aumentan los costos, si se adelanta se pierde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conveniente moverse sobre la diag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Wolf</cp:lastModifiedBy>
  <cp:lastPrinted>2001-04-12T20:51:56Z</cp:lastPrinted>
  <dcterms:modified xsi:type="dcterms:W3CDTF">2010-08-17T13:14:14Z</dcterms:modified>
  <cp:revision>195</cp:revision>
  <dc:subject/>
  <dc:title>Comercio Electrónico</dc:title>
</cp:coreProperties>
</file>