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730080" y="1279080"/>
            <a:ext cx="3967200" cy="297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hdr"/>
          </p:nvPr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4117680" y="0"/>
            <a:ext cx="2894040" cy="333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35" descr="stern"/>
          <p:cNvPicPr/>
          <p:nvPr/>
        </p:nvPicPr>
        <p:blipFill>
          <a:blip r:embed="rId2"/>
          <a:stretch/>
        </p:blipFill>
        <p:spPr>
          <a:xfrm>
            <a:off x="5794200" y="8934480"/>
            <a:ext cx="1160640" cy="301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700920" y="4415040"/>
            <a:ext cx="5607000" cy="41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66200" y="3377880"/>
            <a:ext cx="59994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7300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03" name="Group 4"/>
          <p:cNvGrpSpPr/>
          <p:nvPr/>
        </p:nvGrpSpPr>
        <p:grpSpPr>
          <a:xfrm>
            <a:off x="4684680" y="1238400"/>
            <a:ext cx="2153880" cy="6895800"/>
            <a:chOff x="4684680" y="1238400"/>
            <a:chExt cx="2153880" cy="6895800"/>
          </a:xfrm>
        </p:grpSpPr>
        <p:sp>
          <p:nvSpPr>
            <p:cNvPr id="304" name="Text Box 5"/>
            <p:cNvSpPr/>
            <p:nvPr/>
          </p:nvSpPr>
          <p:spPr>
            <a:xfrm>
              <a:off x="468720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68468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482256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482256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482256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482256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482256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>
              <a:off x="482256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>
              <a:off x="482256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482256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482256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>
              <a:off x="482256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17"/>
            <p:cNvSpPr/>
            <p:nvPr/>
          </p:nvSpPr>
          <p:spPr>
            <a:xfrm>
              <a:off x="482256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8"/>
            <p:cNvSpPr/>
            <p:nvPr/>
          </p:nvSpPr>
          <p:spPr>
            <a:xfrm>
              <a:off x="482256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9"/>
            <p:cNvSpPr/>
            <p:nvPr/>
          </p:nvSpPr>
          <p:spPr>
            <a:xfrm>
              <a:off x="482256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0"/>
            <p:cNvSpPr/>
            <p:nvPr/>
          </p:nvSpPr>
          <p:spPr>
            <a:xfrm>
              <a:off x="482256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1"/>
            <p:cNvSpPr/>
            <p:nvPr/>
          </p:nvSpPr>
          <p:spPr>
            <a:xfrm>
              <a:off x="482256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22"/>
            <p:cNvSpPr/>
            <p:nvPr/>
          </p:nvSpPr>
          <p:spPr>
            <a:xfrm>
              <a:off x="482256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3"/>
            <p:cNvSpPr/>
            <p:nvPr/>
          </p:nvSpPr>
          <p:spPr>
            <a:xfrm>
              <a:off x="482256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4"/>
            <p:cNvSpPr/>
            <p:nvPr/>
          </p:nvSpPr>
          <p:spPr>
            <a:xfrm>
              <a:off x="482256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25"/>
            <p:cNvSpPr/>
            <p:nvPr/>
          </p:nvSpPr>
          <p:spPr>
            <a:xfrm>
              <a:off x="482256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6"/>
            <p:cNvSpPr/>
            <p:nvPr/>
          </p:nvSpPr>
          <p:spPr>
            <a:xfrm>
              <a:off x="482256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7"/>
            <p:cNvSpPr/>
            <p:nvPr/>
          </p:nvSpPr>
          <p:spPr>
            <a:xfrm>
              <a:off x="482256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28"/>
            <p:cNvSpPr/>
            <p:nvPr/>
          </p:nvSpPr>
          <p:spPr>
            <a:xfrm>
              <a:off x="482256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9"/>
            <p:cNvSpPr/>
            <p:nvPr/>
          </p:nvSpPr>
          <p:spPr>
            <a:xfrm>
              <a:off x="482256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30"/>
            <p:cNvSpPr/>
            <p:nvPr/>
          </p:nvSpPr>
          <p:spPr>
            <a:xfrm>
              <a:off x="482256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44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345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76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377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9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180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7300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14" name="Group 4"/>
          <p:cNvGrpSpPr/>
          <p:nvPr/>
        </p:nvGrpSpPr>
        <p:grpSpPr>
          <a:xfrm>
            <a:off x="4684680" y="1238400"/>
            <a:ext cx="2153880" cy="6895800"/>
            <a:chOff x="4684680" y="1238400"/>
            <a:chExt cx="2153880" cy="6895800"/>
          </a:xfrm>
        </p:grpSpPr>
        <p:sp>
          <p:nvSpPr>
            <p:cNvPr id="215" name="Text Box 5"/>
            <p:cNvSpPr/>
            <p:nvPr/>
          </p:nvSpPr>
          <p:spPr>
            <a:xfrm>
              <a:off x="468720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68468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7"/>
            <p:cNvSpPr/>
            <p:nvPr/>
          </p:nvSpPr>
          <p:spPr>
            <a:xfrm>
              <a:off x="482256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8"/>
            <p:cNvSpPr/>
            <p:nvPr/>
          </p:nvSpPr>
          <p:spPr>
            <a:xfrm>
              <a:off x="482256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482256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0"/>
            <p:cNvSpPr/>
            <p:nvPr/>
          </p:nvSpPr>
          <p:spPr>
            <a:xfrm>
              <a:off x="482256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1"/>
            <p:cNvSpPr/>
            <p:nvPr/>
          </p:nvSpPr>
          <p:spPr>
            <a:xfrm>
              <a:off x="482256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2"/>
            <p:cNvSpPr/>
            <p:nvPr/>
          </p:nvSpPr>
          <p:spPr>
            <a:xfrm>
              <a:off x="482256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3"/>
            <p:cNvSpPr/>
            <p:nvPr/>
          </p:nvSpPr>
          <p:spPr>
            <a:xfrm>
              <a:off x="482256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4"/>
            <p:cNvSpPr/>
            <p:nvPr/>
          </p:nvSpPr>
          <p:spPr>
            <a:xfrm>
              <a:off x="482256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482256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>
              <a:off x="482256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82256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8"/>
            <p:cNvSpPr/>
            <p:nvPr/>
          </p:nvSpPr>
          <p:spPr>
            <a:xfrm>
              <a:off x="482256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482256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20"/>
            <p:cNvSpPr/>
            <p:nvPr/>
          </p:nvSpPr>
          <p:spPr>
            <a:xfrm>
              <a:off x="482256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21"/>
            <p:cNvSpPr/>
            <p:nvPr/>
          </p:nvSpPr>
          <p:spPr>
            <a:xfrm>
              <a:off x="482256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22"/>
            <p:cNvSpPr/>
            <p:nvPr/>
          </p:nvSpPr>
          <p:spPr>
            <a:xfrm>
              <a:off x="482256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23"/>
            <p:cNvSpPr/>
            <p:nvPr/>
          </p:nvSpPr>
          <p:spPr>
            <a:xfrm>
              <a:off x="482256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4"/>
            <p:cNvSpPr/>
            <p:nvPr/>
          </p:nvSpPr>
          <p:spPr>
            <a:xfrm>
              <a:off x="482256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25"/>
            <p:cNvSpPr/>
            <p:nvPr/>
          </p:nvSpPr>
          <p:spPr>
            <a:xfrm>
              <a:off x="482256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26"/>
            <p:cNvSpPr/>
            <p:nvPr/>
          </p:nvSpPr>
          <p:spPr>
            <a:xfrm>
              <a:off x="482256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27"/>
            <p:cNvSpPr/>
            <p:nvPr/>
          </p:nvSpPr>
          <p:spPr>
            <a:xfrm>
              <a:off x="482256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8"/>
            <p:cNvSpPr/>
            <p:nvPr/>
          </p:nvSpPr>
          <p:spPr>
            <a:xfrm>
              <a:off x="482256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9"/>
            <p:cNvSpPr/>
            <p:nvPr/>
          </p:nvSpPr>
          <p:spPr>
            <a:xfrm>
              <a:off x="482256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30"/>
            <p:cNvSpPr/>
            <p:nvPr/>
          </p:nvSpPr>
          <p:spPr>
            <a:xfrm>
              <a:off x="482256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49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250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50C9-F5A4-49B6-AE6B-2706478C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C15-B77C-4AEB-B75C-6114F31A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10C4-28DC-4A3E-9B96-14E6B8E4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55EA-D4AA-4E6C-83A5-BF8D034B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4AA4-4B2D-4CB2-B21C-F4DFBFCD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E9D-B048-422F-A291-9D98F1E0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C60-DD7D-49CA-AFA0-DC5510F4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2A7-974B-4960-B176-60B78DEF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4938-67E3-4931-AE27-BA029217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6BA-C378-4E08-AAF2-E0D4AEE6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747-65D5-4069-8291-56C898DB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9F3-8E13-4F10-90CB-65E15C28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EA42-C709-401E-AC36-276C163DE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9. Gestión de Calidad: Toyota – Ren</a:t>
            </a:r>
            <a:r>
              <a:rPr b="0" lang="es-CL" sz="1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 Caldent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609480"/>
            <a:ext cx="777240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yota Motor Manufactu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Andon Board"/>
          <p:cNvPicPr/>
          <p:nvPr/>
        </p:nvPicPr>
        <p:blipFill>
          <a:blip r:embed="rId1"/>
          <a:stretch/>
        </p:blipFill>
        <p:spPr>
          <a:xfrm>
            <a:off x="3124080" y="2590920"/>
            <a:ext cx="2857680" cy="3246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3204720" y="5802480"/>
            <a:ext cx="27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Garamond"/>
              </a:rPr>
              <a:t>Example of an Andon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61084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Como Determinar el  Numero de Tarjetas Kan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76200" y="3560760"/>
                <a:ext cx="844380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manda Esperada durante lead time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ventario Segurida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maño Contenedo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Rectangle 5"/>
          <p:cNvSpPr/>
          <p:nvPr/>
        </p:nvSpPr>
        <p:spPr>
          <a:xfrm>
            <a:off x="609480" y="2286000"/>
            <a:ext cx="7391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Garamond"/>
              </a:rPr>
              <a:t>k =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umero de tarj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 = Tamaño del 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374760" y="77328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371600" y="1295280"/>
            <a:ext cx="167652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roces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019920" y="1295280"/>
            <a:ext cx="167616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roces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3809880" y="1143000"/>
            <a:ext cx="1600200" cy="838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Times New Roman"/>
              </a:rPr>
              <a:t>W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699000" y="198108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WIP = k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×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3124080" y="1600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5105520" y="1600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7772400" y="1600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5335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380880" y="5397480"/>
            <a:ext cx="853452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 = Demanda promedio del proceso B durante una unidad de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 = Lead time del proceso A para reponer demanda de B (misma unidad de tiem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 = Inventario de seguridad como fracción de la demanda durante el lead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80440" y="312408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0033"/>
                </a:solidFill>
                <a:latin typeface="Palatino Linotype"/>
              </a:rPr>
              <a:t>Número Óptimo de Kan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190440" y="75960"/>
            <a:ext cx="78105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lementos del TPS: Jido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84280" y="1270080"/>
            <a:ext cx="8153280" cy="65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Hacer cualquier problema de producción visible instantáneamente y detener la producción de productos defectu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onstruir calidad en los procesos de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ualquier variación que no agregue valor es un “desperdici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Valor es definido desde el punto de vista del cliente: la próxima estación de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Estandarizar procesos y documentar los estánd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Diagramas de Trabajo: tiempo de ciclo, secuencia de tarea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inta de colores para marcar cada etapa del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Cuerda A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Porque detectar problemas donde y cuando ocurr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uáles son los costos y beneficios de tirar la cuer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Paneles A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Señalar problemas a niveles mas altos de control, e.g., Code 1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2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Emple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9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acientemente seleccionar e invertir en educar a l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ntrenamiento person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earn by doing”: </a:t>
            </a:r>
            <a:r>
              <a:rPr b="0" i="1" lang="es-CL" sz="2000" spc="-1" strike="noStrike">
                <a:solidFill>
                  <a:srgbClr val="990033"/>
                </a:solidFill>
                <a:latin typeface="Garamond"/>
              </a:rPr>
              <a:t>mejoramiento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rabajador: entrenado para agregar valor y mejorar los procesos; resolver problemas usando análisis causal y empoderamiento (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Employee Empowerment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íder de Area: el mas experimentado de la zona de trabajo y con mejor capacidad pedagógica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íder de Grupo: Experimentado como líder de área y con mayor conocimiento de T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sistente de Gerente: Mayor conocimiento y hab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ol de los Gerentes: Pensamiento estratégico y no apagar incen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Ka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1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mbiar por algo mej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ejorar los estándares de trabajo, equipos, y otros procesos de producción realizados diari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Eliminar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desperdicios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 siete categor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1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Sobre-producción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5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Bloqueo o Detención de la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. Manipulación Innecesaria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6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Procesos que no agregan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3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Inventario Excesivo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7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Movimientos inefic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4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Correcciones por def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Costo de Parar la Lín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1295280"/>
            <a:ext cx="86868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990033"/>
                </a:solidFill>
                <a:latin typeface="Times New Roman"/>
              </a:rPr>
              <a:t>Si la línea parar durante un ciclo (57sec) ento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0033"/>
                </a:solidFill>
                <a:latin typeface="Times New Roman"/>
              </a:rPr>
              <a:t>el costo sería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valor de un auto $18,5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margen por auto 17% de $18,500 </a:t>
            </a: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$3,14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costo variable del trabajo durante un ciclo </a:t>
            </a: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$0.269 por trabajad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66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or ejemplo, si se para por 1 minuto la sección de Final 1, entonces solo este segmento de la línea se detendr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# de personas en Final 1 =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T / persona-min = ($17/60) * 1.5 = $0.425 por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otal ST/min = 30 * 0.425 = $12.75 por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i la detención es mas larga y afecta toda la línea de ensamblaje, entonces el ST involucra a los 769 empleados = 769 * 0.425 = $327 por minuto (incluyendo team y group leaders) = 1019 * 0.425 = $433 /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5720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Costo de Parar la Lín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Impacto  de la Cuerda And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8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2 andon por trabajador con una sola parada ef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iempo por Turno = 450 min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roductividad = 85-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6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erdida de Trabajo por Turno = 5 a 15% de 450 minuto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22.5 a 67.5 min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nsidere Final 1 con 30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andon = 30*12 = 3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paradas por turno (1 in 12) = 360/12 = 30 pa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6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iempo promedio parado = Tiempo Parado / # Paradas = [22.5/30, 67.5/30] = [0.75, 2.25] mins por par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T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oyota: ha sido investigada y documentada intens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rácticas (como kanbans) han sido copiadas por muchas otras empre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uchas compañías han tratado de desarrollar sus propias versiones de TPS y han fal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azones: No son cultu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Incluso Nissan y Honda no han po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oyota ha introducido exitosamente TPS en USA y Argent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orqué es tan difícil de log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04920" y="54864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coding the DNA of the Toyota Production System” by Steven Spear and Kent Bow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Harvard Business Review  1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60440" y="228600"/>
            <a:ext cx="41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orqué es tan Difíci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12-month share performance"/>
          <p:cNvPicPr/>
          <p:nvPr/>
        </p:nvPicPr>
        <p:blipFill>
          <a:blip r:embed="rId1"/>
          <a:stretch/>
        </p:blipFill>
        <p:spPr>
          <a:xfrm>
            <a:off x="979560" y="1397160"/>
            <a:ext cx="7326360" cy="43941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841320" y="576432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Garamond"/>
              </a:rPr>
              <a:t>WSJ: Sept. 03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60080" y="228600"/>
            <a:ext cx="31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tock de Toyo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314360" y="1320840"/>
            <a:ext cx="68389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-685800" y="330120"/>
            <a:ext cx="476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04920" y="1371600"/>
            <a:ext cx="925344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qué trata el ca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uales son los problemas con la instalación de los asie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Qué debería hacer Doug Fries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Conclusiones de T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51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rabajadores bien Capacitados; Invertir en entrenamiento y estandarización de proc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Integrar calidad en el diseño y en los proces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Integrar a lo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etroalimentación instantánea en caso de problemas. No se deben delegar los problemas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No se debe crear desperdi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ejoramiento continu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3480" y="330120"/>
            <a:ext cx="476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721440" y="1600200"/>
            <a:ext cx="864432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Producción Justo-a-Tiempo (o Just-In-Time (JIT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Jid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Kai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J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0033"/>
                </a:solidFill>
                <a:latin typeface="Garamond"/>
              </a:rPr>
              <a:t>“</a:t>
            </a:r>
            <a:r>
              <a:rPr b="0" lang="es-CL" sz="4400" spc="-1" strike="noStrike">
                <a:solidFill>
                  <a:srgbClr val="990033"/>
                </a:solidFill>
                <a:latin typeface="Garamond"/>
              </a:rPr>
              <a:t>Producir solo lo que se necesite, solo cuanto se necesite, y solo cuando se necesite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3"/>
          <p:cNvSpPr/>
          <p:nvPr/>
        </p:nvSpPr>
        <p:spPr>
          <a:xfrm>
            <a:off x="1219320" y="198108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14479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>
            <a:off x="228600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12408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7"/>
          <p:cNvSpPr/>
          <p:nvPr/>
        </p:nvSpPr>
        <p:spPr>
          <a:xfrm>
            <a:off x="39625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>
            <a:off x="60199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769608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495288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54864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441972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144792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2286000" y="160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F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3124080" y="160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4495680" y="160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A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400800" y="160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28600" y="25146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lan Inicial de Producción (P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1371600" y="3657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IP Revi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0"/>
          <p:cNvSpPr/>
          <p:nvPr/>
        </p:nvSpPr>
        <p:spPr>
          <a:xfrm>
            <a:off x="1676520" y="434340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IP es fijado y pasa a llamarse Orden de Producción de Vehículos (OP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3581280" y="575928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OPV es dividido en planes sema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5029200" y="419112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Ordenes de partes a proveedores y secuencia de producción  diaria para la primera semana de Mayo son fina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5562720" y="3657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reparación de la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6095880" y="251460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roducción para la primera semana de  Ma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68580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6"/>
          <p:cNvSpPr/>
          <p:nvPr/>
        </p:nvSpPr>
        <p:spPr>
          <a:xfrm>
            <a:off x="73152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647712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8"/>
          <p:cNvSpPr/>
          <p:nvPr/>
        </p:nvSpPr>
        <p:spPr>
          <a:xfrm flipV="1">
            <a:off x="17524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9"/>
          <p:cNvSpPr/>
          <p:nvPr/>
        </p:nvSpPr>
        <p:spPr>
          <a:xfrm flipV="1">
            <a:off x="2666880" y="19807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30"/>
          <p:cNvSpPr/>
          <p:nvPr/>
        </p:nvSpPr>
        <p:spPr>
          <a:xfrm>
            <a:off x="3505320" y="2057400"/>
            <a:ext cx="457200" cy="2209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1"/>
          <p:cNvSpPr/>
          <p:nvPr/>
        </p:nvSpPr>
        <p:spPr>
          <a:xfrm flipV="1">
            <a:off x="472428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2"/>
          <p:cNvSpPr/>
          <p:nvPr/>
        </p:nvSpPr>
        <p:spPr>
          <a:xfrm flipV="1">
            <a:off x="533412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3"/>
          <p:cNvSpPr/>
          <p:nvPr/>
        </p:nvSpPr>
        <p:spPr>
          <a:xfrm flipV="1">
            <a:off x="5791320" y="1980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4"/>
          <p:cNvSpPr/>
          <p:nvPr/>
        </p:nvSpPr>
        <p:spPr>
          <a:xfrm flipV="1">
            <a:off x="624852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5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J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ducción JIT : Heijun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6520" y="1143000"/>
            <a:ext cx="831852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Balancear la producción total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Variedad en Mayo 1992: 23 sedan y modelos wagon, 11 colores de exterior, 29 variaciones de interior &amp; 30 opciones adi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ivelar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enor riesgo de inventario obsoles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incronización con ve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7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safíos y Complej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educir tiempos de set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Incorporar programación de la producción en los flujos de material e información en tiempo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Producción JIT : Tarjetas Kanb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019160"/>
            <a:ext cx="8305560" cy="73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ada contenedor de partes tiene una tarjeta Kanban indic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código, descripción, tamaño del batch, dirección de destino,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3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Tarjetas viajan físicamente con el contenedor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Sistema Pull: solo los Kanban inician la producción de par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Flujo de Información inserto dentro del proceso de p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ontrol de Inventario: Nivel de WIP esta ligado al número de Kanb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373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roducción J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31752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5240" y="586728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Sistema Kan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9"/>
          <p:cNvGrpSpPr/>
          <p:nvPr/>
        </p:nvGrpSpPr>
        <p:grpSpPr>
          <a:xfrm>
            <a:off x="257040" y="1143000"/>
            <a:ext cx="8429400" cy="4471560"/>
            <a:chOff x="257040" y="1143000"/>
            <a:chExt cx="8429400" cy="4471560"/>
          </a:xfrm>
        </p:grpSpPr>
        <p:pic>
          <p:nvPicPr>
            <p:cNvPr id="105" name="Picture 20" descr=""/>
            <p:cNvPicPr/>
            <p:nvPr/>
          </p:nvPicPr>
          <p:blipFill>
            <a:blip r:embed="rId1"/>
            <a:stretch/>
          </p:blipFill>
          <p:spPr>
            <a:xfrm>
              <a:off x="461520" y="1173960"/>
              <a:ext cx="8224920" cy="438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1"/>
            <p:cNvSpPr/>
            <p:nvPr/>
          </p:nvSpPr>
          <p:spPr>
            <a:xfrm>
              <a:off x="1954440" y="1143000"/>
              <a:ext cx="1480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2"/>
            <p:cNvSpPr/>
            <p:nvPr/>
          </p:nvSpPr>
          <p:spPr>
            <a:xfrm>
              <a:off x="257040" y="1216080"/>
              <a:ext cx="15202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3"/>
            <p:cNvSpPr/>
            <p:nvPr/>
          </p:nvSpPr>
          <p:spPr>
            <a:xfrm>
              <a:off x="7041600" y="5063760"/>
              <a:ext cx="123516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4"/>
            <p:cNvSpPr/>
            <p:nvPr/>
          </p:nvSpPr>
          <p:spPr>
            <a:xfrm>
              <a:off x="4675320" y="4087080"/>
              <a:ext cx="82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En tránsi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5"/>
            <p:cNvSpPr/>
            <p:nvPr/>
          </p:nvSpPr>
          <p:spPr>
            <a:xfrm>
              <a:off x="1792800" y="2332080"/>
              <a:ext cx="56124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6"/>
            <p:cNvSpPr/>
            <p:nvPr/>
          </p:nvSpPr>
          <p:spPr>
            <a:xfrm>
              <a:off x="5892840" y="237420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7"/>
            <p:cNvSpPr/>
            <p:nvPr/>
          </p:nvSpPr>
          <p:spPr>
            <a:xfrm>
              <a:off x="6897960" y="2869560"/>
              <a:ext cx="6397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28"/>
            <p:cNvSpPr/>
            <p:nvPr/>
          </p:nvSpPr>
          <p:spPr>
            <a:xfrm>
              <a:off x="2785320" y="2841480"/>
              <a:ext cx="6397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9"/>
            <p:cNvSpPr/>
            <p:nvPr/>
          </p:nvSpPr>
          <p:spPr>
            <a:xfrm>
              <a:off x="5499360" y="2095200"/>
              <a:ext cx="11408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30"/>
            <p:cNvSpPr/>
            <p:nvPr/>
          </p:nvSpPr>
          <p:spPr>
            <a:xfrm>
              <a:off x="3895200" y="236016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31"/>
            <p:cNvSpPr/>
            <p:nvPr/>
          </p:nvSpPr>
          <p:spPr>
            <a:xfrm>
              <a:off x="7968600" y="238824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ha83930_1207"/>
          <p:cNvPicPr/>
          <p:nvPr/>
        </p:nvPicPr>
        <p:blipFill>
          <a:blip r:embed="rId1"/>
          <a:stretch/>
        </p:blipFill>
        <p:spPr>
          <a:xfrm>
            <a:off x="2971800" y="838080"/>
            <a:ext cx="5943600" cy="351180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>
            <a:off x="165240" y="71604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Kanban"/>
          <p:cNvPicPr/>
          <p:nvPr/>
        </p:nvPicPr>
        <p:blipFill>
          <a:blip r:embed="rId2"/>
          <a:stretch/>
        </p:blipFill>
        <p:spPr>
          <a:xfrm>
            <a:off x="533520" y="3505320"/>
            <a:ext cx="354960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3733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roducción J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18:47:35Z</dcterms:created>
  <dc:creator>Rene Caldentey</dc:creator>
  <dc:description/>
  <dc:language>en-US</dc:language>
  <cp:lastModifiedBy>Rene Caldentey</cp:lastModifiedBy>
  <dcterms:modified xsi:type="dcterms:W3CDTF">2009-05-27T21:48:02Z</dcterms:modified>
  <cp:revision>44</cp:revision>
  <dc:subject/>
  <dc:title>PowerPoint Presentation</dc:title>
</cp:coreProperties>
</file>