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7E36-52EE-43F1-9448-F5DA46BD3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C312-A749-4087-B7FD-6C4CFFF43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486CF-7455-411E-9074-294C7E953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A23E-8786-4256-A686-12C32EE63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70373-7F2F-4CAB-8060-D1355C897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CCE1B-529B-49C9-A9FE-81EDFF53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81DCB-3440-4098-AB65-7E981FFC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0C7790-EC0C-4A25-B679-FF400CA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4839-30F5-48FF-90A6-05AA059B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C5B1C-C448-49A3-84E9-B1336EE7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1EFA8-AB46-4E12-98B9-A373A92B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6382-E0B4-4A82-B7D4-CBF2481C9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56A59-C19F-45FC-924F-8907DC5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04723-A9C0-4036-A307-A546FE1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8CC2D-0FF7-40CE-B176-65CB0874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8B94-C3A4-423E-8E09-8E21575E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F4C00-3529-4500-9BFA-082FF5B3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62239-CF41-49DE-8CE5-32B4EF004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978A-6CD6-4E62-B3BE-79687EADD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FFD8-5277-41F6-9AFE-1094CC2CA5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2495-5D76-4145-A662-D645A2A58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AB7B-6429-42B4-AD31-0CD275425F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EA2B-8A43-4D99-808C-B50784F98C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6F21-4440-4428-AB82-868D287024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7600">
            <a:off x="5067000" y="62370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00CA-63E7-458F-B8CB-5A09B3716A5E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F9D4-10C0-47D8-8DAD-066A2A810EBC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5053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Logístic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lemas de con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ones con compartimentos para distintos productos: Bancu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igazón cliente-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bordos: camión-tr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E237-1B9F-4A7E-A2D5-C868EA8606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roblema de diseño de flota requiere valores medios de uso y considera demandas de pu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 tener en cuenta el trade-off que existe entre los costos y la calidad del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posible el uso de sim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ransporte está ligado a la localización y a los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BC37-A009-4F6F-81F2-048AEA5598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 de Solució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man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sando mapas, afiches, cartas Gantt, pizarra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por lóg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heurístic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tilización de computa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os a la solución ópt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ciones con heurístic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2BBA-61DA-45A7-900B-FB16C770D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 en Chi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CAM: productos forest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uquicamata: despacho de mineral y last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hilectra: despacho de vehículos de emerg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a El Soldado: transporte de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rraderos Arau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ítimo Alimento Salm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C7107-6DA1-4E3D-BFEC-F968451CD9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pos de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ácticas-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iseño de flot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hículo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 qué tipo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era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vehículos a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te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50755-7885-4253-92F6-9C6E218EF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 de Vehícul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sajer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es (transporte públic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x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vic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u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mergencia méd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ilect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44AA-DC57-418A-919B-B3903CB74D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39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huquicam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osqu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ircui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rre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label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da y vuelta entre orígenes y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ine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6F8C-DB4D-46DC-9BEB-9B700C409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o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vehícul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vehícu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igu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de distinto tipo (costo, capacidad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es Contractu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propi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mayor control y seguridad de servic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hículos subcontratad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rmiten descentralización administrativ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vital en este caso el tema de los contratos (costo real versus costo de contra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B118F-0855-40B4-ABCF-464FB2253F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mixt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hículos propios y subcontratad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 para calcular costos y asegurar el servicio a los clientes más importa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 de Cos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fij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invers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operación (sueldos, patente, etc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variable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1AD0-714C-4F70-BCAC-7FFAA1F00F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pósi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(una o más plant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dest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so madera: puerto, aserraderos, planta de celulosa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terminístic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cást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volumen: C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ocalización: fallas Chilectr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-20772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tiempo de viaje: Shel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558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1CF2B-13F9-48B1-89DC-BAD48F5A5A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cuencia de viaj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últiples por día: Chuquicam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duración de más de un día: Aserraderos Arau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trabaj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n sobre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y distancias de via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ocidos: miner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imados: bosq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eatorios: ciu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D3230-4F78-4BB8-B61F-7B2BD4340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l Problema del Despacho de Vehícul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rea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costos de cont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tiempo de llegada (emergenci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la calidad del servicio (clientes atendidos a tiemp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inimizar el riesgo de no cumplir la 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ximizar beneficio ne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tores adiciona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nas de tiemp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upermercado permite descargar entre 6-8 AM y 21-23 P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hibición de entrar al centro en determinadas ho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ística de Transporte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AB881-B1A0-4DD9-A2F0-5FFEAA759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.................</cp:lastModifiedBy>
  <cp:lastPrinted>2002-04-16T09:14:48Z</cp:lastPrinted>
  <dcterms:modified xsi:type="dcterms:W3CDTF">2009-10-05T22:34:51Z</dcterms:modified>
  <cp:revision>158</cp:revision>
  <dc:subject/>
  <dc:title>Comercio Electrónico</dc:title>
</cp:coreProperties>
</file>