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C199-5D4D-43BF-8E2E-DC9ACD3F9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29C0-1A0D-4309-B46A-8552A427B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813A-5A8B-49DB-9876-162DB2B6F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9831-877D-4ECB-8B26-2601A83CE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C3952-FFF6-4350-A1AC-8F361C9D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B1E2C-B201-45D1-9063-A0F9CF7C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810B2-6029-48BC-B2B4-BD94B123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1698B-969B-473F-975C-68EC6C2A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B8B2C-5688-4E82-9740-E22ABA1B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4DBCE-339A-469A-A882-857507A3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F0CC3-10CB-4AB1-8EAA-0E3E55A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E08B-F905-4169-B2FC-F26BE00AE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5593B-7317-44CD-B978-65E183F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66116-0C2E-4197-8066-6A63C0BF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4EAF5-1780-4E3B-9FF9-FA778B7A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449DA-B993-45CE-BEED-58F27513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FFCD1-DADD-42E9-A5FA-1F3E96D7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8ADA-FC36-40C8-8AE3-37DB00107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8A17-06BF-41FA-A4A0-C393F9015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3E3C-8701-4DF5-BB16-D934A8248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B5E9-36A5-4DF8-9A3D-9D16D5B8E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5710-3FB4-4175-9746-9555491D2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8163-8B64-4673-B356-BE0D47D54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D5FE-2CAB-489C-89BC-8B51D41EC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F430-4AE0-43B9-BA63-6D7D77A8C6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A02E-7439-498B-8C1C-A1876CCF7C60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8A35-59CF-45DB-AA19-F0F7B51BDD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FC05-A035-4075-8EBE-C602F6D5BA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993B-4001-48C4-9037-A79C4784DB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ítimo Alimento Salm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A080-095B-4356-BA14-3697EBCCFE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040B-A0C8-4C02-9E84-940CE22E60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3CDA-1DB6-4565-915D-AFD01794ED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6C45-411E-4EF9-B351-645C0AA5D9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C78F-2BBC-4520-9005-97B2302C08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5B92-7522-4BAC-B2D0-0B6FB99EB5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54C2-E4F5-42E0-AE13-E829455A3C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4442-55B2-4F8D-BFE0-D84E41A545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F9FD-1FD7-4D27-99A1-0B2FF46E91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9-10-05T22:34:51Z</dcterms:modified>
  <cp:revision>158</cp:revision>
  <dc:subject/>
  <dc:title>Comercio Electrónico</dc:title>
</cp:coreProperties>
</file>