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2.wmf" ContentType="image/x-wmf"/>
  <Override PartName="/ppt/media/image22.wmf" ContentType="image/x-wmf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9EF7F-957A-4AC3-9C56-9CCE2702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B2E40-92F0-4D57-B74A-3E7BDF99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B16B0-48DE-49A8-B21E-6FCD1AFAC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ADE0E-A8C7-453E-A0BF-5F7DD41CE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BD3D9-6C88-4776-B7B2-74281FD96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A7AF4-97A6-4521-B998-40CBCA45A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FE2E3-27B8-409B-8CC3-FAE65296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C8B9D-7E97-42EE-894F-A65A3801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95B14-57B5-4854-9078-59EA95CC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37F9A-4C06-454F-85A2-740C4E45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E7F38-DB3F-40C4-9DDB-BFDA75FE5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74BA-6B42-4CDE-922D-7666D438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E4EC6-BDF2-4C17-9103-96E1D353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B092-55D9-47C2-A8B6-57CAFA3CA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D3E3A-0632-43B6-AE55-1C74C0C98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5965A-A9D5-4317-A4E9-3FA0BC532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E2268-4DD5-4F0D-B8B2-E778301F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8DDD0-E6A4-456F-AF48-AD84E7720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816D8-4550-4D76-92F4-D2D2818CF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F3AB-CE17-4536-A412-DEFA8CA35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6DA8C-2E0A-42D7-87FC-6E2F07082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B7141-1049-42BE-B0D2-65D0DAEF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FFF97-BF2A-4486-BB45-8E84B8AB6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649A2-E987-442E-99E8-FC1E47652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76979-DC9A-4F17-85FB-82B27D07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7F362-A93E-4ACD-9E1C-FE42565B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579F0-682E-431E-98F8-ED1475D65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BF65E-552C-492D-BBB0-EB257C58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0ED0C-720A-4961-ADFA-F69971EC7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0F585-9C3D-4FCD-A25C-6D726719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0143-1E0F-469B-B72A-AE3CE335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75B23-8A02-42A3-B3DD-F941978B9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2580D-B5C8-4B0A-91DD-E1AFB6CC9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2F085-8FF5-4ABB-80BD-68095401B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CDD6E-2A7B-4C3F-96D8-97678A91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C373-88B5-475C-A582-21AAA33C6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FAA10-5B94-4EB8-AE1C-E5FB5E5F7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83DFE-0E4C-4F90-BC88-05A010316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D8BE7-D338-434D-A748-D2457A7F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6B90E-3572-475B-909D-EF8A9549C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9A027-FDD6-4500-AB2B-929116EFC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F28B5-240B-4083-B3B9-EAEF9875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031F4-CCB6-4375-AF4E-660BB2866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799EC-04E0-48D8-AC96-E57BE9A0F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345D9-18FB-4EE1-AAAD-814ACEFF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7D0CD-C2AA-49B1-821D-CA3D4D7C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3D2E1-4C6D-465D-9073-5080B90E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4E7D6-F0AF-48E6-A4CF-715B25959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46AB4-BD89-4C79-8591-190E6CB95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C780A-0ACA-4E33-86E9-E4A22F68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71029-036E-4A6C-87C7-8E9104D1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A3FA6-C3E1-4BB2-94FD-05EA7120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5D5F-955C-4468-8E47-99B5A57E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 txBox="1"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55EB0-5DD6-4092-A6AB-EFDB07CE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7676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Program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784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Program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1819440"/>
            <a:ext cx="3757320" cy="473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191304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871640"/>
            <a:ext cx="186192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aramond"/>
              </a:rPr>
              <a:t>Asumo que las cosas no han marchado segun lo planeado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360" y="1066680"/>
            <a:ext cx="57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2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Después que el Proyecto Comenz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198520"/>
            <a:ext cx="8001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onitorea recurs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s, calidad, y presupuest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visar planes y m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curs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 tiempo y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7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4472280" cy="363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2240"/>
            <a:ext cx="8864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lanificación, Programación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1200" y="1295280"/>
            <a:ext cx="2490480" cy="145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1.  Setting go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2.  Defining th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3.  Tying needs into timed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4.  Organizing the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21880" y="2811600"/>
            <a:ext cx="2578680" cy="145836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Project Schedu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1.  Tying resources to specif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2.  Relating activities to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.  Updating and revising o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gular ba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8520" y="1417680"/>
            <a:ext cx="2001240" cy="123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990033"/>
                </a:solidFill>
                <a:uFillTx/>
                <a:latin typeface="Arial Narrow"/>
              </a:rPr>
              <a:t>Time/cost estima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Engineering diagra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Cash flow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33"/>
                </a:solidFill>
                <a:latin typeface="Arial Narrow"/>
              </a:rPr>
              <a:t>Material availability detai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22240" y="3051000"/>
            <a:ext cx="1615680" cy="10018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CPM/PE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antt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lestone cha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ash flow sche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10560" y="4316400"/>
            <a:ext cx="2904840" cy="123012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Project Contro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1.  Monitoring resources, costs, quality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and 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2.  Revising and changing pla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3.  Shifting resources to meet dem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59600" y="4440240"/>
            <a:ext cx="1417320" cy="10018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Arial Narrow"/>
              </a:rPr>
              <a:t>Repor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bud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delayed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 Narrow"/>
              </a:rPr>
              <a:t>slack activ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4863960"/>
            <a:ext cx="749160" cy="292320"/>
          </a:xfrm>
          <a:prstGeom prst="rightArrow">
            <a:avLst>
              <a:gd name="adj1" fmla="val 75000"/>
              <a:gd name="adj2" fmla="val 1281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6640" y="1841400"/>
            <a:ext cx="749520" cy="292320"/>
          </a:xfrm>
          <a:prstGeom prst="rightArrow">
            <a:avLst>
              <a:gd name="adj1" fmla="val 75000"/>
              <a:gd name="adj2" fmla="val 128213"/>
            </a:avLst>
          </a:prstGeom>
          <a:solidFill>
            <a:srgbClr val="9900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3432240"/>
            <a:ext cx="749160" cy="288720"/>
          </a:xfrm>
          <a:prstGeom prst="rightArrow">
            <a:avLst>
              <a:gd name="adj1" fmla="val 75000"/>
              <a:gd name="adj2" fmla="val 12975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6600" y="5649840"/>
            <a:ext cx="125136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Before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11960" y="5653080"/>
            <a:ext cx="1261800" cy="31716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During Proj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480" y="560880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17936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28600" y="13968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safíos en la Gestión de Proye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612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9600" y="990720"/>
            <a:ext cx="64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reguntas que podemos responder usando C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00200"/>
            <a:ext cx="7772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atrasado, adelantado 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i el proyecto debe terminar antes de lo planeado, cuál es la forma de reducir su duración al menor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sta el proyecto sobre o bajo su presupue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emos suficientes recursos para terminar el proyecto a tie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9800" y="152280"/>
            <a:ext cx="6311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304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295280"/>
          <a:ext cx="8229600" cy="5076720"/>
        </p:xfrm>
        <a:graphic>
          <a:graphicData uri="http://schemas.openxmlformats.org/drawingml/2006/table">
            <a:tbl>
              <a:tblPr/>
              <a:tblGrid>
                <a:gridCol w="4470480"/>
                <a:gridCol w="2084400"/>
                <a:gridCol w="1674720"/>
              </a:tblGrid>
              <a:tr h="697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Duración Esper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en mes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Predece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Inmedi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– Do preliminary marke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 – Develop preliminary product desig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 – Do preliminary manufacturing st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 – Evaluate and select best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 – Develop detailed marketing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 – Design manufacturing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 – Develop detailed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 – Build and test prot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 – Finalize product 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 – Or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 – Order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 – Install producti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5404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3520" y="905040"/>
            <a:ext cx="71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royecto de Desarrollo de una Mountain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-763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visión del Proyecto en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600" y="4572000"/>
            <a:ext cx="867708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a carta Gantt muestra el tiempo “mas temprano” de termino del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o, no indica cuales son las actividades “criticas” (es decir, retraso en estas actividades retrasaría todo el proyect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ampoco indica cuales actividades (y cuanto) deben acelerase para terminar el proyecto en un plaz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276880" cy="3432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2286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imes New Roman"/>
              </a:rPr>
              <a:t>Carta Gantt para el Proyecto Mountain Bik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de Activ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1143000"/>
            <a:ext cx="6476760" cy="2271600"/>
            <a:chOff x="1219320" y="1143000"/>
            <a:chExt cx="6476760" cy="2271600"/>
          </a:xfrm>
        </p:grpSpPr>
        <p:sp>
          <p:nvSpPr>
            <p:cNvPr id="166" name=""/>
            <p:cNvSpPr/>
            <p:nvPr/>
          </p:nvSpPr>
          <p:spPr>
            <a:xfrm>
              <a:off x="2648160" y="2895480"/>
              <a:ext cx="391284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No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1676520"/>
              <a:ext cx="106668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40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528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11430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81680" y="21337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16002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13716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19810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1371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5440" y="2368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38680" y="13716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664240" y="1885680"/>
              <a:ext cx="990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86120" y="1514520"/>
              <a:ext cx="1281240" cy="703080"/>
            </a:xfrm>
            <a:custGeom>
              <a:avLst/>
              <a:gdLst/>
              <a:ahLst/>
              <a:rect l="l" t="t" r="r" b="b"/>
              <a:pathLst>
                <a:path w="807" h="443">
                  <a:moveTo>
                    <a:pt x="0" y="0"/>
                  </a:moveTo>
                  <a:lnTo>
                    <a:pt x="807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962520"/>
            <a:ext cx="6477120" cy="2452680"/>
            <a:chOff x="1295280" y="3962520"/>
            <a:chExt cx="6477120" cy="2452680"/>
          </a:xfrm>
        </p:grpSpPr>
        <p:sp>
          <p:nvSpPr>
            <p:cNvPr id="181" name=""/>
            <p:cNvSpPr/>
            <p:nvPr/>
          </p:nvSpPr>
          <p:spPr>
            <a:xfrm>
              <a:off x="2460240" y="4229280"/>
              <a:ext cx="415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6440" y="5896080"/>
              <a:ext cx="3824280" cy="51912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8000"/>
                  </a:solidFill>
                  <a:latin typeface="Garamond"/>
                </a:rPr>
                <a:t>Actividad en el Ar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648320"/>
              <a:ext cx="106704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88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114800"/>
              <a:ext cx="68580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57640" y="5105520"/>
              <a:ext cx="685800" cy="5331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4572000"/>
              <a:ext cx="1066680" cy="5335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362320" y="434340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62320" y="4952880"/>
              <a:ext cx="861840" cy="428760"/>
            </a:xfrm>
            <a:custGeom>
              <a:avLst/>
              <a:gdLst/>
              <a:ahLst/>
              <a:rect l="l" t="t" r="r" b="b"/>
              <a:pathLst>
                <a:path w="543" h="270">
                  <a:moveTo>
                    <a:pt x="0" y="0"/>
                  </a:moveTo>
                  <a:lnTo>
                    <a:pt x="543" y="2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1760" y="5340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15000" y="4343400"/>
              <a:ext cx="99072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40560" y="485748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3160" y="5105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8680" y="3962520"/>
              <a:ext cx="389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00840" y="4952880"/>
              <a:ext cx="41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Palatino Linotype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43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114800" y="495288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562720"/>
            <a:ext cx="68580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434340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24800" y="55720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48720" y="5029200"/>
            <a:ext cx="106668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Tiempos Fundamentales en un Graf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143000"/>
            <a:ext cx="678204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identificamos seis tiem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D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empr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E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emprano (EF = ES +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F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e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LS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omienzo mas Tarde (LS = LF –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00"/>
                </a:solidFill>
                <a:latin typeface="Garamond"/>
              </a:rPr>
              <a:t>ST : Holgura.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áximo tiempo que una actividad puede retrasarse sin aumentar la duración del proyecto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= LS – ES = LF – 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391520" y="1371600"/>
            <a:ext cx="1066680" cy="1371600"/>
            <a:chOff x="7391520" y="1371600"/>
            <a:chExt cx="1066680" cy="1371600"/>
          </a:xfrm>
        </p:grpSpPr>
        <p:sp>
          <p:nvSpPr>
            <p:cNvPr id="209" name=""/>
            <p:cNvSpPr/>
            <p:nvPr/>
          </p:nvSpPr>
          <p:spPr>
            <a:xfrm>
              <a:off x="7534440" y="2133360"/>
              <a:ext cx="762120" cy="60984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(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15320" y="13716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1520" y="17524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57400" y="137448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65720" y="139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39040" y="1785960"/>
              <a:ext cx="4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47720" y="17636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Garamond"/>
                </a:rPr>
                <a:t>L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4513320"/>
            <a:ext cx="3809880" cy="1201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 flipV="1">
            <a:off x="5181480" y="4800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38640" y="5334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6101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584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463392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00880" y="5457960"/>
            <a:ext cx="528840" cy="323640"/>
          </a:xfrm>
          <a:custGeom>
            <a:avLst/>
            <a:gdLst/>
            <a:ahLst/>
            <a:rect l="l" t="t" r="r" b="b"/>
            <a:pathLst>
              <a:path w="333" h="204">
                <a:moveTo>
                  <a:pt x="0" y="204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24680" y="4743360"/>
            <a:ext cx="671400" cy="924120"/>
          </a:xfrm>
          <a:custGeom>
            <a:avLst/>
            <a:gdLst/>
            <a:ahLst/>
            <a:rect l="l" t="t" r="r" b="b"/>
            <a:pathLst>
              <a:path w="423" h="582">
                <a:moveTo>
                  <a:pt x="0" y="0"/>
                </a:moveTo>
                <a:lnTo>
                  <a:pt x="423" y="5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57960" y="3786120"/>
            <a:ext cx="685800" cy="533160"/>
            <a:chOff x="5457960" y="3786120"/>
            <a:chExt cx="685800" cy="533160"/>
          </a:xfrm>
        </p:grpSpPr>
        <p:sp>
          <p:nvSpPr>
            <p:cNvPr id="225" name=""/>
            <p:cNvSpPr/>
            <p:nvPr/>
          </p:nvSpPr>
          <p:spPr>
            <a:xfrm>
              <a:off x="579132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705720" y="3786120"/>
            <a:ext cx="685800" cy="533160"/>
            <a:chOff x="6705720" y="3786120"/>
            <a:chExt cx="685800" cy="533160"/>
          </a:xfrm>
        </p:grpSpPr>
        <p:sp>
          <p:nvSpPr>
            <p:cNvPr id="228" name=""/>
            <p:cNvSpPr/>
            <p:nvPr/>
          </p:nvSpPr>
          <p:spPr>
            <a:xfrm>
              <a:off x="7039080" y="3786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40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486400" y="6172200"/>
            <a:ext cx="685800" cy="533160"/>
            <a:chOff x="5486400" y="6172200"/>
            <a:chExt cx="685800" cy="533160"/>
          </a:xfrm>
        </p:grpSpPr>
        <p:sp>
          <p:nvSpPr>
            <p:cNvPr id="231" name=""/>
            <p:cNvSpPr/>
            <p:nvPr/>
          </p:nvSpPr>
          <p:spPr>
            <a:xfrm>
              <a:off x="581976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8640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734160" y="6172200"/>
            <a:ext cx="685800" cy="533160"/>
            <a:chOff x="6734160" y="6172200"/>
            <a:chExt cx="685800" cy="533160"/>
          </a:xfrm>
        </p:grpSpPr>
        <p:sp>
          <p:nvSpPr>
            <p:cNvPr id="234" name=""/>
            <p:cNvSpPr/>
            <p:nvPr/>
          </p:nvSpPr>
          <p:spPr>
            <a:xfrm>
              <a:off x="7067520" y="61722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34160" y="645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300560" y="4386240"/>
            <a:ext cx="685800" cy="533160"/>
            <a:chOff x="4300560" y="4386240"/>
            <a:chExt cx="685800" cy="533160"/>
          </a:xfrm>
        </p:grpSpPr>
        <p:sp>
          <p:nvSpPr>
            <p:cNvPr id="237" name=""/>
            <p:cNvSpPr/>
            <p:nvPr/>
          </p:nvSpPr>
          <p:spPr>
            <a:xfrm>
              <a:off x="4633920" y="4386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0560" y="4667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8029440" y="4438800"/>
            <a:ext cx="685800" cy="533160"/>
            <a:chOff x="8029440" y="4438800"/>
            <a:chExt cx="685800" cy="533160"/>
          </a:xfrm>
        </p:grpSpPr>
        <p:sp>
          <p:nvSpPr>
            <p:cNvPr id="240" name=""/>
            <p:cNvSpPr/>
            <p:nvPr/>
          </p:nvSpPr>
          <p:spPr>
            <a:xfrm>
              <a:off x="8362800" y="4438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29440" y="4719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70640" y="4038480"/>
            <a:ext cx="15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00"/>
                </a:solidFill>
                <a:latin typeface="Palatino Linotype"/>
              </a:rPr>
              <a:t>Ejemplo</a:t>
            </a:r>
            <a:r>
              <a:rPr b="1" lang="en-US" sz="2400" spc="-1" strike="noStrike">
                <a:solidFill>
                  <a:srgbClr val="99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65160"/>
            <a:ext cx="64771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ritical Path Method (CP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90920" y="1397160"/>
            <a:ext cx="3267000" cy="2149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77080" y="838080"/>
            <a:ext cx="53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Palatino Linotype"/>
              </a:rPr>
              <a:t>Ejemplo: FCN Securities Demo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24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353960" y="3760920"/>
            <a:ext cx="5334120" cy="2617560"/>
            <a:chOff x="1353960" y="3760920"/>
            <a:chExt cx="5334120" cy="2617560"/>
          </a:xfrm>
        </p:grpSpPr>
        <p:sp>
          <p:nvSpPr>
            <p:cNvPr id="270" name=""/>
            <p:cNvSpPr/>
            <p:nvPr/>
          </p:nvSpPr>
          <p:spPr>
            <a:xfrm>
              <a:off x="2814480" y="3773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5600" y="397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20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5396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8780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6856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7120" y="376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87880" y="396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97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304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78520" y="470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9280" y="4902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5680" y="5589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06800" y="5789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40280" y="599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21400" y="6197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0120" y="447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30880" y="4673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279080" y="3870360"/>
            <a:ext cx="5553000" cy="2608200"/>
            <a:chOff x="1279080" y="3870360"/>
            <a:chExt cx="5553000" cy="2608200"/>
          </a:xfrm>
        </p:grpSpPr>
        <p:sp>
          <p:nvSpPr>
            <p:cNvPr id="289" name=""/>
            <p:cNvSpPr/>
            <p:nvPr/>
          </p:nvSpPr>
          <p:spPr>
            <a:xfrm>
              <a:off x="2520720" y="38829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9840" y="3886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9080" y="4583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8560" y="45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9368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43160" y="3873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13000" y="3870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2400" y="38736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556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04720" y="481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84400" y="48117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3800" y="4815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1920" y="5699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0960" y="5702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88920" y="61070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5560" y="61102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06320" y="45831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95400" y="4586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74400" y="3657600"/>
            <a:ext cx="7856640" cy="2608200"/>
            <a:chOff x="1274400" y="3657600"/>
            <a:chExt cx="7856640" cy="2608200"/>
          </a:xfrm>
        </p:grpSpPr>
        <p:sp>
          <p:nvSpPr>
            <p:cNvPr id="308" name=""/>
            <p:cNvSpPr/>
            <p:nvPr/>
          </p:nvSpPr>
          <p:spPr>
            <a:xfrm>
              <a:off x="2515680" y="36702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5160" y="3673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4400" y="4370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3520" y="4373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8900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120" y="36608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08320" y="3657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7360" y="3660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509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040" y="46022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9720" y="4599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018760" y="46022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6880" y="54864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360" y="5489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1480" y="58942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90960" y="58975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03080" y="4370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90360" y="43736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6400" y="4484520"/>
              <a:ext cx="193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8000"/>
                  </a:solidFill>
                  <a:latin typeface="Garamond"/>
                </a:rPr>
                <a:t>Duración</a:t>
              </a:r>
              <a:r>
                <a:rPr b="1" lang="en-US" sz="2000" spc="-1" strike="noStrike">
                  <a:solidFill>
                    <a:srgbClr val="008000"/>
                  </a:solidFill>
                  <a:latin typeface="Garamond"/>
                </a:rPr>
                <a:t> = 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295280" y="4191120"/>
            <a:ext cx="7010640" cy="2063520"/>
            <a:chOff x="1295280" y="4191120"/>
            <a:chExt cx="7010640" cy="2063520"/>
          </a:xfrm>
        </p:grpSpPr>
        <p:sp>
          <p:nvSpPr>
            <p:cNvPr id="328" name=""/>
            <p:cNvSpPr/>
            <p:nvPr/>
          </p:nvSpPr>
          <p:spPr>
            <a:xfrm>
              <a:off x="1295280" y="49402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5276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493380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14600" y="577836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3480" y="419112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49880" y="49528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9360" y="5797440"/>
              <a:ext cx="5335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4952880"/>
              <a:ext cx="53352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43800" y="4927680"/>
              <a:ext cx="76212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58960" y="4489560"/>
              <a:ext cx="80640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28800" y="5181480"/>
              <a:ext cx="6858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2480" y="5334120"/>
              <a:ext cx="78768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441972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4419720"/>
              <a:ext cx="72396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481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5181480"/>
              <a:ext cx="12952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48120" y="60260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68840" y="4527720"/>
              <a:ext cx="67968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5194440"/>
              <a:ext cx="8380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486400" y="5333760"/>
              <a:ext cx="21337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44440" y="152280"/>
            <a:ext cx="859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rafo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5680" y="152280"/>
            <a:ext cx="2463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287360"/>
            <a:ext cx="807696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Técnicas de Gest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ción de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rontera Eficiente: Costo vs.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valuación de Proy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Gest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ontrol de Incert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erformance Evaluation Review Technique (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6720" y="19080"/>
            <a:ext cx="75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 de Método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040" y="704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801720"/>
            <a:ext cx="7772400" cy="64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Seis </a:t>
            </a:r>
            <a:r>
              <a:rPr b="1" i="1" lang="es-CL" sz="2800" spc="-1" strike="noStrike">
                <a:solidFill>
                  <a:srgbClr val="990033"/>
                </a:solidFill>
                <a:latin typeface="Garamond"/>
              </a:rPr>
              <a:t>tiempos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importantes para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, EF: Inicio y Término mas tempr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S, LF: Inicio y Término mas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: Holgu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For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876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Garamond"/>
              </a:rPr>
              <a:t>Paso “Backwar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Actividades Criticas y Caminos Cri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lgura: ST = LF-EF =LS-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T es cero para las actividades cri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838080" y="3133800"/>
                <a:ext cx="76201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para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Inici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F para todas actividades prede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E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914400" y="4495680"/>
                <a:ext cx="68594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F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EF    for </m:t>
                              </m:r>
                              <m:r>
                                <m:t xml:space="preserve">Nodo</m:t>
                              </m:r>
                              <m:r>
                                <m:t xml:space="preserve">F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sin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S de todas las actividades sucesoras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&amp;   L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F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Frontera Eficiente:</a:t>
            </a:r>
            <a:br>
              <a:rPr sz="4400"/>
            </a:br>
            <a:r>
              <a:rPr b="0" lang="es-CL" sz="4400" spc="-1" strike="noStrike">
                <a:solidFill>
                  <a:srgbClr val="ffffff"/>
                </a:solidFill>
                <a:latin typeface="Tahoma"/>
              </a:rPr>
              <a:t>Costos versus Du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60600" y="1987560"/>
            <a:ext cx="583092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3520" y="1143000"/>
            <a:ext cx="81532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“</a:t>
            </a: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Crashing”: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ducir la duración del proyecto asignando más recursos a una o mas actividades cri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Información</a:t>
            </a: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Requerida para análisis Tiempo/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Duración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Estimació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Normal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uración Mínima (Crash)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    Costo Máximo (Cra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90720" y="5245200"/>
          <a:ext cx="746748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245200"/>
                    <a:ext cx="74674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62120" y="5105520"/>
            <a:ext cx="7848360" cy="1066680"/>
          </a:xfrm>
          <a:prstGeom prst="rect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676600" y="2225520"/>
            <a:ext cx="3476520" cy="2425680"/>
          </a:xfrm>
          <a:custGeom>
            <a:avLst/>
            <a:gdLst/>
            <a:ahLst/>
            <a:rect l="l" t="t" r="r" b="b"/>
            <a:pathLst>
              <a:path w="2190" h="1528">
                <a:moveTo>
                  <a:pt x="0" y="0"/>
                </a:moveTo>
                <a:lnTo>
                  <a:pt x="2190" y="1528"/>
                </a:lnTo>
              </a:path>
            </a:pathLst>
          </a:custGeom>
          <a:noFill/>
          <a:ln w="284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3040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7984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368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5312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0320" y="51814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r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1620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128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5724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128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048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81280" y="2225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84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76600" y="2222640"/>
            <a:ext cx="144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3356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41680" y="2190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33560" y="4648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1531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1496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 flipH="1" flipV="1">
            <a:off x="5285880" y="4495680"/>
            <a:ext cx="685800" cy="1526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4142880" y="4038480"/>
            <a:ext cx="1143000" cy="4572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3228840" y="3428640"/>
            <a:ext cx="914400" cy="60948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29000" y="2224080"/>
            <a:ext cx="285480" cy="747720"/>
          </a:xfrm>
          <a:custGeom>
            <a:avLst/>
            <a:gdLst/>
            <a:ahLst/>
            <a:rect l="l" t="t" r="r" b="b"/>
            <a:pathLst>
              <a:path w="180" h="471">
                <a:moveTo>
                  <a:pt x="180" y="4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878120" y="516888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27200" y="5048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51400" y="5172120"/>
            <a:ext cx="13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00840" y="5051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9680" y="5170320"/>
            <a:ext cx="14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080" y="123192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aramond"/>
              </a:rPr>
              <a:t>Costo de la A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28640" y="5124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0496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2864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8200" y="441972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28640" y="222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560" y="1996920"/>
            <a:ext cx="92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Garamond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23960" y="2222640"/>
            <a:ext cx="1800" cy="2806560"/>
          </a:xfrm>
          <a:custGeom>
            <a:avLst/>
            <a:gdLst/>
            <a:ahLst/>
            <a:rect l="l" t="t" r="r" b="b"/>
            <a:pathLst>
              <a:path w="1" h="1768">
                <a:moveTo>
                  <a:pt x="0" y="1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81280" y="2225520"/>
            <a:ext cx="739800" cy="180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lnTo>
                  <a:pt x="46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89040" y="2190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81280" y="464832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00084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62680" y="46195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73480" y="2057400"/>
            <a:ext cx="26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Front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Palatino Linotype"/>
              </a:rPr>
              <a:t>Pareto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02000" y="25146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528" y="0"/>
                </a:moveTo>
                <a:cubicBezTo>
                  <a:pt x="320" y="36"/>
                  <a:pt x="112" y="72"/>
                  <a:pt x="96" y="144"/>
                </a:cubicBezTo>
                <a:cubicBezTo>
                  <a:pt x="80" y="216"/>
                  <a:pt x="448" y="352"/>
                  <a:pt x="432" y="432"/>
                </a:cubicBezTo>
                <a:cubicBezTo>
                  <a:pt x="416" y="512"/>
                  <a:pt x="72" y="592"/>
                  <a:pt x="0" y="62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09800" y="2962440"/>
            <a:ext cx="419040" cy="466560"/>
          </a:xfrm>
          <a:custGeom>
            <a:avLst/>
            <a:gdLst/>
            <a:ahLst/>
            <a:rect l="l" t="t" r="r" b="b"/>
            <a:pathLst>
              <a:path w="264" h="294">
                <a:moveTo>
                  <a:pt x="0" y="0"/>
                </a:moveTo>
                <a:lnTo>
                  <a:pt x="264" y="294"/>
                </a:ln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228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Relación Tiempo/Costo en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52280" y="26676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timación de Tiempos y Costos – Proyecto Mountain B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9480" y="1143000"/>
          <a:ext cx="7925040" cy="5027760"/>
        </p:xfrm>
        <a:graphic>
          <a:graphicData uri="http://schemas.openxmlformats.org/drawingml/2006/table">
            <a:tbl>
              <a:tblPr/>
              <a:tblGrid>
                <a:gridCol w="881280"/>
                <a:gridCol w="1027080"/>
                <a:gridCol w="1027080"/>
                <a:gridCol w="806400"/>
                <a:gridCol w="1174680"/>
                <a:gridCol w="1687680"/>
                <a:gridCol w="1320840"/>
              </a:tblGrid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Time (mont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Normal Cost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rash Co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Maximum Months Avai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33"/>
                          </a:solidFill>
                          <a:latin typeface="Arial Narrow"/>
                        </a:rPr>
                        <a:t>Cost/Month (‘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872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 w="13680">
                      <a:solidFill>
                        <a:srgbClr val="990033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 w="9360">
                      <a:solidFill>
                        <a:srgbClr val="990033"/>
                      </a:solidFill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990033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1824120" y="610092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otal = 26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4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45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45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46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46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47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47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48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48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4118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3868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49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402960" y="1663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49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47892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50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79328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20320" y="3246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812360" y="3259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8920" y="3625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93360" y="36133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02960" y="1879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18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29444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273240" y="3505320"/>
            <a:ext cx="7917120" cy="3100320"/>
            <a:chOff x="273240" y="3505320"/>
            <a:chExt cx="7917120" cy="3100320"/>
          </a:xfrm>
        </p:grpSpPr>
        <p:sp>
          <p:nvSpPr>
            <p:cNvPr id="534" name=""/>
            <p:cNvSpPr/>
            <p:nvPr/>
          </p:nvSpPr>
          <p:spPr>
            <a:xfrm>
              <a:off x="6192720" y="5703840"/>
              <a:ext cx="152640" cy="15228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9040" y="585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544400" y="578016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1523880" y="3556080"/>
              <a:ext cx="20880" cy="26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544760" y="623736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11920" y="5851440"/>
              <a:ext cx="13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Du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3240" y="3505320"/>
              <a:ext cx="131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Cos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33"/>
                  </a:solidFill>
                  <a:latin typeface="Garamond"/>
                </a:rPr>
                <a:t>Proy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3400" y="5562720"/>
              <a:ext cx="69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26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64840" y="6237360"/>
              <a:ext cx="69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80440" y="4114800"/>
            <a:ext cx="336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Garamond"/>
              </a:rPr>
              <a:t>Camino Crít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7300440" y="4444920"/>
            <a:ext cx="1637640" cy="1348560"/>
            <a:chOff x="7300440" y="4444920"/>
            <a:chExt cx="1637640" cy="1348560"/>
          </a:xfrm>
        </p:grpSpPr>
        <p:sp>
          <p:nvSpPr>
            <p:cNvPr id="545" name=""/>
            <p:cNvSpPr/>
            <p:nvPr/>
          </p:nvSpPr>
          <p:spPr>
            <a:xfrm>
              <a:off x="7466040" y="4444920"/>
              <a:ext cx="380880" cy="381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7686000" y="4800600"/>
              <a:ext cx="484200" cy="368280"/>
            </a:xfrm>
            <a:custGeom>
              <a:avLst/>
              <a:gdLst/>
              <a:ahLst/>
              <a:rect l="l" t="t" r="r" b="b"/>
              <a:pathLst>
                <a:path w="305" h="232">
                  <a:moveTo>
                    <a:pt x="0" y="232"/>
                  </a:moveTo>
                  <a:cubicBezTo>
                    <a:pt x="16" y="203"/>
                    <a:pt x="62" y="64"/>
                    <a:pt x="99" y="55"/>
                  </a:cubicBezTo>
                  <a:cubicBezTo>
                    <a:pt x="136" y="46"/>
                    <a:pt x="190" y="189"/>
                    <a:pt x="224" y="180"/>
                  </a:cubicBezTo>
                  <a:cubicBezTo>
                    <a:pt x="258" y="171"/>
                    <a:pt x="288" y="37"/>
                    <a:pt x="30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0440" y="5089680"/>
              <a:ext cx="163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Activida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Garamond"/>
                </a:rPr>
                <a:t>más Bar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6356160" y="888840"/>
            <a:ext cx="29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= 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579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585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590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595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600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605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610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615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01660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8840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620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30100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625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6602400" y="1663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891120" y="1657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630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68160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992640" y="3416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635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92000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07360" y="302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319960" y="3246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939080" y="325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3680" y="11304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94080" y="1128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97600" y="18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81600" y="3625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92640" y="36385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02400" y="187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233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452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29632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20876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747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10520" y="4114800"/>
            <a:ext cx="3363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 Crít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-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45440" y="888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0" y="4495680"/>
            <a:ext cx="38088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714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720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725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730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735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740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745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750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755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760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840" y="16574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765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770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79960" y="587520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4360" y="352908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289120" y="394956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93040" y="4292640"/>
            <a:ext cx="38088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853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859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864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869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874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879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884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889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894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899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904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993360" y="341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909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785700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46160" y="365760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8920" y="3638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5700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7876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04840" y="4038480"/>
            <a:ext cx="343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   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20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49800" y="4379760"/>
            <a:ext cx="38124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455840"/>
            <a:ext cx="77724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Una unidad, mediano-largo plazo (meses o añ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No es repetitivos como procesos 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uchas actividades interrelacion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ifícil de planificar y contr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quipos de us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nque alto grado de especialización en algunas á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5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lto grado de especialización en e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152280"/>
            <a:ext cx="5664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Qué es un Proyect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549440" y="5411880"/>
            <a:ext cx="3774960" cy="1440"/>
          </a:xfrm>
          <a:custGeom>
            <a:avLst/>
            <a:gdLst/>
            <a:ahLst/>
            <a:rect l="l" t="t" r="r" b="b"/>
            <a:pathLst>
              <a:path w="2378" h="1">
                <a:moveTo>
                  <a:pt x="2378" y="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2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997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36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003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19232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63760" y="1268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008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164304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144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013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227664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54808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018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429588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67320" y="179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023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436428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35720" y="882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028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370692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7872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033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492012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8804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038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5376960" y="164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043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6555240" y="1663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91840" y="1657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048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663120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993360" y="3416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053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785700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307720" y="30211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04040" y="1130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154760" y="11286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97960" y="18813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75680" y="1892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5399280" y="1887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920120" y="3676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95960" y="3664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71016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98196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10280" y="2000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65880" y="1987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132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552760" y="18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18908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460520" y="1461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63836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09800" y="3189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0184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192720" y="570384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69040" y="5856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544400" y="578016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523880" y="3556080"/>
            <a:ext cx="20880" cy="26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44760" y="623736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879960" y="587520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30240" y="4138560"/>
            <a:ext cx="12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Garamond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46080" y="56530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965560" y="6237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5537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08800" y="6235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91320" y="5683320"/>
            <a:ext cx="1440" cy="565200"/>
          </a:xfrm>
          <a:custGeom>
            <a:avLst/>
            <a:gdLst/>
            <a:ahLst/>
            <a:rect l="l" t="t" r="r" b="b"/>
            <a:pathLst>
              <a:path w="1" h="356">
                <a:moveTo>
                  <a:pt x="0" y="0"/>
                </a:moveTo>
                <a:lnTo>
                  <a:pt x="1" y="3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523880" y="5613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52560" y="54118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567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018560" y="3638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85700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07720" y="3224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48440" y="532116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119560" y="62355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321160" y="5483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49320" y="521964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6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19720" y="482616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268520" y="62229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9568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1523880" y="48769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36720" y="4686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7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328920" y="62247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05320" y="38098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8128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914400" y="37083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5238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517360" y="3886200"/>
            <a:ext cx="346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Garamond"/>
              </a:rPr>
              <a:t>Caminos Crític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    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F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1" lang="en-US" sz="1800" spc="-1" strike="noStrike">
                <a:solidFill>
                  <a:srgbClr val="3333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549760" y="4157640"/>
            <a:ext cx="349560" cy="127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70120" y="8888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1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4038480" y="3763800"/>
            <a:ext cx="4953240" cy="271332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304920" y="21826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(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219320" y="180180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19320" y="2639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2182680"/>
            <a:ext cx="53352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33920" y="11923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95560" y="21686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733920" y="288144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G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43600" y="293364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H(0.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410080" y="2182680"/>
            <a:ext cx="68580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(0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81680" y="21826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781680" y="2881440"/>
            <a:ext cx="533520" cy="5331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K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077320" y="2411280"/>
            <a:ext cx="533160" cy="5335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L(1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8720" y="1258920"/>
            <a:ext cx="761760" cy="4665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054160"/>
            <a:ext cx="44748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2639880"/>
            <a:ext cx="452160" cy="25740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752480" y="2639880"/>
            <a:ext cx="60984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62200" y="204948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3200" y="1501920"/>
            <a:ext cx="976320" cy="757080"/>
          </a:xfrm>
          <a:custGeom>
            <a:avLst/>
            <a:gdLst/>
            <a:ahLst/>
            <a:rect l="l" t="t" r="r" b="b"/>
            <a:pathLst>
              <a:path w="615" h="477">
                <a:moveTo>
                  <a:pt x="0" y="477"/>
                </a:moveTo>
                <a:lnTo>
                  <a:pt x="6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819520" y="2406600"/>
            <a:ext cx="1057320" cy="4680"/>
          </a:xfrm>
          <a:custGeom>
            <a:avLst/>
            <a:gdLst/>
            <a:ahLst/>
            <a:rect l="l" t="t" r="r" b="b"/>
            <a:pathLst>
              <a:path w="666" h="3">
                <a:moveTo>
                  <a:pt x="0" y="3"/>
                </a:moveTo>
                <a:lnTo>
                  <a:pt x="666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743200" y="2639880"/>
            <a:ext cx="984240" cy="489240"/>
          </a:xfrm>
          <a:custGeom>
            <a:avLst/>
            <a:gdLst/>
            <a:ahLst/>
            <a:rect l="l" t="t" r="r" b="b"/>
            <a:pathLst>
              <a:path w="620" h="308">
                <a:moveTo>
                  <a:pt x="0" y="0"/>
                </a:moveTo>
                <a:lnTo>
                  <a:pt x="620" y="308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76800" y="3170160"/>
            <a:ext cx="758880" cy="3168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4040" bIns="-14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442120" y="271620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48160" y="2411280"/>
            <a:ext cx="961920" cy="180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91200" y="2411280"/>
            <a:ext cx="690480" cy="180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15160" y="267804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318440" y="280188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38880" y="165420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305920" y="1730520"/>
            <a:ext cx="1440" cy="68076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267080" y="145404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71440" y="2716200"/>
            <a:ext cx="490680" cy="523800"/>
            <a:chOff x="271440" y="2716200"/>
            <a:chExt cx="490680" cy="523800"/>
          </a:xfrm>
        </p:grpSpPr>
        <p:sp>
          <p:nvSpPr>
            <p:cNvPr id="1146" name=""/>
            <p:cNvSpPr/>
            <p:nvPr/>
          </p:nvSpPr>
          <p:spPr>
            <a:xfrm>
              <a:off x="516960" y="27162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1440" y="29779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554040" y="74916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3920" y="2711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95720" y="27115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1239840" y="1273320"/>
            <a:ext cx="490680" cy="523800"/>
            <a:chOff x="1239840" y="1273320"/>
            <a:chExt cx="490680" cy="523800"/>
          </a:xfrm>
        </p:grpSpPr>
        <p:sp>
          <p:nvSpPr>
            <p:cNvPr id="1152" name=""/>
            <p:cNvSpPr/>
            <p:nvPr/>
          </p:nvSpPr>
          <p:spPr>
            <a:xfrm>
              <a:off x="1485360" y="1273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239840" y="153504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103760" y="1255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451520" y="1243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690560" y="2976480"/>
            <a:ext cx="490680" cy="523800"/>
            <a:chOff x="1690560" y="2976480"/>
            <a:chExt cx="490680" cy="523800"/>
          </a:xfrm>
        </p:grpSpPr>
        <p:sp>
          <p:nvSpPr>
            <p:cNvPr id="1157" name=""/>
            <p:cNvSpPr/>
            <p:nvPr/>
          </p:nvSpPr>
          <p:spPr>
            <a:xfrm>
              <a:off x="1936080" y="29764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90560" y="32382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155448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914840" y="2971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2324160" y="1649520"/>
            <a:ext cx="490320" cy="523800"/>
            <a:chOff x="2324160" y="1649520"/>
            <a:chExt cx="490320" cy="523800"/>
          </a:xfrm>
        </p:grpSpPr>
        <p:sp>
          <p:nvSpPr>
            <p:cNvPr id="1162" name=""/>
            <p:cNvSpPr/>
            <p:nvPr/>
          </p:nvSpPr>
          <p:spPr>
            <a:xfrm>
              <a:off x="2569320" y="16495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324160" y="191124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20068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4844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343400" y="1801800"/>
            <a:ext cx="490680" cy="523800"/>
            <a:chOff x="4343400" y="1801800"/>
            <a:chExt cx="490680" cy="523800"/>
          </a:xfrm>
        </p:grpSpPr>
        <p:sp>
          <p:nvSpPr>
            <p:cNvPr id="1167" name=""/>
            <p:cNvSpPr/>
            <p:nvPr/>
          </p:nvSpPr>
          <p:spPr>
            <a:xfrm>
              <a:off x="4588920" y="1801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343400" y="20635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42184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567680" y="1797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4411800" y="887400"/>
            <a:ext cx="490320" cy="523800"/>
            <a:chOff x="4411800" y="887400"/>
            <a:chExt cx="490320" cy="523800"/>
          </a:xfrm>
        </p:grpSpPr>
        <p:sp>
          <p:nvSpPr>
            <p:cNvPr id="1172" name=""/>
            <p:cNvSpPr/>
            <p:nvPr/>
          </p:nvSpPr>
          <p:spPr>
            <a:xfrm>
              <a:off x="4656960" y="8874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411800" y="11491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42595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720" y="8827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3754440" y="3425760"/>
            <a:ext cx="490680" cy="523800"/>
            <a:chOff x="3754440" y="3425760"/>
            <a:chExt cx="490680" cy="523800"/>
          </a:xfrm>
        </p:grpSpPr>
        <p:sp>
          <p:nvSpPr>
            <p:cNvPr id="1177" name=""/>
            <p:cNvSpPr/>
            <p:nvPr/>
          </p:nvSpPr>
          <p:spPr>
            <a:xfrm>
              <a:off x="3999960" y="342576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54440" y="368748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3611880" y="3421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78360" y="3421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5064120" y="3459240"/>
            <a:ext cx="490680" cy="523800"/>
            <a:chOff x="5064120" y="3459240"/>
            <a:chExt cx="490680" cy="523800"/>
          </a:xfrm>
        </p:grpSpPr>
        <p:sp>
          <p:nvSpPr>
            <p:cNvPr id="1182" name=""/>
            <p:cNvSpPr/>
            <p:nvPr/>
          </p:nvSpPr>
          <p:spPr>
            <a:xfrm>
              <a:off x="5309640" y="34592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64120" y="372096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5033880" y="3454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50240" y="3454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459400" y="1668600"/>
            <a:ext cx="490680" cy="523800"/>
            <a:chOff x="5459400" y="1668600"/>
            <a:chExt cx="490680" cy="523800"/>
          </a:xfrm>
        </p:grpSpPr>
        <p:sp>
          <p:nvSpPr>
            <p:cNvPr id="1187" name=""/>
            <p:cNvSpPr/>
            <p:nvPr/>
          </p:nvSpPr>
          <p:spPr>
            <a:xfrm>
              <a:off x="570492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59400" y="193032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5326560" y="1644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81520" y="1639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705720" y="1668600"/>
            <a:ext cx="490320" cy="523800"/>
            <a:chOff x="6705720" y="1668600"/>
            <a:chExt cx="490320" cy="523800"/>
          </a:xfrm>
        </p:grpSpPr>
        <p:sp>
          <p:nvSpPr>
            <p:cNvPr id="1192" name=""/>
            <p:cNvSpPr/>
            <p:nvPr/>
          </p:nvSpPr>
          <p:spPr>
            <a:xfrm>
              <a:off x="6950880" y="16686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705720" y="19303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6631200" y="1663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929640" y="1657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6800760" y="3421080"/>
            <a:ext cx="490680" cy="523800"/>
            <a:chOff x="6800760" y="3421080"/>
            <a:chExt cx="490680" cy="523800"/>
          </a:xfrm>
        </p:grpSpPr>
        <p:sp>
          <p:nvSpPr>
            <p:cNvPr id="1197" name=""/>
            <p:cNvSpPr/>
            <p:nvPr/>
          </p:nvSpPr>
          <p:spPr>
            <a:xfrm>
              <a:off x="7046280" y="342108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800760" y="3682800"/>
              <a:ext cx="49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678348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993000" y="3416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8115480" y="3025800"/>
            <a:ext cx="490320" cy="523800"/>
            <a:chOff x="8115480" y="3025800"/>
            <a:chExt cx="490320" cy="523800"/>
          </a:xfrm>
        </p:grpSpPr>
        <p:sp>
          <p:nvSpPr>
            <p:cNvPr id="1202" name=""/>
            <p:cNvSpPr/>
            <p:nvPr/>
          </p:nvSpPr>
          <p:spPr>
            <a:xfrm>
              <a:off x="8360640" y="302580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15480" y="3287520"/>
              <a:ext cx="49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8059680" y="302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8307720" y="3021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604040" y="1130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243680" y="1128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97960" y="1881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39400" y="189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335920" y="1887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689440" y="18828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46840" y="3676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258160" y="36640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634200" y="3630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81600" y="36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218480" y="2000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565880" y="19875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192760" y="18558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553120" y="1843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10052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460880" y="14619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6240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910160" y="3189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30400" y="2908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2200" y="29084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7913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77120" y="287820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77088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018560" y="3638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59680" y="3224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307720" y="3224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373440" y="81900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00"/>
                </a:solidFill>
                <a:latin typeface="Garamond"/>
              </a:rPr>
              <a:t>Duración Proyect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Garamond"/>
              </a:rPr>
              <a:t>= 8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291960" y="3851280"/>
            <a:ext cx="3289320" cy="232092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58720" y="8892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609480" y="7873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2280" y="152280"/>
            <a:ext cx="8991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Resumen Construcción Frontera Eficiente (Cras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990720"/>
            <a:ext cx="8534520" cy="67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cada actividad cal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8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sando CPM identific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del proyecto, holguras,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 los Camin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contrar el  </a:t>
            </a:r>
            <a:r>
              <a:rPr b="1" lang="es-CL" sz="2000" spc="-1" strike="noStrike">
                <a:solidFill>
                  <a:srgbClr val="800000"/>
                </a:solidFill>
                <a:latin typeface="Garamond"/>
              </a:rPr>
              <a:t>“conjunto mas barato”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e Actividades Criticas que al ser reducidas su duración se reduce la duración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Garamond"/>
              </a:rPr>
              <a:t>TODOS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los Caminos Crític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r lo máximo que se puede reducir la duración de las actividades del punto 3. Tenga present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 Holgura de actividades que no son criticas puede reducirse mientras reduce la duración de actividades crí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No puede reducir la duración de una actividad por debajo de su duración míni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6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petir los pasos 2-3-4 hasta que encuentre un Camino Critico para el cual todas las actividades estén en su duración mín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5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1168560" y="1467000"/>
                <a:ext cx="62989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 por Unidad de Tiempo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Crash - Costo Norm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 Normal - Tiempo Cras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2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459720" y="228600"/>
            <a:ext cx="39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jemplo: FCN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457200" y="3827520"/>
          <a:ext cx="4038480" cy="196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27520"/>
                    <a:ext cx="40384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2" name=""/>
          <p:cNvSpPr/>
          <p:nvPr/>
        </p:nvSpPr>
        <p:spPr>
          <a:xfrm>
            <a:off x="4708440" y="3836880"/>
            <a:ext cx="42069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Suponga que A termino con tres semans de retraso &amp; que la penalidad por cada semana de retraso es de $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Palatino Linotype"/>
              </a:rPr>
              <a:t>Cuál es la estrategia optima que minimiza los costos de ejecución del proyecto + penalidades?</a:t>
            </a: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3520" y="1295280"/>
            <a:ext cx="7009920" cy="2063520"/>
            <a:chOff x="533520" y="1295280"/>
            <a:chExt cx="7009920" cy="2063520"/>
          </a:xfrm>
        </p:grpSpPr>
        <p:sp>
          <p:nvSpPr>
            <p:cNvPr id="1245" name=""/>
            <p:cNvSpPr/>
            <p:nvPr/>
          </p:nvSpPr>
          <p:spPr>
            <a:xfrm>
              <a:off x="533520" y="20444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A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9064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B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0477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C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752480" y="203796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E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752480" y="288252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H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1360" y="129528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D(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87760" y="2057040"/>
              <a:ext cx="53280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197240" y="2901600"/>
              <a:ext cx="5331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I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2057040"/>
              <a:ext cx="533160" cy="457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G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81680" y="2031840"/>
              <a:ext cx="761760" cy="5331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996840" y="1593720"/>
              <a:ext cx="806040" cy="51408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0" y="324"/>
                  </a:moveTo>
                  <a:lnTo>
                    <a:pt x="508" y="0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066680" y="2285640"/>
              <a:ext cx="6854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990360" y="2438280"/>
              <a:ext cx="787320" cy="583920"/>
            </a:xfrm>
            <a:custGeom>
              <a:avLst/>
              <a:gdLst/>
              <a:ahLst/>
              <a:rect l="l" t="t" r="r" b="b"/>
              <a:pathLst>
                <a:path w="496" h="368">
                  <a:moveTo>
                    <a:pt x="0" y="0"/>
                  </a:moveTo>
                  <a:lnTo>
                    <a:pt x="496" y="3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24160" y="1523880"/>
              <a:ext cx="72324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581280" y="1523880"/>
              <a:ext cx="723600" cy="1440"/>
            </a:xfrm>
            <a:custGeom>
              <a:avLst/>
              <a:gdLst/>
              <a:ahLst/>
              <a:rect l="l" t="t" r="r" b="b"/>
              <a:pathLst>
                <a:path w="456" h="1">
                  <a:moveTo>
                    <a:pt x="0" y="0"/>
                  </a:moveTo>
                  <a:lnTo>
                    <a:pt x="456" y="1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0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14800" y="2285640"/>
              <a:ext cx="1294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286000" y="3130200"/>
              <a:ext cx="19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806720" y="1631880"/>
              <a:ext cx="679320" cy="501480"/>
            </a:xfrm>
            <a:custGeom>
              <a:avLst/>
              <a:gdLst/>
              <a:ahLst/>
              <a:rect l="l" t="t" r="r" b="b"/>
              <a:pathLst>
                <a:path w="428" h="316">
                  <a:moveTo>
                    <a:pt x="0" y="0"/>
                  </a:moveTo>
                  <a:lnTo>
                    <a:pt x="428" y="316"/>
                  </a:lnTo>
                </a:path>
              </a:pathLst>
            </a:custGeom>
            <a:noFill/>
            <a:ln w="38160">
              <a:solidFill>
                <a:srgbClr val="8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943600" y="2298600"/>
              <a:ext cx="8377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724280" y="2437920"/>
              <a:ext cx="2133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7133040" y="10047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9933"/>
                </a:solidFill>
                <a:latin typeface="Garamond"/>
              </a:rPr>
              <a:t>12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2057400" y="106668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33440" y="5472000"/>
            <a:ext cx="28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Palatino Linotype"/>
              </a:rPr>
              <a:t>Duración: 7 sem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6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1520" y="335268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Primera Semana: Reducir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554040" y="7430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7" name=""/>
          <p:cNvGraphicFramePr/>
          <p:nvPr/>
        </p:nvGraphicFramePr>
        <p:xfrm>
          <a:off x="2057400" y="9144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8" name=""/>
          <p:cNvSpPr/>
          <p:nvPr/>
        </p:nvSpPr>
        <p:spPr>
          <a:xfrm>
            <a:off x="1295280" y="4800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62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382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657600" y="45720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648320" y="39625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81680" y="4876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676520" y="426708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5257800"/>
            <a:ext cx="685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95480" y="4191120"/>
            <a:ext cx="175284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9520" y="4419720"/>
            <a:ext cx="8380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191120" y="4952880"/>
            <a:ext cx="83808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971800" y="5257440"/>
            <a:ext cx="2057400" cy="6858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81480" y="4267080"/>
            <a:ext cx="1600200" cy="7621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181480"/>
            <a:ext cx="1218960" cy="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565240" y="542916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8000"/>
                </a:solidFill>
                <a:latin typeface="Garamond"/>
              </a:rPr>
              <a:t>Duración: 5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3320" y="33526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800000"/>
                </a:solidFill>
                <a:latin typeface="Palatino Linotype"/>
              </a:rPr>
              <a:t>Segunda Semana: Reducir A &amp; 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2760" y="34920"/>
            <a:ext cx="523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533520" y="70344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0880" y="4284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Crashing Usando Programacio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-510840" y="974880"/>
            <a:ext cx="890352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ó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 defini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cad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precede 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+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 actividad k que NO tiene sucesor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uración Reque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negativ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fimos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el costo normal de ejecucion d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1240" y="5257800"/>
            <a:ext cx="741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+ (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osto por Unidad de Tiem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1371600" y="5638680"/>
                <a:ext cx="60199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imize Project Excution Cost: Min Z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554040" y="7840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057400" y="955800"/>
          <a:ext cx="5229000" cy="2317680"/>
        </p:xfrm>
        <a:graphic>
          <a:graphicData uri="http://schemas.openxmlformats.org/drawingml/2006/table">
            <a:tbl>
              <a:tblPr/>
              <a:tblGrid>
                <a:gridCol w="936720"/>
                <a:gridCol w="1247760"/>
                <a:gridCol w="1015560"/>
                <a:gridCol w="1013760"/>
                <a:gridCol w="1015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e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shing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$/da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,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3" name=""/>
          <p:cNvSpPr/>
          <p:nvPr/>
        </p:nvSpPr>
        <p:spPr>
          <a:xfrm>
            <a:off x="482760" y="34920"/>
            <a:ext cx="843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sos Patológicos: Solución Usando P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55404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7840" y="254160"/>
            <a:ext cx="767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uál es el VPN de un Proyec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09480" y="936720"/>
            <a:ext cx="8305920" cy="60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 cada actividad del proyecto le podemos asociar un costo de ejecución y un beneficio al completar l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 holgura de las actividad que no son criticas ofrece flexibilidad en su ejecución. Cuándo comenzar esta actividades y qué duración deben tener afecta el VP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osponer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celerar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Además, Crashing ofrece flexibilidad en el ejecució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5680" y="152280"/>
            <a:ext cx="695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 de Proyectos: Bech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143000"/>
            <a:ext cx="80773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y puesta en marcha del sistema de ferroviario entre Londres y el Channel Tunnel (US$4.6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oleoductos entre el mar Caspio y Rusia (US$850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xpansión del aeropuerto de Dubai en los EAU (US$600 millones), y del aeropuerto de Miami en Florida (US$2 mil mill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Construcción de plantas de procesamiento de gas en Yemen y Tri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57200" y="25416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Calculando el VPN de un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-384480" y="990720"/>
            <a:ext cx="1012284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Variables de Decision: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Tiempo de inicio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Duración de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crash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para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max{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+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para todas las actividades k que preceden a la actividad i}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n negativ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990033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Beneficio de completar la actividad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 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sto normal de ejecución de la activida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: Ingreso neto de completar la actividad 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=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(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 baseline="30000">
                <a:solidFill>
                  <a:srgbClr val="000000"/>
                </a:solidFill>
                <a:latin typeface="Garamond"/>
              </a:rPr>
              <a:t>normal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–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rashing Rat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l VPN del proyec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424320" y="5621400"/>
                <a:ext cx="3133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tivities</m:t>
                        </m:r>
                      </m:sub>
                      <m:sup/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20560" y="216000"/>
            <a:ext cx="786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lujos y Presupuesto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380880" y="1224000"/>
            <a:ext cx="83059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85800" y="228600"/>
            <a:ext cx="777240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T</a:t>
            </a:r>
            <a:br>
              <a:rPr sz="44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stión de Proyecto Bajo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04844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241200" y="2746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gram Evaluation and Review Technique (P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44600" y="11430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80880" y="1523880"/>
            <a:ext cx="81536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étodo </a:t>
            </a: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aproximado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ra incorporar la incertidumbre en la estimación de la duración de las activ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Supuestos fuertes en el comportamiento de la incertid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ratamiento simple de la var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Proporciona una visión probilistica de la duración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533520" y="228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cuencia de Paso en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33520" y="1406520"/>
            <a:ext cx="82296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ón Esperada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ara cada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lcular la varianza de la duración de cada actividad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CPM para determinar el camino critico y la </a:t>
            </a:r>
            <a:r>
              <a:rPr b="1" i="1" lang="es-CL" sz="2400" spc="-1" strike="noStrike">
                <a:solidFill>
                  <a:srgbClr val="990033"/>
                </a:solidFill>
                <a:latin typeface="Garamond"/>
              </a:rPr>
              <a:t>Duracion R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del proyecto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mar las varianzas de la ruta critica para determinar la varianza de la duracion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proximar la duración del proyecto como una variable aleatoria Normal con media y varianza según lo calculado en los pasos 3 y 4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863640" y="228600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11360" y="452772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1625760" y="2793960"/>
            <a:ext cx="2971800" cy="1701720"/>
            <a:chOff x="1625760" y="2793960"/>
            <a:chExt cx="2971800" cy="1701720"/>
          </a:xfrm>
        </p:grpSpPr>
        <p:sp>
          <p:nvSpPr>
            <p:cNvPr id="1355" name=""/>
            <p:cNvSpPr/>
            <p:nvPr/>
          </p:nvSpPr>
          <p:spPr>
            <a:xfrm>
              <a:off x="1625760" y="2793960"/>
              <a:ext cx="2971800" cy="1625760"/>
            </a:xfrm>
            <a:custGeom>
              <a:avLst/>
              <a:gdLst/>
              <a:ahLst/>
              <a:rect l="l" t="t" r="r" b="b"/>
              <a:pathLst>
                <a:path w="1872" h="1024">
                  <a:moveTo>
                    <a:pt x="0" y="1024"/>
                  </a:moveTo>
                  <a:cubicBezTo>
                    <a:pt x="76" y="1020"/>
                    <a:pt x="152" y="1016"/>
                    <a:pt x="240" y="880"/>
                  </a:cubicBezTo>
                  <a:cubicBezTo>
                    <a:pt x="328" y="744"/>
                    <a:pt x="448" y="352"/>
                    <a:pt x="528" y="208"/>
                  </a:cubicBezTo>
                  <a:cubicBezTo>
                    <a:pt x="608" y="64"/>
                    <a:pt x="664" y="32"/>
                    <a:pt x="720" y="16"/>
                  </a:cubicBezTo>
                  <a:cubicBezTo>
                    <a:pt x="776" y="0"/>
                    <a:pt x="808" y="48"/>
                    <a:pt x="864" y="112"/>
                  </a:cubicBezTo>
                  <a:cubicBezTo>
                    <a:pt x="920" y="176"/>
                    <a:pt x="984" y="304"/>
                    <a:pt x="1056" y="400"/>
                  </a:cubicBezTo>
                  <a:cubicBezTo>
                    <a:pt x="1128" y="496"/>
                    <a:pt x="1208" y="608"/>
                    <a:pt x="1296" y="688"/>
                  </a:cubicBezTo>
                  <a:cubicBezTo>
                    <a:pt x="1384" y="768"/>
                    <a:pt x="1488" y="832"/>
                    <a:pt x="1584" y="880"/>
                  </a:cubicBezTo>
                  <a:cubicBezTo>
                    <a:pt x="1680" y="928"/>
                    <a:pt x="1776" y="952"/>
                    <a:pt x="1872" y="976"/>
                  </a:cubicBezTo>
                </a:path>
              </a:pathLst>
            </a:custGeom>
            <a:noFill/>
            <a:ln w="284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625760" y="4419720"/>
              <a:ext cx="0" cy="759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97560" y="4343400"/>
              <a:ext cx="0" cy="152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3996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064040" y="4495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35240" y="44956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Likely Ti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76876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971800" y="565164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xpecte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22596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322596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962520" y="1828800"/>
            <a:ext cx="4800600" cy="1600200"/>
          </a:xfrm>
          <a:prstGeom prst="rect">
            <a:avLst/>
          </a:prstGeom>
          <a:solidFill>
            <a:srgbClr val="d5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6" name=""/>
          <p:cNvGraphicFramePr/>
          <p:nvPr/>
        </p:nvGraphicFramePr>
        <p:xfrm>
          <a:off x="4038480" y="1905120"/>
          <a:ext cx="44960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05120"/>
                    <a:ext cx="44960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22860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ERT: Pasos 1 &amp;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28600" y="990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Duración Esperada y Desviación Estándar para cada activ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199840" y="3429000"/>
            <a:ext cx="3400920" cy="368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Palatino Linotype"/>
              </a:rPr>
              <a:t>Supuesto: Distribución B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"/>
          <p:cNvSpPr/>
          <p:nvPr/>
        </p:nvSpPr>
        <p:spPr>
          <a:xfrm>
            <a:off x="533520" y="100332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65240" y="304920"/>
            <a:ext cx="8292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1 &amp; 2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6320" y="1252440"/>
            <a:ext cx="8991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2860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143000" y="14479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43000" y="22860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209680" y="18288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733920" y="138276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895560" y="2359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733920" y="3071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G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43600" y="31240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410080" y="2373480"/>
            <a:ext cx="68580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(1.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81680" y="237348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J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81680" y="30718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8077320" y="26020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848720" y="1449360"/>
            <a:ext cx="761760" cy="46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in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85800" y="1700280"/>
            <a:ext cx="447840" cy="204840"/>
          </a:xfrm>
          <a:custGeom>
            <a:avLst/>
            <a:gdLst/>
            <a:ahLst/>
            <a:rect l="l" t="t" r="r" b="b"/>
            <a:pathLst>
              <a:path w="282" h="129">
                <a:moveTo>
                  <a:pt x="0" y="129"/>
                </a:moveTo>
                <a:lnTo>
                  <a:pt x="28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2286000"/>
            <a:ext cx="452520" cy="257040"/>
          </a:xfrm>
          <a:custGeom>
            <a:avLst/>
            <a:gdLst/>
            <a:ahLst/>
            <a:rect l="l" t="t" r="r" b="b"/>
            <a:pathLst>
              <a:path w="285" h="162">
                <a:moveTo>
                  <a:pt x="0" y="0"/>
                </a:moveTo>
                <a:lnTo>
                  <a:pt x="285" y="1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676520" y="2286000"/>
            <a:ext cx="609480" cy="271440"/>
          </a:xfrm>
          <a:custGeom>
            <a:avLst/>
            <a:gdLst/>
            <a:ahLst/>
            <a:rect l="l" t="t" r="r" b="b"/>
            <a:pathLst>
              <a:path w="384" h="171">
                <a:moveTo>
                  <a:pt x="0" y="171"/>
                </a:move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685880" y="1695600"/>
            <a:ext cx="600120" cy="209520"/>
          </a:xfrm>
          <a:custGeom>
            <a:avLst/>
            <a:gdLst/>
            <a:ahLst/>
            <a:rect l="l" t="t" r="r" b="b"/>
            <a:pathLst>
              <a:path w="378" h="132">
                <a:moveTo>
                  <a:pt x="0" y="0"/>
                </a:moveTo>
                <a:lnTo>
                  <a:pt x="378" y="132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05040" y="1692360"/>
            <a:ext cx="1014480" cy="250920"/>
          </a:xfrm>
          <a:custGeom>
            <a:avLst/>
            <a:gdLst/>
            <a:ahLst/>
            <a:rect l="l" t="t" r="r" b="b"/>
            <a:pathLst>
              <a:path w="639" h="158">
                <a:moveTo>
                  <a:pt x="0" y="158"/>
                </a:moveTo>
                <a:lnTo>
                  <a:pt x="63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133720"/>
            <a:ext cx="1133640" cy="463320"/>
          </a:xfrm>
          <a:custGeom>
            <a:avLst/>
            <a:gdLst/>
            <a:ahLst/>
            <a:rect l="l" t="t" r="r" b="b"/>
            <a:pathLst>
              <a:path w="714" h="292">
                <a:moveTo>
                  <a:pt x="0" y="0"/>
                </a:moveTo>
                <a:lnTo>
                  <a:pt x="714" y="2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692440" y="2260440"/>
            <a:ext cx="1035000" cy="1059120"/>
          </a:xfrm>
          <a:custGeom>
            <a:avLst/>
            <a:gdLst/>
            <a:ahLst/>
            <a:rect l="l" t="t" r="r" b="b"/>
            <a:pathLst>
              <a:path w="652" h="667">
                <a:moveTo>
                  <a:pt x="0" y="0"/>
                </a:moveTo>
                <a:lnTo>
                  <a:pt x="652" y="667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276800" y="3360600"/>
            <a:ext cx="758880" cy="32040"/>
          </a:xfrm>
          <a:custGeom>
            <a:avLst/>
            <a:gdLst/>
            <a:ahLst/>
            <a:rect l="l" t="t" r="r" b="b"/>
            <a:pathLst>
              <a:path w="478" h="20">
                <a:moveTo>
                  <a:pt x="0" y="0"/>
                </a:moveTo>
                <a:lnTo>
                  <a:pt x="478" y="2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442120" y="2906640"/>
            <a:ext cx="196560" cy="247680"/>
          </a:xfrm>
          <a:custGeom>
            <a:avLst/>
            <a:gdLst/>
            <a:ahLst/>
            <a:rect l="l" t="t" r="r" b="b"/>
            <a:pathLst>
              <a:path w="124" h="156">
                <a:moveTo>
                  <a:pt x="0" y="156"/>
                </a:moveTo>
                <a:lnTo>
                  <a:pt x="124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448160" y="2602080"/>
            <a:ext cx="961920" cy="1440"/>
          </a:xfrm>
          <a:custGeom>
            <a:avLst/>
            <a:gdLst/>
            <a:ahLst/>
            <a:rect l="l" t="t" r="r" b="b"/>
            <a:pathLst>
              <a:path w="606" h="1">
                <a:moveTo>
                  <a:pt x="0" y="0"/>
                </a:moveTo>
                <a:lnTo>
                  <a:pt x="606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091200" y="2602080"/>
            <a:ext cx="690480" cy="1440"/>
          </a:xfrm>
          <a:custGeom>
            <a:avLst/>
            <a:gdLst/>
            <a:ahLst/>
            <a:rect l="l" t="t" r="r" b="b"/>
            <a:pathLst>
              <a:path w="435" h="1">
                <a:moveTo>
                  <a:pt x="0" y="0"/>
                </a:moveTo>
                <a:lnTo>
                  <a:pt x="435" y="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915160" y="2868480"/>
            <a:ext cx="860400" cy="438120"/>
          </a:xfrm>
          <a:custGeom>
            <a:avLst/>
            <a:gdLst/>
            <a:ahLst/>
            <a:rect l="l" t="t" r="r" b="b"/>
            <a:pathLst>
              <a:path w="542" h="276">
                <a:moveTo>
                  <a:pt x="0" y="0"/>
                </a:moveTo>
                <a:lnTo>
                  <a:pt x="542" y="2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318440" y="2992320"/>
            <a:ext cx="777960" cy="352440"/>
          </a:xfrm>
          <a:custGeom>
            <a:avLst/>
            <a:gdLst/>
            <a:ahLst/>
            <a:rect l="l" t="t" r="r" b="b"/>
            <a:pathLst>
              <a:path w="490" h="222">
                <a:moveTo>
                  <a:pt x="0" y="222"/>
                </a:moveTo>
                <a:lnTo>
                  <a:pt x="490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1844640"/>
            <a:ext cx="766800" cy="604800"/>
          </a:xfrm>
          <a:custGeom>
            <a:avLst/>
            <a:gdLst/>
            <a:ahLst/>
            <a:rect l="l" t="t" r="r" b="b"/>
            <a:pathLst>
              <a:path w="483" h="381">
                <a:moveTo>
                  <a:pt x="0" y="381"/>
                </a:moveTo>
                <a:lnTo>
                  <a:pt x="4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8305920" y="192096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267080" y="164448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913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3068640"/>
            <a:ext cx="0" cy="33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934320" y="84600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Duración Esper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Garamond"/>
              </a:rPr>
              <a:t>15.5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5360" y="8254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27080" y="127080"/>
            <a:ext cx="821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s 3 &amp; 4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330120" y="2933640"/>
            <a:ext cx="2774880" cy="35816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3588120" y="3794040"/>
            <a:ext cx="530460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uración Esperad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Varianza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A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B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D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G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H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I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K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 + 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         </a:t>
            </a:r>
            <a:r>
              <a:rPr b="0" lang="es-CL" sz="2000" spc="-1" strike="noStrike">
                <a:solidFill>
                  <a:srgbClr val="3333cc"/>
                </a:solidFill>
                <a:latin typeface="Garamond"/>
              </a:rPr>
              <a:t>= 2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Desviación Estándar del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000" spc="-1" strike="noStrike">
                <a:solidFill>
                  <a:srgbClr val="3333cc"/>
                </a:solidFill>
                <a:latin typeface="Symbol"/>
                <a:ea typeface="Symbol"/>
              </a:rPr>
              <a:t>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1143000"/>
            <a:ext cx="8458200" cy="21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- 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0880" y="2895480"/>
            <a:ext cx="84582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Supuesto: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duración del proyecto tiene una du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edia = 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&amp;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Varianza =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</a:t>
            </a:r>
            <a:r>
              <a:rPr b="0" lang="es-CL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762120" y="4295880"/>
            <a:ext cx="8355960" cy="2457360"/>
            <a:chOff x="762120" y="4295880"/>
            <a:chExt cx="8355960" cy="2457360"/>
          </a:xfrm>
        </p:grpSpPr>
        <p:grpSp>
          <p:nvGrpSpPr>
            <p:cNvPr id="1416" name=""/>
            <p:cNvGrpSpPr/>
            <p:nvPr/>
          </p:nvGrpSpPr>
          <p:grpSpPr>
            <a:xfrm>
              <a:off x="990720" y="4419720"/>
              <a:ext cx="6247440" cy="1744560"/>
              <a:chOff x="990720" y="4419720"/>
              <a:chExt cx="6247440" cy="174456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0720" y="4419720"/>
                <a:ext cx="312408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114080" y="4419720"/>
                <a:ext cx="3123720" cy="1744560"/>
              </a:xfrm>
              <a:custGeom>
                <a:avLst/>
                <a:gdLst/>
                <a:ahLst/>
                <a:rect l="l" t="t" r="r" b="b"/>
                <a:pathLst>
                  <a:path w="2256" h="2352">
                    <a:moveTo>
                      <a:pt x="0" y="2352"/>
                    </a:moveTo>
                    <a:cubicBezTo>
                      <a:pt x="140" y="2348"/>
                      <a:pt x="280" y="2344"/>
                      <a:pt x="432" y="2304"/>
                    </a:cubicBezTo>
                    <a:cubicBezTo>
                      <a:pt x="584" y="2264"/>
                      <a:pt x="768" y="2248"/>
                      <a:pt x="912" y="2112"/>
                    </a:cubicBezTo>
                    <a:cubicBezTo>
                      <a:pt x="1056" y="1976"/>
                      <a:pt x="1176" y="1728"/>
                      <a:pt x="1296" y="1488"/>
                    </a:cubicBezTo>
                    <a:cubicBezTo>
                      <a:pt x="1416" y="1248"/>
                      <a:pt x="1544" y="872"/>
                      <a:pt x="1632" y="672"/>
                    </a:cubicBezTo>
                    <a:cubicBezTo>
                      <a:pt x="1720" y="472"/>
                      <a:pt x="1760" y="392"/>
                      <a:pt x="1824" y="288"/>
                    </a:cubicBezTo>
                    <a:cubicBezTo>
                      <a:pt x="1888" y="184"/>
                      <a:pt x="1944" y="96"/>
                      <a:pt x="2016" y="48"/>
                    </a:cubicBezTo>
                    <a:cubicBezTo>
                      <a:pt x="2088" y="0"/>
                      <a:pt x="2172" y="0"/>
                      <a:pt x="2256" y="0"/>
                    </a:cubicBezTo>
                  </a:path>
                </a:pathLst>
              </a:custGeom>
              <a:noFill/>
              <a:ln w="3816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5002200" y="4511520"/>
              <a:ext cx="636480" cy="39060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768" y="0"/>
                  </a:moveTo>
                  <a:cubicBezTo>
                    <a:pt x="568" y="40"/>
                    <a:pt x="368" y="80"/>
                    <a:pt x="336" y="144"/>
                  </a:cubicBezTo>
                  <a:cubicBezTo>
                    <a:pt x="304" y="208"/>
                    <a:pt x="632" y="320"/>
                    <a:pt x="576" y="384"/>
                  </a:cubicBezTo>
                  <a:cubicBezTo>
                    <a:pt x="520" y="448"/>
                    <a:pt x="260" y="488"/>
                    <a:pt x="0" y="528"/>
                  </a:cubicBezTo>
                </a:path>
              </a:pathLst>
            </a:custGeom>
            <a:noFill/>
            <a:ln w="9360">
              <a:solidFill>
                <a:srgbClr val="99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19800" y="4295880"/>
              <a:ext cx="143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Distribuc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990033"/>
                  </a:solidFill>
                  <a:latin typeface="Garamond"/>
                </a:rPr>
                <a:t>Norm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213680" y="58672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Duració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19680" y="6173640"/>
              <a:ext cx="523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Garamond"/>
                </a:rPr>
                <a:t>T</a:t>
              </a:r>
              <a:r>
                <a:rPr b="0" lang="en-US" sz="28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89240" y="4421160"/>
              <a:ext cx="25560" cy="182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71800" y="52578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21760" y="5043600"/>
              <a:ext cx="5601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Garamond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62120" y="624852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62120" y="2232000"/>
            <a:ext cx="2819160" cy="1666800"/>
          </a:xfrm>
          <a:custGeom>
            <a:avLst/>
            <a:gdLst/>
            <a:ahLst/>
            <a:rect l="l" t="t" r="r" b="b"/>
            <a:pathLst>
              <a:path w="1776" h="1050">
                <a:moveTo>
                  <a:pt x="1774" y="1050"/>
                </a:moveTo>
                <a:lnTo>
                  <a:pt x="1776" y="0"/>
                </a:lnTo>
                <a:lnTo>
                  <a:pt x="1632" y="130"/>
                </a:lnTo>
                <a:lnTo>
                  <a:pt x="1488" y="322"/>
                </a:lnTo>
                <a:lnTo>
                  <a:pt x="1344" y="514"/>
                </a:lnTo>
                <a:lnTo>
                  <a:pt x="1170" y="712"/>
                </a:lnTo>
                <a:lnTo>
                  <a:pt x="972" y="880"/>
                </a:lnTo>
                <a:lnTo>
                  <a:pt x="718" y="952"/>
                </a:lnTo>
                <a:lnTo>
                  <a:pt x="336" y="994"/>
                </a:lnTo>
                <a:lnTo>
                  <a:pt x="144" y="994"/>
                </a:lnTo>
                <a:lnTo>
                  <a:pt x="48" y="994"/>
                </a:lnTo>
                <a:lnTo>
                  <a:pt x="0" y="994"/>
                </a:lnTo>
                <a:lnTo>
                  <a:pt x="0" y="1050"/>
                </a:lnTo>
                <a:lnTo>
                  <a:pt x="1774" y="10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1128600" y="4611600"/>
                <a:ext cx="674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9" name=""/>
          <p:cNvSpPr/>
          <p:nvPr/>
        </p:nvSpPr>
        <p:spPr>
          <a:xfrm>
            <a:off x="838080" y="5791320"/>
            <a:ext cx="7239240" cy="7038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ob(Dur ≤ 14) = </a:t>
            </a:r>
            <a:r>
              <a:rPr b="1" lang="en-US" sz="2000" spc="-1" strike="noStrike">
                <a:solidFill>
                  <a:srgbClr val="990033"/>
                </a:solidFill>
                <a:latin typeface="Garamond"/>
              </a:rPr>
              <a:t>NORMDIST(14,15.5,1.54,TRUE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= 16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 menos de 14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33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476320" y="1924200"/>
            <a:ext cx="159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Distribu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990033"/>
                </a:solidFill>
                <a:latin typeface="Garamond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0440" y="3871800"/>
            <a:ext cx="123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V="1">
            <a:off x="3581280" y="2209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314160" y="38736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33520" y="1066680"/>
            <a:ext cx="8172000" cy="2557800"/>
            <a:chOff x="533520" y="1066680"/>
            <a:chExt cx="8172000" cy="2557800"/>
          </a:xfrm>
        </p:grpSpPr>
        <p:sp>
          <p:nvSpPr>
            <p:cNvPr id="63" name=""/>
            <p:cNvSpPr/>
            <p:nvPr/>
          </p:nvSpPr>
          <p:spPr>
            <a:xfrm>
              <a:off x="533520" y="1219320"/>
              <a:ext cx="236196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81480" y="22860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10080" y="1066680"/>
              <a:ext cx="2571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aramond"/>
                </a:rPr>
                <a:t>Engineering Chang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838080" y="2971440"/>
              <a:ext cx="7867440" cy="653040"/>
              <a:chOff x="838080" y="2971440"/>
              <a:chExt cx="7867440" cy="653040"/>
            </a:xfrm>
          </p:grpSpPr>
          <p:sp>
            <p:nvSpPr>
              <p:cNvPr id="68" name=""/>
              <p:cNvSpPr/>
              <p:nvPr/>
            </p:nvSpPr>
            <p:spPr>
              <a:xfrm>
                <a:off x="856800" y="323856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838080" y="299052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686440" y="300960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52640" y="325764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12571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1714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2474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27810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3714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39430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76006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45907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14332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79096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43860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010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8153280" y="297144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33520" y="4133880"/>
            <a:ext cx="8172360" cy="2405160"/>
            <a:chOff x="533520" y="4133880"/>
            <a:chExt cx="8172360" cy="2405160"/>
          </a:xfrm>
        </p:grpSpPr>
        <p:sp>
          <p:nvSpPr>
            <p:cNvPr id="86" name=""/>
            <p:cNvSpPr/>
            <p:nvPr/>
          </p:nvSpPr>
          <p:spPr>
            <a:xfrm>
              <a:off x="533520" y="4133880"/>
              <a:ext cx="236232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duct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19320" y="4667400"/>
              <a:ext cx="22860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cess 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62320" y="5191200"/>
              <a:ext cx="3200400" cy="4572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ccccff">
                    <a:alpha val="81176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33"/>
                  </a:solidFill>
                  <a:latin typeface="Georgia"/>
                </a:rPr>
                <a:t>Prototype &amp; Star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43600" y="4191120"/>
              <a:ext cx="257184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00"/>
                  </a:solidFill>
                  <a:latin typeface="Garamond"/>
                </a:rPr>
                <a:t>Concurrent Engine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838440" y="5886000"/>
              <a:ext cx="7867440" cy="653040"/>
              <a:chOff x="838440" y="5886000"/>
              <a:chExt cx="7867440" cy="653040"/>
            </a:xfrm>
          </p:grpSpPr>
          <p:sp>
            <p:nvSpPr>
              <p:cNvPr id="91" name=""/>
              <p:cNvSpPr/>
              <p:nvPr/>
            </p:nvSpPr>
            <p:spPr>
              <a:xfrm>
                <a:off x="857160" y="6153120"/>
                <a:ext cx="7848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838440" y="590508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8686800" y="592416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53000" y="6172200"/>
                <a:ext cx="1981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TH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12574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1714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78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813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3717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434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76010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5910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514368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79132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643896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010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8153640" y="5886000"/>
                <a:ext cx="0" cy="2667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3193920" y="2070000"/>
            <a:ext cx="1301760" cy="1825560"/>
          </a:xfrm>
          <a:custGeom>
            <a:avLst/>
            <a:gdLst/>
            <a:ahLst/>
            <a:rect l="l" t="t" r="r" b="b"/>
            <a:pathLst>
              <a:path w="820" h="1150">
                <a:moveTo>
                  <a:pt x="0" y="1150"/>
                </a:moveTo>
                <a:lnTo>
                  <a:pt x="4" y="376"/>
                </a:lnTo>
                <a:lnTo>
                  <a:pt x="106" y="230"/>
                </a:lnTo>
                <a:lnTo>
                  <a:pt x="196" y="136"/>
                </a:lnTo>
                <a:lnTo>
                  <a:pt x="340" y="40"/>
                </a:lnTo>
                <a:lnTo>
                  <a:pt x="434" y="2"/>
                </a:lnTo>
                <a:lnTo>
                  <a:pt x="578" y="0"/>
                </a:lnTo>
                <a:lnTo>
                  <a:pt x="720" y="2"/>
                </a:lnTo>
                <a:lnTo>
                  <a:pt x="820" y="40"/>
                </a:lnTo>
                <a:lnTo>
                  <a:pt x="820" y="1150"/>
                </a:lnTo>
                <a:lnTo>
                  <a:pt x="0" y="115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4876920"/>
            <a:ext cx="7924680" cy="100872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ob(13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≤ </a:t>
            </a:r>
            <a:r>
              <a:rPr b="0" lang="es-CL" sz="1800" spc="-1" strike="noStrike">
                <a:solidFill>
                  <a:srgbClr val="000000"/>
                </a:solidFill>
                <a:latin typeface="Palatino Linotype"/>
              </a:rPr>
              <a:t>Duración Proyecto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≤ 16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  - NORMDIST(</a:t>
            </a:r>
            <a:r>
              <a:rPr b="1" lang="en-US" sz="2000" spc="-1" strike="noStrike">
                <a:solidFill>
                  <a:srgbClr val="800000"/>
                </a:solidFill>
                <a:latin typeface="Palatino Linotype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15.5,1.54,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= 5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3520" y="115884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990033"/>
                </a:solidFill>
                <a:latin typeface="Garamond"/>
              </a:rPr>
              <a:t>Probabilidad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que el proyecto sea completado entre 13 y 16 mes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990720" y="2070000"/>
            <a:ext cx="6247440" cy="1744920"/>
            <a:chOff x="990720" y="2070000"/>
            <a:chExt cx="6247440" cy="1744920"/>
          </a:xfrm>
        </p:grpSpPr>
        <p:sp>
          <p:nvSpPr>
            <p:cNvPr id="1450" name=""/>
            <p:cNvSpPr/>
            <p:nvPr/>
          </p:nvSpPr>
          <p:spPr>
            <a:xfrm>
              <a:off x="990720" y="2070000"/>
              <a:ext cx="312408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114080" y="2070000"/>
              <a:ext cx="3123720" cy="1744920"/>
            </a:xfrm>
            <a:custGeom>
              <a:avLst/>
              <a:gdLst/>
              <a:ahLst/>
              <a:rect l="l" t="t" r="r" b="b"/>
              <a:pathLst>
                <a:path w="2256" h="2352">
                  <a:moveTo>
                    <a:pt x="0" y="2352"/>
                  </a:moveTo>
                  <a:cubicBezTo>
                    <a:pt x="140" y="2348"/>
                    <a:pt x="280" y="2344"/>
                    <a:pt x="432" y="2304"/>
                  </a:cubicBezTo>
                  <a:cubicBezTo>
                    <a:pt x="584" y="2264"/>
                    <a:pt x="768" y="2248"/>
                    <a:pt x="912" y="2112"/>
                  </a:cubicBezTo>
                  <a:cubicBezTo>
                    <a:pt x="1056" y="1976"/>
                    <a:pt x="1176" y="1728"/>
                    <a:pt x="1296" y="1488"/>
                  </a:cubicBezTo>
                  <a:cubicBezTo>
                    <a:pt x="1416" y="1248"/>
                    <a:pt x="1544" y="872"/>
                    <a:pt x="1632" y="672"/>
                  </a:cubicBezTo>
                  <a:cubicBezTo>
                    <a:pt x="1720" y="472"/>
                    <a:pt x="1760" y="392"/>
                    <a:pt x="1824" y="288"/>
                  </a:cubicBezTo>
                  <a:cubicBezTo>
                    <a:pt x="1888" y="184"/>
                    <a:pt x="1944" y="96"/>
                    <a:pt x="2016" y="48"/>
                  </a:cubicBezTo>
                  <a:cubicBezTo>
                    <a:pt x="2088" y="0"/>
                    <a:pt x="2172" y="0"/>
                    <a:pt x="2256" y="0"/>
                  </a:cubicBezTo>
                </a:path>
              </a:pathLst>
            </a:custGeom>
            <a:noFill/>
            <a:ln w="3816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02200" y="2162160"/>
            <a:ext cx="636480" cy="39060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768" y="0"/>
                </a:moveTo>
                <a:cubicBezTo>
                  <a:pt x="568" y="40"/>
                  <a:pt x="368" y="80"/>
                  <a:pt x="336" y="144"/>
                </a:cubicBezTo>
                <a:cubicBezTo>
                  <a:pt x="304" y="208"/>
                  <a:pt x="632" y="320"/>
                  <a:pt x="576" y="384"/>
                </a:cubicBezTo>
                <a:cubicBezTo>
                  <a:pt x="520" y="448"/>
                  <a:pt x="260" y="488"/>
                  <a:pt x="0" y="528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452560" y="194616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Garamond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42680" y="3529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Duración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910680" y="3871800"/>
            <a:ext cx="47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T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089240" y="2071800"/>
            <a:ext cx="25560" cy="1827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909840" y="2297160"/>
            <a:ext cx="1230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Garamond"/>
              </a:rPr>
              <a:t>P</a:t>
            </a: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=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62120" y="3898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320040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94588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2800" y="2124000"/>
            <a:ext cx="6120" cy="1762200"/>
          </a:xfrm>
          <a:custGeom>
            <a:avLst/>
            <a:gdLst/>
            <a:ahLst/>
            <a:rect l="l" t="t" r="r" b="b"/>
            <a:pathLst>
              <a:path w="4" h="1110">
                <a:moveTo>
                  <a:pt x="4" y="111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228560" y="38862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aramon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4920" y="1143000"/>
            <a:ext cx="868680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na cadena retail importante esta interesada en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 prototipo de la bicicleta Mountain Bike. El precio al que 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uede vender el proyecto depende de la fecha de entrega como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 siguiente tabla. En caso de retrasos usted deberá pagara una mul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300 por mes de retraso. Los costos de ejecución del proyecto s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$26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983120" y="3809880"/>
            <a:ext cx="37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ál es la fecha de entrega óptima que usted debe ofre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2349360" y="3209760"/>
            <a:ext cx="2525760" cy="301320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165240" y="21600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1463760" y="2971800"/>
            <a:ext cx="2422440" cy="3581280"/>
          </a:xfrm>
          <a:prstGeom prst="rect">
            <a:avLst/>
          </a:prstGeom>
          <a:ln w="0">
            <a:noFill/>
          </a:ln>
        </p:spPr>
      </p:pic>
      <p:sp>
        <p:nvSpPr>
          <p:cNvPr id="1470" name=""/>
          <p:cNvSpPr/>
          <p:nvPr/>
        </p:nvSpPr>
        <p:spPr>
          <a:xfrm>
            <a:off x="228600" y="698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-614520" y="762120"/>
            <a:ext cx="105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usted ofrece  el proyecto en 16 mese a un precio de $38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ál es la </a:t>
            </a:r>
            <a:r>
              <a:rPr b="0" i="1" lang="es-CL" sz="2400" spc="-1" strike="noStrike">
                <a:solidFill>
                  <a:srgbClr val="800000"/>
                </a:solidFill>
                <a:latin typeface="Garamond"/>
              </a:rPr>
              <a:t>Penalidad Esperada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retrasa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80880" y="1600200"/>
            <a:ext cx="8686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Penalidad Esperada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300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0.8%+6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1.3%+9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4.1%+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1200×1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%+1500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  <a:ea typeface="Arial"/>
              </a:rPr>
              <a:t>×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.2% = $18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Palatino Linotype"/>
              </a:rPr>
              <a:t>Margen Neto =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$3800 - $2620 - $180.71 = $99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90640" y="4140360"/>
            <a:ext cx="53352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3733560" cy="328608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6794640" y="4152960"/>
            <a:ext cx="914400" cy="380880"/>
          </a:xfrm>
          <a:prstGeom prst="ellipse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76320"/>
            <a:ext cx="745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aso 5 Proyecto Mountain B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304920" y="216000"/>
            <a:ext cx="8762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upuestos y Limitaciones de PE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1193760"/>
            <a:ext cx="8153280" cy="59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Actividades tiene una distribución Be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uración de la actividades son independi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Hay un único camino crít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l Camino Crítico tiene una duración que es significativamente mas larga que cualquier otro camino del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La duración del proyecto tiene una distribución Norm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Usar simulación si estos supuestos no se satisfac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304920" y="228600"/>
            <a:ext cx="2819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0796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57200" y="1206360"/>
            <a:ext cx="8247240" cy="62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Critical Path Method (C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No hay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termina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minos Críticos, Actividades Criticas y Holgu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simple (algoritmo “goloso”) para definir la frontera eficiente Tiempo/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gram Evaluation and Review Technique (</a:t>
            </a: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Incertidumbre en la duración de las activ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Basado en muchos supuestos y aproxim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ima la duración media y varianza de la dura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sume la duración del proyecto está Normalmente distribu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Simulación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étodo muy preciso y flexible para manejar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uy útil en la prác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1308240"/>
            <a:ext cx="4800600" cy="36003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1066680" y="5318280"/>
            <a:ext cx="762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rash of super-luxury vehicles launched recently - including the Rolls, the Maybach and Volkswagen's new Bentley - were all planned at the peak of the dotcom boo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b Lutz, GM Vice-Chairm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0480" y="838080"/>
            <a:ext cx="61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Palatino Linotype"/>
              </a:rPr>
              <a:t>The 1,000 horsepower Cadillac Sixteen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952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eneral Motors is unlikely to build the super-luxury Cadilla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76212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152280" y="-15228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91440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2240" y="1143000"/>
            <a:ext cx="4608360" cy="541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10160" y="1736640"/>
            <a:ext cx="434340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14, 2002: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iger Woods wins Augusta wearing a a Nike Golf polo shirt with a collar spoiled by southern humid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April 22, 2002</a:t>
            </a:r>
            <a:r>
              <a:rPr b="0" lang="en-US" sz="1800" spc="-1" strike="noStrike">
                <a:solidFill>
                  <a:srgbClr val="990033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S.I. cover 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Next d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ike calls Esquel Apparel (Hong Kong) to design a polo-shirt to withstand wea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Esquel’s research begins developing the new fab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Garamond"/>
              </a:rPr>
              <a:t>By May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the Gaoming factory is shipping prototypes to Flor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44640" y="12096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Sequence of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77320" y="632448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ull story: W.S.J. 3/26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28600" y="38160"/>
            <a:ext cx="91440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Ejemplo: Desarrollo de Nuevos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8428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Ejemplos: Microsoft &amp; F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86080"/>
            <a:ext cx="845820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Microsoft Windows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ientos de Progra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Líneas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Millones de Dólare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Rediseño del Ford Musta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450 personas en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sto US$ 700 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25% mas rápido y 30% mas barato que otros proyectos de similares características en 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2244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2360" y="110808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1.  </a:t>
            </a:r>
            <a:r>
              <a:rPr b="1" lang="es-CL" sz="2800" spc="-1" strike="noStrike">
                <a:solidFill>
                  <a:srgbClr val="990033"/>
                </a:solidFill>
                <a:latin typeface="Times New Roman"/>
              </a:rPr>
              <a:t>Antes que el Proyecto Com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758960"/>
            <a:ext cx="84675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la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finir objetivos, definición del proyecto y equipo de trabaj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Descomposición en actividad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rafo de precedencia y estimación de costos y d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Garamond"/>
              </a:rPr>
              <a:t>Programación (Schedu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Relacionar gente, dinero, y recursos a actividades especificas y entre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CPM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Tiempo versus Costos (“Estimaciones Perfecta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ctividades Crit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Frontera Eficiente: Tiempo versus Costos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990033"/>
                </a:solidFill>
                <a:latin typeface="Garamond"/>
              </a:rPr>
              <a:t>PERT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(tomar en cuenta la incertidumb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Gestión de Ries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0" y="139680"/>
            <a:ext cx="855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ctividades de Gestión en un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14:41:27Z</dcterms:created>
  <dc:creator>Rene Caldentey</dc:creator>
  <dc:description/>
  <dc:language>en-US</dc:language>
  <cp:lastModifiedBy>Rene Caldentey</cp:lastModifiedBy>
  <dcterms:modified xsi:type="dcterms:W3CDTF">2008-04-24T03:22:24Z</dcterms:modified>
  <cp:revision>130</cp:revision>
  <dc:subject/>
  <dc:title>Competitive Advantage from Operations (B01.1234.U2)</dc:title>
</cp:coreProperties>
</file>