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22.wmf" ContentType="image/x-wmf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E703D-F99D-488A-8A02-05984D73E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F692-7275-483D-BF34-521E70565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3B796-AFC5-48AC-91CC-49E9275DA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6BB5A-FEE6-4E23-8FAE-0C51A38D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D6DA6-6418-4E56-BFF4-CC84206A2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3188B-3BDB-41EF-8B8A-42204767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DDF30-DF41-4E86-8C77-175262D04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D5886-4773-4C50-810B-952FC7C4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59B7B-B2CE-413E-83FF-F2F604FA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8867F-CB8C-4D64-9FDA-A32E6F0E8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C3AEA-E6A1-419B-9BAD-48DE3862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FF84C-5A17-420A-B244-18C597426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A4199-C687-46F5-AA97-B4F48702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92396-3758-4445-B68D-A1A73178D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2025-7775-41D2-9E1D-7D7DE2C4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FCBC3-86F7-444E-86F8-9D5442E97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F0FEE-BE16-4FBF-A3B5-FA6C0BC8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7B2A3-17CE-47D8-BC3B-E8457434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72917-39F9-4DD4-AB24-8E1958175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29D1C-7536-4E3B-B17E-2CA79E611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28B46-70B1-4EFF-B6E5-86BEC9A7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C0B37-89F0-452F-B899-79FE25DB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EE2E5-8299-41DD-84BA-87D5182C9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F7494-83B7-4D60-9AF3-94623A420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47F9E-1B5C-4CE2-9281-203675451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E5C4F-3F80-4DEB-8CF6-9F0762CF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8C1CC-2CAF-4F3F-9776-732960121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252E3-1CF8-4D7E-AB08-1357C8577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92878-18B5-4E97-AAE7-DBBB6C320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3F34C-018B-4A61-955D-D1986206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5F105-16A1-4E96-9289-C2D31E59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97D78-A0C1-4AC1-BC02-567915B1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2335-639E-4BC8-8E8B-A734F802B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9A299-3416-4B06-A695-FFBA6EB05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D0CBB-0134-42FD-A895-5BD4DE478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FAB19-4DD7-40C8-B3CF-3DF597B0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DDAA5-4820-4710-AC54-AD67CAEF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AC2A-76EE-4937-9EED-28C06C27C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27F8E-93A9-47CC-AE84-E7324EE3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EC62-8AE9-433A-BDED-8D5D2F9C9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56628-DC8C-4216-B077-9B80538A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14AB0-518F-4143-8984-94D7CAB98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52EFC-FDAC-4AEE-94BD-D9F441708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965BC-1DE3-4CBA-9CA2-6A37EA38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BB1DC-C133-4495-B95E-3443D09B2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7CE65-7CAB-4EAB-89AB-65F1EF231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5D411-A4A3-4DF2-AE0A-9D1D1B57E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9658C-AA56-43D9-AD18-D5C6E0D70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A33C6-F2C7-49A6-AC24-7D9D42485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84458-42EA-424A-9681-1C489546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4ADD3-23EC-4BBE-9A7E-C677871B5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B0DCD-FD03-4E12-A331-E97B20F7B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88892-1D07-446C-8C96-431FD298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14F62-3CD6-4EEE-83D6-23FFF842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7676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Program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7784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ogram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819440"/>
            <a:ext cx="3757320" cy="473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191304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871640"/>
            <a:ext cx="186192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Asumo que las cosas no han marchado segun lo planeado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" y="1066680"/>
            <a:ext cx="57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2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Después que el Proyecto Comen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198520"/>
            <a:ext cx="8001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onitorea recurs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s, calidad, y presupuest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visar planes y m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cursos para alcanza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 tiempo y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72280" cy="3632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2240"/>
            <a:ext cx="8864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lanificación, Programación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1200" y="1295280"/>
            <a:ext cx="2490480" cy="145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Project Plan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1.  Setting go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2.  Defining th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3.  Tying needs into timed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4.  Organizing th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21880" y="2811600"/>
            <a:ext cx="2578680" cy="145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Project Schedu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1.  Tying resources to specif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2.  Relating activities to each o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.  Updating and revising o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gular ba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8520" y="1417680"/>
            <a:ext cx="2001240" cy="123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Time/cost estim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Engineering diagr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Cash flow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Material availability detai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22240" y="3051000"/>
            <a:ext cx="1615680" cy="10018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CPM/PE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antt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lestone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ash flow sche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10560" y="4316400"/>
            <a:ext cx="2904840" cy="12301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Project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1.  Monitoring resources, costs, quality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and 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2.  Revising and changing pl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3.  Shifting resources to meet dema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59600" y="4440240"/>
            <a:ext cx="1417320" cy="10018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Rep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delayed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slack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4863960"/>
            <a:ext cx="749160" cy="292320"/>
          </a:xfrm>
          <a:prstGeom prst="rightArrow">
            <a:avLst>
              <a:gd name="adj1" fmla="val 75000"/>
              <a:gd name="adj2" fmla="val 1281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6640" y="1841400"/>
            <a:ext cx="749520" cy="292320"/>
          </a:xfrm>
          <a:prstGeom prst="rightArrow">
            <a:avLst>
              <a:gd name="adj1" fmla="val 75000"/>
              <a:gd name="adj2" fmla="val 128213"/>
            </a:avLst>
          </a:prstGeom>
          <a:solidFill>
            <a:srgbClr val="9900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3432240"/>
            <a:ext cx="749160" cy="288720"/>
          </a:xfrm>
          <a:prstGeom prst="rightArrow">
            <a:avLst>
              <a:gd name="adj1" fmla="val 75000"/>
              <a:gd name="adj2" fmla="val 12975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6600" y="5649840"/>
            <a:ext cx="125136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Befor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11960" y="5653080"/>
            <a:ext cx="126180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uring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480" y="560880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17936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28600" y="13968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safíos en la Gestión de Proye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9600" y="9907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eguntas que podemos responder usando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00200"/>
            <a:ext cx="7772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atrasado, adelantado 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 el proyecto debe terminar antes de lo planeado, cuál es la forma de reducir su duración al menor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sobre o bajo su presupue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emos suficientes recursos para terminar el proyect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9800" y="152280"/>
            <a:ext cx="6311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04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295280"/>
          <a:ext cx="8229600" cy="5076720"/>
        </p:xfrm>
        <a:graphic>
          <a:graphicData uri="http://schemas.openxmlformats.org/drawingml/2006/table">
            <a:tbl>
              <a:tblPr/>
              <a:tblGrid>
                <a:gridCol w="4470480"/>
                <a:gridCol w="2084400"/>
                <a:gridCol w="1674720"/>
              </a:tblGrid>
              <a:tr h="697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Duración Esper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en me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Predece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Inmedi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– Do preliminary marke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 – Develop preliminary product desig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 – Do preliminary manufacturing 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 – Evaluate and select best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,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– Develop detailed marketing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 – Design manufactur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 – Develop detailed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 – Build and test prot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 – Finalize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 – Order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– Order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 – Install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5404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520" y="90504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royecto de Desarrollo de una Mountain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-763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visión del Proyecto en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600" y="4572000"/>
            <a:ext cx="86770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a carta Gantt muestra el tiempo “mas temprano” de termino del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o, no indica cuales son las actividades “criticas” (es decir, retraso en estas actividades retrasaría todo el proyect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ampoco indica cuales actividades (y cuanto) deben acelerase para terminar el proyecto en un plazo determi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276880" cy="3432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280" y="2286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33cc"/>
                </a:solidFill>
                <a:latin typeface="Times New Roman"/>
              </a:rPr>
              <a:t>Carta Gantt para el Proyecto Mountain Bik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de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1143000"/>
            <a:ext cx="6476760" cy="2271600"/>
            <a:chOff x="1219320" y="1143000"/>
            <a:chExt cx="6476760" cy="2271600"/>
          </a:xfrm>
        </p:grpSpPr>
        <p:sp>
          <p:nvSpPr>
            <p:cNvPr id="166" name=""/>
            <p:cNvSpPr/>
            <p:nvPr/>
          </p:nvSpPr>
          <p:spPr>
            <a:xfrm>
              <a:off x="2648160" y="2895480"/>
              <a:ext cx="391284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No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1676520"/>
              <a:ext cx="106668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528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16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16002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86000" y="13716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0" y="19810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9880" y="1371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5440" y="2368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13716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664240" y="188568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86120" y="1514520"/>
              <a:ext cx="1281240" cy="703080"/>
            </a:xfrm>
            <a:custGeom>
              <a:avLst/>
              <a:gdLst/>
              <a:ahLst/>
              <a:rect l="l" t="t" r="r" b="b"/>
              <a:pathLst>
                <a:path w="807" h="443">
                  <a:moveTo>
                    <a:pt x="0" y="0"/>
                  </a:moveTo>
                  <a:lnTo>
                    <a:pt x="807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95280" y="3962520"/>
            <a:ext cx="6477120" cy="2452680"/>
            <a:chOff x="1295280" y="3962520"/>
            <a:chExt cx="6477120" cy="2452680"/>
          </a:xfrm>
        </p:grpSpPr>
        <p:sp>
          <p:nvSpPr>
            <p:cNvPr id="181" name=""/>
            <p:cNvSpPr/>
            <p:nvPr/>
          </p:nvSpPr>
          <p:spPr>
            <a:xfrm>
              <a:off x="2460240" y="4229280"/>
              <a:ext cx="415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6440" y="5896080"/>
              <a:ext cx="382428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Ar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4648320"/>
              <a:ext cx="106704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88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76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45720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362320" y="4343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49528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11760" y="5340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43434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40560" y="485748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3160" y="5105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8680" y="3962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0840" y="4952880"/>
              <a:ext cx="41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43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114800" y="495288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562720"/>
            <a:ext cx="68580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24800" y="55720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502920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iempos Fundamentales en un Graf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67820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identificamos seis tiem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D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empr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emprano (EF = ES +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arde (LS = LF –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ST : Holgura.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áximo tiempo que una actividad puede retrasarse sin aumentar la duración del proyect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= LS – ES = LF – 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391520" y="1371600"/>
            <a:ext cx="1066680" cy="1371600"/>
            <a:chOff x="7391520" y="1371600"/>
            <a:chExt cx="1066680" cy="1371600"/>
          </a:xfrm>
        </p:grpSpPr>
        <p:sp>
          <p:nvSpPr>
            <p:cNvPr id="209" name=""/>
            <p:cNvSpPr/>
            <p:nvPr/>
          </p:nvSpPr>
          <p:spPr>
            <a:xfrm>
              <a:off x="7534440" y="2133360"/>
              <a:ext cx="762120" cy="6098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(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15320" y="1371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1752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57400" y="137448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65720" y="139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9040" y="178596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7720" y="17636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4513320"/>
            <a:ext cx="3809880" cy="120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V="1">
            <a:off x="5181480" y="4800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3864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610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84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63392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00880" y="5457960"/>
            <a:ext cx="528840" cy="323640"/>
          </a:xfrm>
          <a:custGeom>
            <a:avLst/>
            <a:gdLst/>
            <a:ahLst/>
            <a:rect l="l" t="t" r="r" b="b"/>
            <a:pathLst>
              <a:path w="333" h="204">
                <a:moveTo>
                  <a:pt x="0" y="204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24680" y="474336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0" y="0"/>
                </a:moveTo>
                <a:lnTo>
                  <a:pt x="423" y="5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57960" y="3786120"/>
            <a:ext cx="685800" cy="533160"/>
            <a:chOff x="5457960" y="3786120"/>
            <a:chExt cx="685800" cy="533160"/>
          </a:xfrm>
        </p:grpSpPr>
        <p:sp>
          <p:nvSpPr>
            <p:cNvPr id="225" name=""/>
            <p:cNvSpPr/>
            <p:nvPr/>
          </p:nvSpPr>
          <p:spPr>
            <a:xfrm>
              <a:off x="579132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5796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705720" y="3786120"/>
            <a:ext cx="685800" cy="533160"/>
            <a:chOff x="6705720" y="3786120"/>
            <a:chExt cx="685800" cy="533160"/>
          </a:xfrm>
        </p:grpSpPr>
        <p:sp>
          <p:nvSpPr>
            <p:cNvPr id="228" name=""/>
            <p:cNvSpPr/>
            <p:nvPr/>
          </p:nvSpPr>
          <p:spPr>
            <a:xfrm>
              <a:off x="703908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86400" y="6172200"/>
            <a:ext cx="685800" cy="533160"/>
            <a:chOff x="5486400" y="6172200"/>
            <a:chExt cx="685800" cy="533160"/>
          </a:xfrm>
        </p:grpSpPr>
        <p:sp>
          <p:nvSpPr>
            <p:cNvPr id="231" name=""/>
            <p:cNvSpPr/>
            <p:nvPr/>
          </p:nvSpPr>
          <p:spPr>
            <a:xfrm>
              <a:off x="581976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640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734160" y="6172200"/>
            <a:ext cx="685800" cy="533160"/>
            <a:chOff x="6734160" y="6172200"/>
            <a:chExt cx="685800" cy="533160"/>
          </a:xfrm>
        </p:grpSpPr>
        <p:sp>
          <p:nvSpPr>
            <p:cNvPr id="234" name=""/>
            <p:cNvSpPr/>
            <p:nvPr/>
          </p:nvSpPr>
          <p:spPr>
            <a:xfrm>
              <a:off x="706752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416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0560" y="4386240"/>
            <a:ext cx="685800" cy="533160"/>
            <a:chOff x="4300560" y="4386240"/>
            <a:chExt cx="685800" cy="533160"/>
          </a:xfrm>
        </p:grpSpPr>
        <p:sp>
          <p:nvSpPr>
            <p:cNvPr id="237" name=""/>
            <p:cNvSpPr/>
            <p:nvPr/>
          </p:nvSpPr>
          <p:spPr>
            <a:xfrm>
              <a:off x="4633920" y="4386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0560" y="4667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029440" y="4438800"/>
            <a:ext cx="685800" cy="533160"/>
            <a:chOff x="8029440" y="4438800"/>
            <a:chExt cx="685800" cy="533160"/>
          </a:xfrm>
        </p:grpSpPr>
        <p:sp>
          <p:nvSpPr>
            <p:cNvPr id="240" name=""/>
            <p:cNvSpPr/>
            <p:nvPr/>
          </p:nvSpPr>
          <p:spPr>
            <a:xfrm>
              <a:off x="8362800" y="4438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29440" y="4719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0640" y="403848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00"/>
                </a:solidFill>
                <a:latin typeface="Palatino Linotype"/>
              </a:rPr>
              <a:t>Ejemplo</a:t>
            </a: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5160"/>
            <a:ext cx="64771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itical Path Method (CP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90920" y="1397160"/>
            <a:ext cx="3267000" cy="2149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77080" y="83808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Palatino Linotype"/>
              </a:rPr>
              <a:t>Ejemplo: FCN Securities Demo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24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353960" y="3760920"/>
            <a:ext cx="5334120" cy="2617560"/>
            <a:chOff x="1353960" y="3760920"/>
            <a:chExt cx="5334120" cy="2617560"/>
          </a:xfrm>
        </p:grpSpPr>
        <p:sp>
          <p:nvSpPr>
            <p:cNvPr id="270" name=""/>
            <p:cNvSpPr/>
            <p:nvPr/>
          </p:nvSpPr>
          <p:spPr>
            <a:xfrm>
              <a:off x="2814480" y="3773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5600" y="397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320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396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8780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6856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712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8788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97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04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85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5680" y="558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6800" y="578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40280" y="599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21400" y="6197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012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3088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279080" y="3870360"/>
            <a:ext cx="5553000" cy="2608200"/>
            <a:chOff x="1279080" y="3870360"/>
            <a:chExt cx="5553000" cy="2608200"/>
          </a:xfrm>
        </p:grpSpPr>
        <p:sp>
          <p:nvSpPr>
            <p:cNvPr id="289" name=""/>
            <p:cNvSpPr/>
            <p:nvPr/>
          </p:nvSpPr>
          <p:spPr>
            <a:xfrm>
              <a:off x="2520720" y="38829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9840" y="388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9080" y="4583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8560" y="45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9368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43160" y="3873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00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2400" y="38736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556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04720" y="481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844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3800" y="48150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1920" y="5699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0960" y="5702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88920" y="6107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5560" y="61102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06320" y="45831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95400" y="4586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74400" y="3657600"/>
            <a:ext cx="7856640" cy="2608200"/>
            <a:chOff x="1274400" y="3657600"/>
            <a:chExt cx="7856640" cy="2608200"/>
          </a:xfrm>
        </p:grpSpPr>
        <p:sp>
          <p:nvSpPr>
            <p:cNvPr id="308" name=""/>
            <p:cNvSpPr/>
            <p:nvPr/>
          </p:nvSpPr>
          <p:spPr>
            <a:xfrm>
              <a:off x="2515680" y="3670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5160" y="3673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4400" y="4370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520" y="4373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8900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8120" y="36608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0832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7360" y="3660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509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00040" y="46022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97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8760" y="46022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688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489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1480" y="5894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90960" y="58975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03080" y="4370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90360" y="43736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96400" y="4484520"/>
              <a:ext cx="193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8000"/>
                  </a:solidFill>
                  <a:latin typeface="Garamond"/>
                </a:rPr>
                <a:t>Duración</a:t>
              </a:r>
              <a:r>
                <a:rPr b="1" lang="en-US" sz="2000" spc="-1" strike="noStrike">
                  <a:solidFill>
                    <a:srgbClr val="008000"/>
                  </a:solidFill>
                  <a:latin typeface="Garamond"/>
                </a:rPr>
                <a:t> = 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32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44440" y="152280"/>
            <a:ext cx="859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5680" y="152280"/>
            <a:ext cx="2463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87360"/>
            <a:ext cx="807696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Técnicas de Gest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ción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rontera Eficiente: Costo vs.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valu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Gestión de 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ontrol de Incert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formance Evaluation Review Technique (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6720" y="19080"/>
            <a:ext cx="75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 de Método 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040" y="704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801720"/>
            <a:ext cx="777240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Seis </a:t>
            </a:r>
            <a:r>
              <a:rPr b="1" i="1" lang="es-CL" sz="2800" spc="-1" strike="noStrike">
                <a:solidFill>
                  <a:srgbClr val="990033"/>
                </a:solidFill>
                <a:latin typeface="Garamond"/>
              </a:rPr>
              <a:t>tiempos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importantes para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, EF: Inicio y Término mas tempr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S, LF: Inicio y Té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: Holg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For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876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Back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Actividades Criticas y Caminos Cri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lgura: ST = LF-EF =LS-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es cero para las actividades cri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838080" y="3133800"/>
                <a:ext cx="7620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para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Inici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F para todas actividades prede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EF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914400" y="4495680"/>
                <a:ext cx="685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F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F    for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F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S de todas las actividades su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LS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F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rontera Eficiente: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Costos versus Du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60600" y="1987560"/>
            <a:ext cx="5830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3520" y="1143000"/>
            <a:ext cx="81532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Crashing”: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ducir la duración del proyecto asignando más recursos a una o mas actividades cri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Información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querida para análisis Tiempo/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Duración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Normal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Mínima (Crash)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Máximo (Cra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90720" y="5245200"/>
          <a:ext cx="7467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45200"/>
                    <a:ext cx="7467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762120" y="5105520"/>
            <a:ext cx="7848360" cy="10666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676600" y="2225520"/>
            <a:ext cx="3476520" cy="2425680"/>
          </a:xfrm>
          <a:custGeom>
            <a:avLst/>
            <a:gdLst/>
            <a:ahLst/>
            <a:rect l="l" t="t" r="r" b="b"/>
            <a:pathLst>
              <a:path w="2190" h="1528">
                <a:moveTo>
                  <a:pt x="0" y="0"/>
                </a:moveTo>
                <a:lnTo>
                  <a:pt x="2190" y="1528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3040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984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368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312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0320" y="5181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1620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128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5724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128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048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81280" y="222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84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76600" y="2222640"/>
            <a:ext cx="144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3356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41680" y="2190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3356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1531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496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 flipH="1" flipV="1">
            <a:off x="5285880" y="4495680"/>
            <a:ext cx="685800" cy="152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4142880" y="4038480"/>
            <a:ext cx="1143000" cy="4572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3228840" y="3428640"/>
            <a:ext cx="91440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29000" y="2224080"/>
            <a:ext cx="285480" cy="747720"/>
          </a:xfrm>
          <a:custGeom>
            <a:avLst/>
            <a:gdLst/>
            <a:ahLst/>
            <a:rect l="l" t="t" r="r" b="b"/>
            <a:pathLst>
              <a:path w="180" h="471">
                <a:moveTo>
                  <a:pt x="180" y="4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7812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2720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140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0084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9680" y="5170320"/>
            <a:ext cx="14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080" y="123192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2864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0496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2864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820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8640" y="222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56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23960" y="2222640"/>
            <a:ext cx="180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8128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9040" y="2190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81280" y="46483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0084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6268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73480" y="2057400"/>
            <a:ext cx="26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Front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areto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02000" y="25146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528" y="0"/>
                </a:moveTo>
                <a:cubicBezTo>
                  <a:pt x="320" y="36"/>
                  <a:pt x="112" y="72"/>
                  <a:pt x="96" y="144"/>
                </a:cubicBezTo>
                <a:cubicBezTo>
                  <a:pt x="80" y="216"/>
                  <a:pt x="448" y="352"/>
                  <a:pt x="432" y="432"/>
                </a:cubicBezTo>
                <a:cubicBezTo>
                  <a:pt x="416" y="512"/>
                  <a:pt x="72" y="592"/>
                  <a:pt x="0" y="62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9800" y="2962440"/>
            <a:ext cx="419040" cy="466560"/>
          </a:xfrm>
          <a:custGeom>
            <a:avLst/>
            <a:gdLst/>
            <a:ahLst/>
            <a:rect l="l" t="t" r="r" b="b"/>
            <a:pathLst>
              <a:path w="264" h="294">
                <a:moveTo>
                  <a:pt x="0" y="0"/>
                </a:moveTo>
                <a:lnTo>
                  <a:pt x="264" y="294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52280" y="26676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timación de Tiempos y Costos – Proyecto Mountain B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09480" y="1143000"/>
          <a:ext cx="7925040" cy="5027760"/>
        </p:xfrm>
        <a:graphic>
          <a:graphicData uri="http://schemas.openxmlformats.org/drawingml/2006/table">
            <a:tbl>
              <a:tblPr/>
              <a:tblGrid>
                <a:gridCol w="881280"/>
                <a:gridCol w="1027080"/>
                <a:gridCol w="1027080"/>
                <a:gridCol w="806400"/>
                <a:gridCol w="1174680"/>
                <a:gridCol w="1687680"/>
                <a:gridCol w="132084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Time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Cost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Co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Maximum Months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ost/Month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824120" y="610092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otal = 26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4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45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45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46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46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47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47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48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48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4118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49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402960" y="1663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49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47892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50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79328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20320" y="3246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812360" y="3259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8920" y="3625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93360" y="36133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02960" y="1879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18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9444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73240" y="3505320"/>
            <a:ext cx="7917120" cy="3100320"/>
            <a:chOff x="273240" y="3505320"/>
            <a:chExt cx="7917120" cy="3100320"/>
          </a:xfrm>
        </p:grpSpPr>
        <p:sp>
          <p:nvSpPr>
            <p:cNvPr id="534" name=""/>
            <p:cNvSpPr/>
            <p:nvPr/>
          </p:nvSpPr>
          <p:spPr>
            <a:xfrm>
              <a:off x="6192720" y="5703840"/>
              <a:ext cx="152640" cy="152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9040" y="5856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44400" y="578016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1523880" y="3556080"/>
              <a:ext cx="20880" cy="26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44760" y="623736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11920" y="5851440"/>
              <a:ext cx="137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Du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3240" y="3505320"/>
              <a:ext cx="131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Cos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3400" y="5562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26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4840" y="623736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80440" y="4114800"/>
            <a:ext cx="33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Garamond"/>
              </a:rPr>
              <a:t>Camino Crí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300440" y="4444920"/>
            <a:ext cx="1637640" cy="1348560"/>
            <a:chOff x="7300440" y="4444920"/>
            <a:chExt cx="1637640" cy="1348560"/>
          </a:xfrm>
        </p:grpSpPr>
        <p:sp>
          <p:nvSpPr>
            <p:cNvPr id="545" name=""/>
            <p:cNvSpPr/>
            <p:nvPr/>
          </p:nvSpPr>
          <p:spPr>
            <a:xfrm>
              <a:off x="7466040" y="4444920"/>
              <a:ext cx="380880" cy="381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686000" y="4800600"/>
              <a:ext cx="484200" cy="368280"/>
            </a:xfrm>
            <a:custGeom>
              <a:avLst/>
              <a:gdLst/>
              <a:ahLst/>
              <a:rect l="l" t="t" r="r" b="b"/>
              <a:pathLst>
                <a:path w="305" h="232">
                  <a:moveTo>
                    <a:pt x="0" y="232"/>
                  </a:moveTo>
                  <a:cubicBezTo>
                    <a:pt x="16" y="203"/>
                    <a:pt x="62" y="64"/>
                    <a:pt x="99" y="55"/>
                  </a:cubicBezTo>
                  <a:cubicBezTo>
                    <a:pt x="136" y="46"/>
                    <a:pt x="190" y="189"/>
                    <a:pt x="224" y="180"/>
                  </a:cubicBezTo>
                  <a:cubicBezTo>
                    <a:pt x="258" y="171"/>
                    <a:pt x="288" y="37"/>
                    <a:pt x="30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00440" y="508968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Activida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más Bar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6356160" y="88884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= 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579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585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590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595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600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605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610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615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8840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620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30100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625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602400" y="1663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91120" y="1657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630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68160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99264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635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92000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0736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9960" y="324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939080" y="3259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03680" y="113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94080" y="1128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97600" y="18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81600" y="3625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92640" y="363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02400" y="187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233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9632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0876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47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10520" y="4114800"/>
            <a:ext cx="3363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 Crític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45440" y="888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4495680"/>
            <a:ext cx="38088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714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720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725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730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735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740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745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750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755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760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765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770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43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89120" y="394956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93040" y="4292640"/>
            <a:ext cx="38088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853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859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864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869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874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879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884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889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894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899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904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909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46160" y="365760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04840" y="403848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49800" y="4379760"/>
            <a:ext cx="38124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55840"/>
            <a:ext cx="777240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Una unidad, mediano-largo plazo (meses o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No es repetitivos como procesos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uchas actividades inter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ifícil de planificar y contr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quipos de us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nque alto grado de especialización en algunas á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lto grado de especialización en e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152280"/>
            <a:ext cx="5664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Qué es un Proyec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997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00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00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01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01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02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02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03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03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04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04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99336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05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85700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-30240" y="41385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0185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5700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28920" y="6224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05320" y="38098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8128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14400" y="3708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23880" y="3886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17360" y="3886200"/>
            <a:ext cx="34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49760" y="4157640"/>
            <a:ext cx="349560" cy="127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7012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4038480" y="3763800"/>
            <a:ext cx="4953240" cy="271332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(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11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95720" y="2711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152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103760" y="125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51520" y="1243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157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55448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91484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162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20068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4844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167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42184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676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172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2595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357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177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361188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182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503388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5024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187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532656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192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6631200" y="1663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929640" y="1657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197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678348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99300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202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8059680" y="302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0772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04040" y="1130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243680" y="1128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97960" y="1881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39400" y="189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3359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46840" y="3676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5816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3420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21848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192760" y="1855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53120" y="1843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10052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6088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6240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1016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2200" y="2908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77088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01856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59680" y="3224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30772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373440" y="81900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291960" y="3851280"/>
            <a:ext cx="3289320" cy="232092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52280" y="152280"/>
            <a:ext cx="8991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Resumen Construcción Frontera Eficiente (Cras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880" y="990720"/>
            <a:ext cx="8534520" cy="67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cal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sando CPM ident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del proyecto, holguras, </a:t>
            </a:r>
            <a:r>
              <a:rPr b="1" lang="es-CL" sz="18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los Caminos Crí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contrar el  </a:t>
            </a:r>
            <a:r>
              <a:rPr b="1" lang="es-CL" sz="2000" spc="-1" strike="noStrike">
                <a:solidFill>
                  <a:srgbClr val="800000"/>
                </a:solidFill>
                <a:latin typeface="Garamond"/>
              </a:rPr>
              <a:t>“conjunto mas barato”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e Actividades Criticas que al ser reducidas su duración se reduce la duración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los Caminos Crític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r lo máximo que se puede reducir la duración de las actividades del punto 3. Tenga present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 Holgura de actividades que no son criticas puede reducirse mientras reduce la duración de actividades crí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No puede reducir la duración de una actividad por debajo de su duración mín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6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petir los pasos 2-3-4 hasta que encuentre un Camino Critico para el cual todas las actividades estén en su duración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1168560" y="1467000"/>
                <a:ext cx="62989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 por Unidad de Tiemp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Crash - Costo Norm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 Normal - Tiempo Cras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459720" y="22860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jemplo: FCN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457200" y="3827520"/>
          <a:ext cx="4038480" cy="19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27520"/>
                    <a:ext cx="40384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4708440" y="3836880"/>
            <a:ext cx="42069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uponga que A termino con tres semans de retraso &amp; que la penalidad por cada semana de retraso es de $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Palatino Linotype"/>
              </a:rPr>
              <a:t>Cuál es la estrategia optima que minimiza los costos de ejecución del proyecto + penalidades?</a:t>
            </a: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3520" y="1295280"/>
            <a:ext cx="7009920" cy="2063520"/>
            <a:chOff x="533520" y="1295280"/>
            <a:chExt cx="7009920" cy="2063520"/>
          </a:xfrm>
        </p:grpSpPr>
        <p:sp>
          <p:nvSpPr>
            <p:cNvPr id="1245" name=""/>
            <p:cNvSpPr/>
            <p:nvPr/>
          </p:nvSpPr>
          <p:spPr>
            <a:xfrm>
              <a:off x="533520" y="20444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9064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477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52480" y="203796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52480" y="288252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113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87760" y="2057040"/>
              <a:ext cx="53280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97240" y="290160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20570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81680" y="2031840"/>
              <a:ext cx="76176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96840" y="1593720"/>
              <a:ext cx="80604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066680" y="2285640"/>
              <a:ext cx="68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90360" y="2438280"/>
              <a:ext cx="78732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24160" y="1523880"/>
              <a:ext cx="72324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81280" y="152388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2860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148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286000" y="3130200"/>
              <a:ext cx="19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06720" y="1631880"/>
              <a:ext cx="67932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43600" y="2298600"/>
              <a:ext cx="8377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724280" y="243792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7133040" y="10047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1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2057400" y="106668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33440" y="547200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Palatino Linotype"/>
              </a:rPr>
              <a:t>Duración: 7 se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6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91520" y="335268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Primera Semana: Reducir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5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3320" y="33526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Segunda Semana: Reducir A &amp;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533520" y="7034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0880" y="4284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rashing Usando Programacio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-510840" y="974880"/>
            <a:ext cx="890352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ó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 defini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cad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precede 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+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NO tiene sucesor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 Reque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nega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fimos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el costo normal de ejecucion d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240" y="5257800"/>
            <a:ext cx="741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+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osto por Unidad de Tiem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1371600" y="5638680"/>
                <a:ext cx="60199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e Project Excution Cost: Min Z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554040" y="7840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2057400" y="9558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3" name=""/>
          <p:cNvSpPr/>
          <p:nvPr/>
        </p:nvSpPr>
        <p:spPr>
          <a:xfrm>
            <a:off x="482760" y="34920"/>
            <a:ext cx="843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: Solución Usando P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7840" y="25416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uál es el VPN de un Proyec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09480" y="936720"/>
            <a:ext cx="830592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 cada actividad del proyecto le podemos asociar un costo de ejecución y un beneficio al completar l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 holgura de las actividad que no son criticas ofrece flexibilidad en su ejecución. Cuándo comenzar esta actividades y qué duración deben tener afecta el VP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sponer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celera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demás, Crashing ofrece flexibilidad en el ejecució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5680" y="152280"/>
            <a:ext cx="695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 de Proyectos: Bech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807732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y puesta en marcha del sistema de ferroviario entre Londres y el Channel Tunnel (US$4.6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oleoductos entre el mar Caspio y Rusia (US$850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xpansión del aeropuerto de Dubai en los EAU (US$600 millones), y del aeropuerto de Miami en Florida (US$2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plantas de procesamiento de gas en Yemen y Trin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7200" y="25416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Calculando el VPN de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384480" y="990720"/>
            <a:ext cx="1012284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o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s las actividades k que preceden a l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n nega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Beneficio de completar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 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sto normal de ejecución de la activida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Ingreso neto de completar la actividad 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(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rashing Rat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l VPN del proyec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424320" y="5621400"/>
                <a:ext cx="313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tivities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0560" y="216000"/>
            <a:ext cx="786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lujos y Presupuesto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380880" y="1224000"/>
            <a:ext cx="83059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T</a:t>
            </a:r>
            <a:br>
              <a:rPr sz="44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stión de Proyecto Bajo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1041480" y="2438280"/>
            <a:ext cx="70484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241200" y="2746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gram Evaluation and Review Technique (P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4600" y="11430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0880" y="1523880"/>
            <a:ext cx="81536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étodo </a:t>
            </a: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aproximado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ra incorporar la incertidumbre en la estimación de la duración de las activ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upuestos fuertes en el comportamiento de la incertid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ratamiento simple de la var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porciona una visión probilistica de la duración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533520" y="228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cuencia de Paso en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33520" y="14065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ón Esperada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la varianza de la duración de cada actividad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CPM para determinar el camino critico y la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on R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del proyecto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mar las varianzas de la ruta critica para determinar la varianza de la duracion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proximar la duración del proyecto como una variable aleatoria Normal con media y varianza según lo calculado en los pasos 3 y 4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863640" y="22860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1360" y="45277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1625760" y="2793960"/>
            <a:ext cx="2971800" cy="1701720"/>
            <a:chOff x="1625760" y="2793960"/>
            <a:chExt cx="2971800" cy="1701720"/>
          </a:xfrm>
        </p:grpSpPr>
        <p:sp>
          <p:nvSpPr>
            <p:cNvPr id="1355" name=""/>
            <p:cNvSpPr/>
            <p:nvPr/>
          </p:nvSpPr>
          <p:spPr>
            <a:xfrm>
              <a:off x="1625760" y="2793960"/>
              <a:ext cx="2971800" cy="1625760"/>
            </a:xfrm>
            <a:custGeom>
              <a:avLst/>
              <a:gdLst/>
              <a:ahLst/>
              <a:rect l="l" t="t" r="r" b="b"/>
              <a:pathLst>
                <a:path w="1872" h="1024">
                  <a:moveTo>
                    <a:pt x="0" y="1024"/>
                  </a:moveTo>
                  <a:cubicBezTo>
                    <a:pt x="76" y="1020"/>
                    <a:pt x="152" y="1016"/>
                    <a:pt x="240" y="880"/>
                  </a:cubicBezTo>
                  <a:cubicBezTo>
                    <a:pt x="328" y="744"/>
                    <a:pt x="448" y="352"/>
                    <a:pt x="528" y="208"/>
                  </a:cubicBezTo>
                  <a:cubicBezTo>
                    <a:pt x="608" y="64"/>
                    <a:pt x="664" y="32"/>
                    <a:pt x="720" y="16"/>
                  </a:cubicBezTo>
                  <a:cubicBezTo>
                    <a:pt x="776" y="0"/>
                    <a:pt x="808" y="48"/>
                    <a:pt x="864" y="112"/>
                  </a:cubicBezTo>
                  <a:cubicBezTo>
                    <a:pt x="920" y="176"/>
                    <a:pt x="984" y="304"/>
                    <a:pt x="1056" y="400"/>
                  </a:cubicBezTo>
                  <a:cubicBezTo>
                    <a:pt x="1128" y="496"/>
                    <a:pt x="1208" y="608"/>
                    <a:pt x="1296" y="688"/>
                  </a:cubicBezTo>
                  <a:cubicBezTo>
                    <a:pt x="1384" y="768"/>
                    <a:pt x="1488" y="832"/>
                    <a:pt x="1584" y="880"/>
                  </a:cubicBezTo>
                  <a:cubicBezTo>
                    <a:pt x="1680" y="928"/>
                    <a:pt x="1776" y="952"/>
                    <a:pt x="1872" y="976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625760" y="4419720"/>
              <a:ext cx="0" cy="759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97560" y="4343400"/>
              <a:ext cx="0" cy="152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39960" y="449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6404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35240" y="4495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Likely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76876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971800" y="5651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xpecte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2259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322596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62520" y="1828800"/>
            <a:ext cx="4800600" cy="1600200"/>
          </a:xfrm>
          <a:prstGeom prst="rect">
            <a:avLst/>
          </a:prstGeom>
          <a:solidFill>
            <a:srgbClr val="d5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4038480" y="1905120"/>
          <a:ext cx="449604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05120"/>
                    <a:ext cx="44960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4920" y="22860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ERT: Pasos 1 &amp;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8600" y="990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Duración Esperada y Desviación Estándar para cada activ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99840" y="3429000"/>
            <a:ext cx="3400920" cy="368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Palatino Linotype"/>
              </a:rPr>
              <a:t>Supuesto: Distribución B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533520" y="100332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65240" y="304920"/>
            <a:ext cx="8292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1 &amp; 2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76320" y="1252440"/>
            <a:ext cx="89913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2860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143000" y="1447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1430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20968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33920" y="138276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95560" y="2359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33920" y="3071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43600" y="31240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410080" y="2373480"/>
            <a:ext cx="6858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81680" y="237348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81680" y="3071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077320" y="2602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848720" y="1449360"/>
            <a:ext cx="761760" cy="46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85800" y="1700280"/>
            <a:ext cx="44784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2286000"/>
            <a:ext cx="452520" cy="25704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676520" y="2286000"/>
            <a:ext cx="60948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85880" y="169560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05040" y="1692360"/>
            <a:ext cx="1014480" cy="250920"/>
          </a:xfrm>
          <a:custGeom>
            <a:avLst/>
            <a:gdLst/>
            <a:ahLst/>
            <a:rect l="l" t="t" r="r" b="b"/>
            <a:pathLst>
              <a:path w="639" h="158">
                <a:moveTo>
                  <a:pt x="0" y="158"/>
                </a:moveTo>
                <a:lnTo>
                  <a:pt x="63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43200" y="2133720"/>
            <a:ext cx="1133640" cy="463320"/>
          </a:xfrm>
          <a:custGeom>
            <a:avLst/>
            <a:gdLst/>
            <a:ahLst/>
            <a:rect l="l" t="t" r="r" b="b"/>
            <a:pathLst>
              <a:path w="714" h="292">
                <a:moveTo>
                  <a:pt x="0" y="0"/>
                </a:moveTo>
                <a:lnTo>
                  <a:pt x="714" y="2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692440" y="2260440"/>
            <a:ext cx="1035000" cy="1059120"/>
          </a:xfrm>
          <a:custGeom>
            <a:avLst/>
            <a:gdLst/>
            <a:ahLst/>
            <a:rect l="l" t="t" r="r" b="b"/>
            <a:pathLst>
              <a:path w="652" h="667">
                <a:moveTo>
                  <a:pt x="0" y="0"/>
                </a:moveTo>
                <a:lnTo>
                  <a:pt x="652" y="667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76800" y="3360600"/>
            <a:ext cx="758880" cy="3204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442120" y="290664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48160" y="2602080"/>
            <a:ext cx="961920" cy="144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091200" y="2602080"/>
            <a:ext cx="690480" cy="144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915160" y="286848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18440" y="299232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184464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305920" y="192096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267080" y="1644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913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771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934320" y="84600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Duración Esper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15.5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5360" y="82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7080" y="127080"/>
            <a:ext cx="821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3 &amp; 4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330120" y="2933640"/>
            <a:ext cx="2774880" cy="358164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3588120" y="3794040"/>
            <a:ext cx="530460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uración Esperad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Varianz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        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2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sviación Estándar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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1143000"/>
            <a:ext cx="84582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- 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80880" y="2895480"/>
            <a:ext cx="84582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Supuesto: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duración del proyecto tiene una du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dia = 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&amp;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anza =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762120" y="4295880"/>
            <a:ext cx="8355960" cy="2457360"/>
            <a:chOff x="762120" y="4295880"/>
            <a:chExt cx="8355960" cy="2457360"/>
          </a:xfrm>
        </p:grpSpPr>
        <p:grpSp>
          <p:nvGrpSpPr>
            <p:cNvPr id="1416" name=""/>
            <p:cNvGrpSpPr/>
            <p:nvPr/>
          </p:nvGrpSpPr>
          <p:grpSpPr>
            <a:xfrm>
              <a:off x="990720" y="4419720"/>
              <a:ext cx="6247440" cy="1744560"/>
              <a:chOff x="990720" y="4419720"/>
              <a:chExt cx="6247440" cy="174456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0720" y="4419720"/>
                <a:ext cx="312408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114080" y="4419720"/>
                <a:ext cx="312372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5002200" y="4511520"/>
              <a:ext cx="636480" cy="39060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768" y="0"/>
                  </a:moveTo>
                  <a:cubicBezTo>
                    <a:pt x="568" y="40"/>
                    <a:pt x="368" y="80"/>
                    <a:pt x="336" y="144"/>
                  </a:cubicBezTo>
                  <a:cubicBezTo>
                    <a:pt x="304" y="208"/>
                    <a:pt x="632" y="320"/>
                    <a:pt x="576" y="384"/>
                  </a:cubicBezTo>
                  <a:cubicBezTo>
                    <a:pt x="520" y="448"/>
                    <a:pt x="260" y="488"/>
                    <a:pt x="0" y="528"/>
                  </a:cubicBezTo>
                </a:path>
              </a:pathLst>
            </a:custGeom>
            <a:noFill/>
            <a:ln w="9360">
              <a:solidFill>
                <a:srgbClr val="99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19800" y="4295880"/>
              <a:ext cx="143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Distribu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13680" y="586728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Duració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19680" y="6173640"/>
              <a:ext cx="523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Garamond"/>
                </a:rPr>
                <a:t>T</a:t>
              </a:r>
              <a:r>
                <a:rPr b="0" lang="en-US" sz="28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89240" y="4421160"/>
              <a:ext cx="25560" cy="182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971800" y="52578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821760" y="5043600"/>
              <a:ext cx="5601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2120" y="624852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62120" y="2232000"/>
            <a:ext cx="2819160" cy="1666800"/>
          </a:xfrm>
          <a:custGeom>
            <a:avLst/>
            <a:gdLst/>
            <a:ahLst/>
            <a:rect l="l" t="t" r="r" b="b"/>
            <a:pathLst>
              <a:path w="1776" h="1050">
                <a:moveTo>
                  <a:pt x="1774" y="1050"/>
                </a:moveTo>
                <a:lnTo>
                  <a:pt x="1776" y="0"/>
                </a:lnTo>
                <a:lnTo>
                  <a:pt x="1632" y="130"/>
                </a:lnTo>
                <a:lnTo>
                  <a:pt x="1488" y="322"/>
                </a:lnTo>
                <a:lnTo>
                  <a:pt x="1344" y="514"/>
                </a:lnTo>
                <a:lnTo>
                  <a:pt x="1170" y="712"/>
                </a:lnTo>
                <a:lnTo>
                  <a:pt x="972" y="880"/>
                </a:lnTo>
                <a:lnTo>
                  <a:pt x="718" y="952"/>
                </a:lnTo>
                <a:lnTo>
                  <a:pt x="336" y="994"/>
                </a:lnTo>
                <a:lnTo>
                  <a:pt x="144" y="994"/>
                </a:lnTo>
                <a:lnTo>
                  <a:pt x="48" y="994"/>
                </a:lnTo>
                <a:lnTo>
                  <a:pt x="0" y="994"/>
                </a:lnTo>
                <a:lnTo>
                  <a:pt x="0" y="1050"/>
                </a:lnTo>
                <a:lnTo>
                  <a:pt x="1774" y="10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1128600" y="4611600"/>
                <a:ext cx="674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9" name=""/>
          <p:cNvSpPr/>
          <p:nvPr/>
        </p:nvSpPr>
        <p:spPr>
          <a:xfrm>
            <a:off x="838080" y="5791320"/>
            <a:ext cx="7239240" cy="7038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ob(Dur ≤ 14) =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NORMDIST(14,15.5,1.54,TRUE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= 16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33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76320" y="1924200"/>
            <a:ext cx="159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Distribu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0440" y="3871800"/>
            <a:ext cx="12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581280" y="2209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14160" y="3873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1066680"/>
            <a:ext cx="8172000" cy="2557800"/>
            <a:chOff x="533520" y="1066680"/>
            <a:chExt cx="8172000" cy="2557800"/>
          </a:xfrm>
        </p:grpSpPr>
        <p:sp>
          <p:nvSpPr>
            <p:cNvPr id="63" name=""/>
            <p:cNvSpPr/>
            <p:nvPr/>
          </p:nvSpPr>
          <p:spPr>
            <a:xfrm>
              <a:off x="533520" y="1219320"/>
              <a:ext cx="236196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480" y="22860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080" y="1066680"/>
              <a:ext cx="2571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Engineering Chan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838080" y="2971440"/>
              <a:ext cx="7867440" cy="653040"/>
              <a:chOff x="838080" y="2971440"/>
              <a:chExt cx="7867440" cy="653040"/>
            </a:xfrm>
          </p:grpSpPr>
          <p:sp>
            <p:nvSpPr>
              <p:cNvPr id="68" name=""/>
              <p:cNvSpPr/>
              <p:nvPr/>
            </p:nvSpPr>
            <p:spPr>
              <a:xfrm>
                <a:off x="856800" y="323856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838080" y="299052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8686440" y="300960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52640" y="325764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2571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714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22474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7810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3714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9430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6006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45907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5143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79096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4386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010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8153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33520" y="4133880"/>
            <a:ext cx="8172360" cy="2405160"/>
            <a:chOff x="533520" y="4133880"/>
            <a:chExt cx="8172360" cy="2405160"/>
          </a:xfrm>
        </p:grpSpPr>
        <p:sp>
          <p:nvSpPr>
            <p:cNvPr id="86" name=""/>
            <p:cNvSpPr/>
            <p:nvPr/>
          </p:nvSpPr>
          <p:spPr>
            <a:xfrm>
              <a:off x="533520" y="4133880"/>
              <a:ext cx="236232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466740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2320" y="51912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43600" y="4191120"/>
              <a:ext cx="257184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Garamond"/>
                </a:rPr>
                <a:t>Concurrent Engine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838440" y="5886000"/>
              <a:ext cx="7867440" cy="653040"/>
              <a:chOff x="838440" y="5886000"/>
              <a:chExt cx="7867440" cy="653040"/>
            </a:xfrm>
          </p:grpSpPr>
          <p:sp>
            <p:nvSpPr>
              <p:cNvPr id="91" name=""/>
              <p:cNvSpPr/>
              <p:nvPr/>
            </p:nvSpPr>
            <p:spPr>
              <a:xfrm>
                <a:off x="857160" y="615312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838440" y="590508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686800" y="592416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3000" y="617220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2574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1714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2478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7813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3717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9434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6010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5910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5143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79132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4389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7010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8153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93920" y="2070000"/>
            <a:ext cx="1301760" cy="1825560"/>
          </a:xfrm>
          <a:custGeom>
            <a:avLst/>
            <a:gdLst/>
            <a:ahLst/>
            <a:rect l="l" t="t" r="r" b="b"/>
            <a:pathLst>
              <a:path w="820" h="1150">
                <a:moveTo>
                  <a:pt x="0" y="1150"/>
                </a:moveTo>
                <a:lnTo>
                  <a:pt x="4" y="376"/>
                </a:lnTo>
                <a:lnTo>
                  <a:pt x="106" y="230"/>
                </a:lnTo>
                <a:lnTo>
                  <a:pt x="196" y="136"/>
                </a:lnTo>
                <a:lnTo>
                  <a:pt x="340" y="40"/>
                </a:lnTo>
                <a:lnTo>
                  <a:pt x="434" y="2"/>
                </a:lnTo>
                <a:lnTo>
                  <a:pt x="578" y="0"/>
                </a:lnTo>
                <a:lnTo>
                  <a:pt x="720" y="2"/>
                </a:lnTo>
                <a:lnTo>
                  <a:pt x="820" y="40"/>
                </a:lnTo>
                <a:lnTo>
                  <a:pt x="820" y="1150"/>
                </a:lnTo>
                <a:lnTo>
                  <a:pt x="0" y="11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4876920"/>
            <a:ext cx="7924680" cy="100872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b(13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≤ </a:t>
            </a: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Duración Proyecto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≤ 16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  - 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= 5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50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452560" y="194616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Nor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910680" y="3871800"/>
            <a:ext cx="47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3200400" y="2666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4588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2800" y="2124000"/>
            <a:ext cx="6120" cy="1762200"/>
          </a:xfrm>
          <a:custGeom>
            <a:avLst/>
            <a:gdLst/>
            <a:ahLst/>
            <a:rect l="l" t="t" r="r" b="b"/>
            <a:pathLst>
              <a:path w="4" h="1110">
                <a:moveTo>
                  <a:pt x="4" y="111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22856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04920" y="114300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na cadena retail importante esta interesada en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 prototipo de la bicicleta Mountain Bike. El precio al que 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uede vender el proyecto depende de la fecha de entrega como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siguiente tabla. En caso de retrasos usted deberá pagara una mul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300 por mes de retraso. Los costos de ejecución del proyecto s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26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83120" y="380988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ál es la fecha de entrega óptima que usted debe ofre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2349360" y="3209760"/>
            <a:ext cx="2525760" cy="301320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1463760" y="2971800"/>
            <a:ext cx="2422440" cy="358128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228600" y="698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-614520" y="762120"/>
            <a:ext cx="105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sted ofrece  el proyecto en 16 mese a un precio de $38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800000"/>
                </a:solidFill>
                <a:latin typeface="Garamond"/>
              </a:rPr>
              <a:t>Penalidad E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retrasa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0880" y="160020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Penalidad Esperada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300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0.8%+6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1.3%+9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.1%+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1200×1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%+15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.2% = $18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Margen Neto =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$3800 - $2620 - $180.71 = $99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90640" y="4140360"/>
            <a:ext cx="53352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3733560" cy="3286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/>
          <p:nvPr/>
        </p:nvSpPr>
        <p:spPr>
          <a:xfrm>
            <a:off x="6794640" y="4152960"/>
            <a:ext cx="91440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7632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304920" y="216000"/>
            <a:ext cx="8762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upuestos y Limitaciones de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1193760"/>
            <a:ext cx="8153280" cy="59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Actividades tiene una distribución Be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uración de la actividades son independie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Hay un único camino crít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l Camino Crítico tiene una duración que es significativamente mas larga que cualquier otro camino del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La duración del proyecto tiene una distribución Norm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Usar simulación si estos supuestos no se satisfac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304920" y="2286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7200" y="1206360"/>
            <a:ext cx="8247240" cy="62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minos Críticos, Actividades Criticas y Holg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simple (algoritmo “goloso”) para definir la frontera eficiente Tiempo/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gram Evaluation and Review Technique (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ertidumbre en la duración de las 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Basado en muchos supuestos y aproxim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ima la duración media y varianza de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sume la duración del proyecto está Normalmente distribu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Simulación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muy preciso y flexible para manejar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uy útil en la prác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308240"/>
            <a:ext cx="4800600" cy="36003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1066680" y="53182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rash of super-luxury vehicles launched recently - including the Rolls, the Maybach and Volkswagen's new Bentley - were all planned at the peak of the dotcom boo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b Lutz, GM Vice-Chair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20480" y="838080"/>
            <a:ext cx="61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Palatino Linotype"/>
              </a:rPr>
              <a:t>The 1,000 horsepower Cadillac Sixteen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Motors is unlikely to build the super-luxury Cadilla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-15228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2240" y="1143000"/>
            <a:ext cx="460836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10160" y="1736640"/>
            <a:ext cx="434340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14, 2002: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iger Woods wins Augusta wearing a a Nike Golf polo shirt with a collar spoiled by southern humid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22, 2002</a:t>
            </a:r>
            <a:r>
              <a:rPr b="0" lang="en-US" sz="1800" spc="-1" strike="noStrike">
                <a:solidFill>
                  <a:srgbClr val="990033"/>
                </a:solidFill>
                <a:latin typeface="Garamond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S.I. cover 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Next d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ike calls Esquel Apparel (Hong Kong) to design a polo-shirt to withstand wea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mmediatel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Esquel’s research begins developing the new fab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y M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he Gaoming factory is shipping prototypes to Flor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4640" y="12096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77320" y="632448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ull story: W.S.J. 3/26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2860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8428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: Microsoft &amp; F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86080"/>
            <a:ext cx="84582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Microsoft Windows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ientos de Program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Líneas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Dólare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Rediseño del Ford Musta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450 personas en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 US$ 70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25% mas rápido y 30% mas barato que otros proyectos de similares características en 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2360" y="110808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1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Antes que el Proyecto Com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758960"/>
            <a:ext cx="84675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r objetivos, definición del proyecto y equipo de trabaj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scomposición en activid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rafo de precedencia y estimación de costos y d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rogramación (Schedu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lacionar gente, dinero, y recursos a actividades especificas y entre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CPM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iempo versus Costos (“Estimaciones Perfecta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ctividades Cri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Frontera Eficiente: Tiempo versus Cost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PERT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(tomar en cuenta la incertidumb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estión de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4:41:27Z</dcterms:created>
  <dc:creator>Rene Caldentey</dc:creator>
  <dc:description/>
  <dc:language>en-US</dc:language>
  <cp:lastModifiedBy>Rene Caldentey</cp:lastModifiedBy>
  <dcterms:modified xsi:type="dcterms:W3CDTF">2008-04-24T03:22:24Z</dcterms:modified>
  <cp:revision>130</cp:revision>
  <dc:subject/>
  <dc:title>Competitive Advantage from Operations (B01.1234.U2)</dc:title>
</cp:coreProperties>
</file>