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993C-16E3-431F-855C-F341F9018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C578-1316-449A-8FAE-21719A8DD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4152-4DAF-4B77-84AE-EB61BC6BC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E7AF-9D93-449A-8CE5-3906F8C91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334F7-E486-4B0D-8CF9-8DFFEC27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AE7ED-5095-4BB4-AE6F-1FB40E79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EE931-B2EE-4585-9AD4-E79BD175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D3CA8-CBC0-4507-9162-8D41947B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E96A6-6E14-471D-8204-E72E140C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215B3-B620-4AE6-A6A5-466CE497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138F1-8995-4474-9696-4912910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8D75-1888-4CBD-9876-F10552FD7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2A3FF-7B13-452F-B186-8A13FAF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91EC7-E08A-4D7E-8705-675A24B1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E3C25-176D-4F4D-9B20-7B87FC54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1D633-DD83-4A7B-9077-39DBE401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0821E-60D6-45F5-8542-B7A6AD73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64B6-D259-4D84-B415-562845818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4C59-A5F5-42C1-9BA6-6CBEDB2BD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1807-56E3-4591-A89C-16C32E368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D1FB-A8C0-450E-B452-1F1AE5714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A797-F4A2-4AB8-A066-18639ADCD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AC46-2E9B-432F-B6BB-24284DEF2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72F1-83B9-4227-BB17-E698A706C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CDA0-0D4A-43A2-9678-65CC7FE5155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150E-136A-4241-B658-D456F5A0E4BC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3733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itulo : Selección del Proceso Produ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F86B-1C31-4215-9E22-9C4F853468B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3840" y="1341360"/>
            <a:ext cx="9020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3611-7558-45B8-B415-D56DBB7C94C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F660-25EF-4CB1-BEE3-E1DDC19535D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EFCF-30D6-419A-B0B6-8D1645CC986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65240" y="1125360"/>
            <a:ext cx="85104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A977-EA05-46EF-8049-859D994CDC0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E04-5D4C-4F6F-866C-26B4B54E1C4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B1B7-232F-40B7-883F-F429DE7626A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8041-92AF-4357-90A1-81C87438D40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C909-5BBB-4BF0-8449-F73DC965610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C820-0420-4F40-8A44-04534DEBF32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A45C-7C77-40BA-8C5C-43BD7710A8E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6982-95B2-4218-8C73-3C86F9FB103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6BD3-F74C-4274-BAC5-BC411B279D9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   =&gt; Col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506A-ADA5-4379-B797-EC04203F981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8F1A-00CF-48C6-AE5D-F46E9A07237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80E4-010C-434D-99D8-97FE386A589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395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4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0574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059280" y="2708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MI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299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372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LUJO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411280" y="3860640"/>
            <a:ext cx="129708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484360" y="414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4140360" y="3860640"/>
            <a:ext cx="136836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427640" y="4149720"/>
            <a:ext cx="12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21"/>
          <p:cNvSpPr/>
          <p:nvPr/>
        </p:nvSpPr>
        <p:spPr>
          <a:xfrm flipH="1">
            <a:off x="320328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385128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5857920" y="3860640"/>
            <a:ext cx="129708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867280" y="3933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ÍNEAS DE ENSAM-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86640" y="3860640"/>
            <a:ext cx="136836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7572240" y="414972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TINU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27"/>
          <p:cNvSpPr/>
          <p:nvPr/>
        </p:nvSpPr>
        <p:spPr>
          <a:xfrm flipH="1">
            <a:off x="664956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729756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755640" y="5589720"/>
            <a:ext cx="8137440" cy="934920"/>
          </a:xfrm>
          <a:prstGeom prst="leftRightArrow">
            <a:avLst>
              <a:gd name="adj1" fmla="val 50000"/>
              <a:gd name="adj2" fmla="val 1732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3132000" y="587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olúmenes de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476360" y="587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1476360" y="587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738036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2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9955-3BDF-472C-9682-4FC966FD41A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2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y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productos únicos o exclu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o muy pocas un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vidades que deben llevarse a  cabo en un lapso de tiempo  y en secu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: técnicas de administración y proyectos (PERT – CP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íodos de fabricación largos y altos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: Construcción casas,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cesos intermit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a cantidad de productos con mucha varie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tiliza las mismas instalaciones para la producción de distintos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pos y trabajos similares se agrupan en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producto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ividen en dos tipos: talleres y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2619-FFCF-478C-97F9-34DD3BB4B4A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6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tipo ta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fabrica una cantidad pequeña de un produc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racterísticas del producto se ajustan a las exigencias d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n procesos muy flex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de producto puede hacerse una sol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por lo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roducen lotes de productos una y otr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liente elige entre una amplia variedad de productos, pero no es a med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lo general los lotes son más grandes que en los tall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9640" y="5013360"/>
            <a:ext cx="8388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n ambos casos la programación de la producción es complej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Indicados en donde hay poca estandarización y volúmenes de producción  no muy al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Requiere especialización de ope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jemplos: Garaje, Imprent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90F9-618C-4826-9420-D328FCCE7D2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468360" y="1628640"/>
            <a:ext cx="77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Tahoma"/>
              </a:rPr>
              <a:t>Procesos de fluj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encia de operaciones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grandes volúm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o productos diferentes (procesos poco flexi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to grado de automatización (los empleados sólo tienen que aprender un número reducido de operaciones sencil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y dos tipos: líneas de ensamblaje y procesos continu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j0336844"/>
          <p:cNvPicPr/>
          <p:nvPr/>
        </p:nvPicPr>
        <p:blipFill>
          <a:blip r:embed="rId1"/>
          <a:stretch/>
        </p:blipFill>
        <p:spPr>
          <a:xfrm>
            <a:off x="1692360" y="4653000"/>
            <a:ext cx="19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j0281149"/>
          <p:cNvPicPr/>
          <p:nvPr/>
        </p:nvPicPr>
        <p:blipFill>
          <a:blip r:embed="rId2"/>
          <a:stretch/>
        </p:blipFill>
        <p:spPr>
          <a:xfrm>
            <a:off x="5003640" y="4581360"/>
            <a:ext cx="2267280" cy="1765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6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7A88-83F7-46A2-8E73-67C19ADB05D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6836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Líneas de ensam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fabrican productos discre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abricación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on más eficientes que los procesos intermit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ductos técnicamente homogé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ca variedad de productos. El cliente participa po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Juguetes, circuitos impr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Procesos continu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empre se ejecutan las mismas operaciones, en las mismas máquinas, para la obtención del mismo produc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y estandarización y controles de calidad efectivo.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veces los productos no son discre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Petróleo, cerveza, productos químicos a gr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68360" y="4941720"/>
            <a:ext cx="867564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En ambos casos las máquinas se disponen en línea, una tras otra. Equipo especializados, poca flexibilida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Productos Masivo, estandarizado, barat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Alta inversió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Costo Operacional baj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EB05-6A97-44E6-9694-3C7C9F89C8C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4"/>
          <p:cNvSpPr/>
          <p:nvPr/>
        </p:nvSpPr>
        <p:spPr>
          <a:xfrm>
            <a:off x="1332000" y="836640"/>
            <a:ext cx="72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ydian BT"/>
              </a:rPr>
              <a:t>PRODUCT-PROCESS MATRIX </a:t>
            </a:r>
            <a:r>
              <a:rPr b="1" lang="en-US" sz="2000" spc="-1" strike="noStrike">
                <a:solidFill>
                  <a:srgbClr val="000000"/>
                </a:solidFill>
                <a:latin typeface="Lydian BT"/>
              </a:rPr>
              <a:t>(Figure 4.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209680" y="2298600"/>
            <a:ext cx="6153120" cy="437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505320" y="1536840"/>
            <a:ext cx="12952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volume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3657600" y="3137040"/>
            <a:ext cx="990720" cy="955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in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4800600" y="3975120"/>
            <a:ext cx="1066680" cy="957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Hea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6019920" y="4660920"/>
            <a:ext cx="103500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u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7162920" y="5575320"/>
            <a:ext cx="99036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ug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Refin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4800600" y="1536840"/>
            <a:ext cx="10666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w volum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5867280" y="1536840"/>
            <a:ext cx="120672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few maj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7086600" y="1536840"/>
            <a:ext cx="1447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High volume, hig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commodit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5"/>
          <p:cNvSpPr/>
          <p:nvPr/>
        </p:nvSpPr>
        <p:spPr>
          <a:xfrm>
            <a:off x="4572000" y="3898800"/>
            <a:ext cx="414360" cy="27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91320" y="4660920"/>
            <a:ext cx="33804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6934320" y="5499000"/>
            <a:ext cx="360360" cy="27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47"/>
          <p:cNvGrpSpPr/>
          <p:nvPr/>
        </p:nvGrpSpPr>
        <p:grpSpPr>
          <a:xfrm>
            <a:off x="914400" y="3137040"/>
            <a:ext cx="1314000" cy="3504600"/>
            <a:chOff x="914400" y="3137040"/>
            <a:chExt cx="1314000" cy="3504600"/>
          </a:xfrm>
        </p:grpSpPr>
        <p:sp>
          <p:nvSpPr>
            <p:cNvPr id="167" name="Rectangle 30"/>
            <p:cNvSpPr/>
            <p:nvPr/>
          </p:nvSpPr>
          <p:spPr>
            <a:xfrm>
              <a:off x="914400" y="313704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Job Sho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41"/>
            <p:cNvSpPr/>
            <p:nvPr/>
          </p:nvSpPr>
          <p:spPr>
            <a:xfrm>
              <a:off x="914400" y="4012920"/>
              <a:ext cx="1314000" cy="87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Batch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914400" y="488988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lin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43"/>
            <p:cNvSpPr/>
            <p:nvPr/>
          </p:nvSpPr>
          <p:spPr>
            <a:xfrm>
              <a:off x="914400" y="576576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AutoShape 44"/>
          <p:cNvSpPr/>
          <p:nvPr/>
        </p:nvSpPr>
        <p:spPr>
          <a:xfrm>
            <a:off x="2228760" y="5003640"/>
            <a:ext cx="2138400" cy="163836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Constru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obre capac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45"/>
          <p:cNvSpPr/>
          <p:nvPr/>
        </p:nvSpPr>
        <p:spPr>
          <a:xfrm flipH="1" flipV="1">
            <a:off x="6161040" y="2408400"/>
            <a:ext cx="2139840" cy="177624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mpresa pequeñ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que cre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8"/>
          <p:cNvSpPr/>
          <p:nvPr/>
        </p:nvSpPr>
        <p:spPr>
          <a:xfrm>
            <a:off x="2209680" y="1536840"/>
            <a:ext cx="129564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Unique, one 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a ki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49"/>
          <p:cNvSpPr/>
          <p:nvPr/>
        </p:nvSpPr>
        <p:spPr>
          <a:xfrm>
            <a:off x="914400" y="2298600"/>
            <a:ext cx="1295280" cy="8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2362320" y="2451240"/>
            <a:ext cx="990360" cy="87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51"/>
          <p:cNvSpPr/>
          <p:nvPr/>
        </p:nvSpPr>
        <p:spPr>
          <a:xfrm>
            <a:off x="3276720" y="3060720"/>
            <a:ext cx="41436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28 Conector recto de flecha"/>
          <p:cNvCxnSpPr/>
          <p:nvPr/>
        </p:nvCxnSpPr>
        <p:spPr>
          <a:xfrm>
            <a:off x="3492000" y="6021360"/>
            <a:ext cx="864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30 Conector recto de flecha"/>
          <p:cNvCxnSpPr/>
          <p:nvPr/>
        </p:nvCxnSpPr>
        <p:spPr>
          <a:xfrm flipH="1">
            <a:off x="7380000" y="2709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7ADD-8C0F-435A-8029-CB9FB6F8CDF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Wolf</cp:lastModifiedBy>
  <cp:lastPrinted>2001-04-12T20:51:56Z</cp:lastPrinted>
  <dcterms:modified xsi:type="dcterms:W3CDTF">2010-08-17T13:14:14Z</dcterms:modified>
  <cp:revision>195</cp:revision>
  <dc:subject/>
  <dc:title>Comercio Electrónico</dc:title>
</cp:coreProperties>
</file>