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95581-A80F-4A7D-B012-63E0DAFFAB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48A88-DFD5-43D9-BE6F-CC73CC19EE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2F89F-18DB-41A1-BD36-72B1B3ED8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1A2A7-9860-4602-8F76-67D2BE9D60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048BB-6F7E-4E8D-B0D8-A48D40342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97478-995D-4DE5-ABAE-CD213887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B60EB-AC9B-4391-93CF-643726AB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F2FCC-D1B9-46E9-A8B0-056CC242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A17A8-5DB4-4C57-A013-58AA286C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46886-2D7B-41F3-A724-3C8A822F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E5891-219C-4B4A-9079-7A880008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E8068-DF16-404E-AE2F-0E330946DC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DAABB-031E-4F60-9848-3EB806C1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F8B2E-2A82-4B54-83D6-33CAA043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4ABF5-B0C9-41F0-BFB5-894A0140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FF849-7AB2-478E-B4FB-2B846D0C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0FE61-AB92-4F4B-9439-57ECB8594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89D84-F9D5-40B1-8AE3-4E2FB2D88E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4B6D1-4F49-471F-BA77-52554905EE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4460E-F632-4D4E-8650-C11416ABF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2CA78-9AE1-4D3E-947D-89D5501EF8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34747-2C86-43D7-BD80-0B90D2D7C2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8209F-B28E-41DB-929B-D730852C0C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7BF98-EA42-4585-9CB4-3A8720513C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74912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A70D-3950-4112-8861-3508EC9374A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2F8C-1D04-42FD-85A7-98D7319D9EC9}" type="slidenum"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09480" y="37339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itulo : Selección del Proceso Produc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1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2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CD60-59C1-444C-9559-4FB85DA5A7E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23840" y="1341360"/>
            <a:ext cx="90201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1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2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B097-4DB1-4687-93BC-B956AA2ABFD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96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1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2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2DF9-C681-4E66-9B85-0FCFD3DF6D7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85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1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2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C564-9226-46D6-932D-68B736D93B5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165240" y="1125360"/>
            <a:ext cx="851040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C7E7-540C-4A2B-9167-74B09DBC4EE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A Pedi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elaborados de acuerdo a especificaciones del cliente (fecha, precio, etc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fici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mplimiento de plaz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mplimiento de especific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taura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ast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ren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fombras Teji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FC5E-7F5D-4CB5-A478-A6B847D94A8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Para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son elaborados para venta por stock contr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fici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vicio (ventas no cumplid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V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c Donal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opa en Tie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D3CA-C7EE-4829-93C0-932DABCC507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ede ser convenien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binar pedidos e inventar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sponer el ensamble del producto fi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macenar inventario de producto genér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Caso Benett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230D-96C6-4EC1-8614-7F3D71A7F33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Requerimientos de capital y costos de ope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en línea requiere mayor costo de capital, pero menor costo operac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Condiciones de merc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olumen alto lleva a un proceso en lí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competencia puede exigir flexi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isponibilidad, costo y habilidades de la mano de obr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slado de industrias a países en desarrol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B53A-A29A-4697-80AD-CF6178FC28B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Capacidad administrativ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bcontratación de algunos procesos (ejemplo: transport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Disponibilidad y precio de la materia pri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ujo en línea necesita suministro continuo de insum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Estado de la tecnolog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ujo en línea tiene mayor riesgo frente a factores de camb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DEA7-D0C7-4870-95EA-FA9944E8769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Producto-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ctualmente se busca la producción masiva pero flexible (FMS: Sistemas de Manufactura Flex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icicletas en Jap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7985-C596-4029-872D-FCDDBC3F1B1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selección del proceso productivo corresponde a una decisión de nivel estratégi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relaciona fuertemente con el diseño del producto, los volúmenes de producción y las tecnologías utiliz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DA81-2D3F-42E9-B8D7-7D8F905FE8D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Hacia Atrás (a la materia prima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fiabilidad en el suminist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celulos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osqu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dena de supermercado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amp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pesquer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ar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32B6-D0AA-42FB-BDEB-80383E6D191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Hacia Adelante (a los mercado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rol de merc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acto con el cl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ábrica textil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negocios de vent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operativa de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plant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distribución.                                     productores de leche   =&gt; Col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F400-F282-4361-8CB7-60515894D91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gración Vertical a Nivel Glob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tes se hacen en Estados Unidos, son ensambladas en México y se distribuyen desde Estados Uni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s de la Integ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s de capital elev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bilidades gerenciales requeri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5E8F-1567-41D8-9B0D-E3E6DC26D85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Horizo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iste en aprovechar las ventajas comparativas para expandirse a áreas simila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us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estigio en el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istian Dior: perfume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ropa, joyas y reloj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cnolog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ead: sk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ten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nda de rop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multitienda (Falabell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ultitiend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financie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FECB-2D8F-4F4E-86C1-F038B670875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Horizo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entaj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pertura de nuevos merc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perfilarse hacia negocios en los cuales se tiene baja experi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395280" y="2421000"/>
            <a:ext cx="2016000" cy="93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684360" y="2708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3057480" y="2421000"/>
            <a:ext cx="2016000" cy="93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3059280" y="270828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TERMIT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6299280" y="2421000"/>
            <a:ext cx="2016000" cy="93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6372360" y="2708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LUJO LINE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2411280" y="3860640"/>
            <a:ext cx="1297080" cy="936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2484360" y="4149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9"/>
          <p:cNvSpPr/>
          <p:nvPr/>
        </p:nvSpPr>
        <p:spPr>
          <a:xfrm>
            <a:off x="4140360" y="3860640"/>
            <a:ext cx="1368360" cy="936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4427640" y="4149720"/>
            <a:ext cx="12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O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Line 21"/>
          <p:cNvSpPr/>
          <p:nvPr/>
        </p:nvSpPr>
        <p:spPr>
          <a:xfrm flipH="1">
            <a:off x="3203280" y="335772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Line 22"/>
          <p:cNvSpPr/>
          <p:nvPr/>
        </p:nvSpPr>
        <p:spPr>
          <a:xfrm>
            <a:off x="3851280" y="3357720"/>
            <a:ext cx="649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23"/>
          <p:cNvSpPr/>
          <p:nvPr/>
        </p:nvSpPr>
        <p:spPr>
          <a:xfrm>
            <a:off x="5857920" y="3860640"/>
            <a:ext cx="1297080" cy="9367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5867280" y="393372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ÍNEAS DE ENSAM-BLAJ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25"/>
          <p:cNvSpPr/>
          <p:nvPr/>
        </p:nvSpPr>
        <p:spPr>
          <a:xfrm>
            <a:off x="7586640" y="3860640"/>
            <a:ext cx="1368360" cy="9367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7572240" y="4149720"/>
            <a:ext cx="14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TINU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Line 27"/>
          <p:cNvSpPr/>
          <p:nvPr/>
        </p:nvSpPr>
        <p:spPr>
          <a:xfrm flipH="1">
            <a:off x="6649560" y="335772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7297560" y="3357720"/>
            <a:ext cx="649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755640" y="5589720"/>
            <a:ext cx="8137440" cy="934920"/>
          </a:xfrm>
          <a:prstGeom prst="leftRightArrow">
            <a:avLst>
              <a:gd name="adj1" fmla="val 50000"/>
              <a:gd name="adj2" fmla="val 17327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3132000" y="587700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olúmenes de produc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31"/>
          <p:cNvSpPr/>
          <p:nvPr/>
        </p:nvSpPr>
        <p:spPr>
          <a:xfrm>
            <a:off x="1476360" y="587700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32"/>
          <p:cNvSpPr/>
          <p:nvPr/>
        </p:nvSpPr>
        <p:spPr>
          <a:xfrm>
            <a:off x="1476360" y="58770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Baj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33"/>
          <p:cNvSpPr/>
          <p:nvPr/>
        </p:nvSpPr>
        <p:spPr>
          <a:xfrm>
            <a:off x="7380360" y="5877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l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642960" y="285840"/>
            <a:ext cx="7772400" cy="85716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ipos Procesos Produ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25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E6BE-A947-4EEA-A180-FB078E52988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27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4997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Tahoma"/>
              </a:rPr>
              <a:t>Proye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abricación de productos únicos o exclusiv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a o muy pocas un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ctividades que deben llevarse a  cabo en un lapso de tiempo  y en secu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trol: técnicas de administración y proyectos (PERT – CP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eríodos de fabricación largos y altos cos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jemplo: Construcción casas, bar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483920"/>
            <a:ext cx="44956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Tahoma"/>
              </a:rPr>
              <a:t>Procesos intermit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oca cantidad de productos con mucha varie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tiliza las mismas instalaciones para la producción de distintos produ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quipos y trabajos similares se agrupan en centros de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 producto pasa por distintos centros de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dividen en dos tipos: talleres y lo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642960" y="285840"/>
            <a:ext cx="7772400" cy="85716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ipos Procesos Produ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D6B8-1F1D-4109-953D-9461E1D810E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6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36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Tahoma"/>
              </a:rPr>
              <a:t>Procesos intermitentes tipo ta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fabrica una cantidad pequeña de un product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racterísticas del producto se ajustan a las exigencias del cl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on procesos muy flexi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 lote de producto puede hacerse una sola vez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8320" y="1557360"/>
            <a:ext cx="44956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Tahoma"/>
              </a:rPr>
              <a:t>Procesos intermitentes por lo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producen lotes de productos una y otra vez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cliente elige entre una amplia variedad de productos, pero no es a medi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or lo general los lotes son más grandes que en los talle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 lote pasa por distintos centros de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539640" y="5013360"/>
            <a:ext cx="838836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c1c1c"/>
                </a:solidFill>
                <a:latin typeface="Tahoma"/>
              </a:rPr>
              <a:t>En ambos casos la programación de la producción es complej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c1c1c"/>
                </a:solidFill>
                <a:latin typeface="Tahoma"/>
              </a:rPr>
              <a:t>Indicados en donde hay poca estandarización y volúmenes de producción  no muy alt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c1c1c"/>
                </a:solidFill>
                <a:latin typeface="Tahoma"/>
              </a:rPr>
              <a:t>Requiere especialización de operar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c1c1c"/>
                </a:solidFill>
                <a:latin typeface="Tahoma"/>
              </a:rPr>
              <a:t>Ejemplos: Garaje, Imprent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42960" y="285840"/>
            <a:ext cx="7772400" cy="85716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ipos Procesos Produ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5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B103-E617-49F7-A6D7-FC663E6C0A0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7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468360" y="1628640"/>
            <a:ext cx="770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3300"/>
                </a:solidFill>
                <a:latin typeface="Tahoma"/>
              </a:rPr>
              <a:t>Procesos de flujo line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cuencia de operaciones line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abricación de grandes volúme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oco productos diferentes (procesos poco flexi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lto grado de automatización (los empleados sólo tienen que aprender un número reducido de operaciones sencill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Hay dos tipos: líneas de ensamblaje y procesos continu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6" descr="j0336844"/>
          <p:cNvPicPr/>
          <p:nvPr/>
        </p:nvPicPr>
        <p:blipFill>
          <a:blip r:embed="rId1"/>
          <a:stretch/>
        </p:blipFill>
        <p:spPr>
          <a:xfrm>
            <a:off x="1692360" y="4653000"/>
            <a:ext cx="1944720" cy="1876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j0281149"/>
          <p:cNvPicPr/>
          <p:nvPr/>
        </p:nvPicPr>
        <p:blipFill>
          <a:blip r:embed="rId2"/>
          <a:stretch/>
        </p:blipFill>
        <p:spPr>
          <a:xfrm>
            <a:off x="5003640" y="4581360"/>
            <a:ext cx="2267280" cy="176544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2"/>
          <p:cNvSpPr/>
          <p:nvPr/>
        </p:nvSpPr>
        <p:spPr>
          <a:xfrm>
            <a:off x="642960" y="357120"/>
            <a:ext cx="7772400" cy="85716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ipos Procesos Produ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6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DCDE-8153-40AE-9CDC-DE81D496F78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7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68360" y="1600200"/>
            <a:ext cx="40384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Tahoma"/>
              </a:rPr>
              <a:t>Líneas de ensamblaj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e fabrican productos discreto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Fabricación en ser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on más eficientes que los procesos intermiten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oductos técnicamente homogéne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oca variedad de productos. El cliente participa poc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j.: Juguetes, circuitos impres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4648320" y="1557360"/>
            <a:ext cx="449568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Tahoma"/>
              </a:rPr>
              <a:t>Procesos continu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iempre se ejecutan las mismas operaciones, en las mismas máquinas, para la obtención del mismo produc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ay estandarización y controles de calidad efectivo. Fácil contro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veces los productos no son discret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j.: Petróleo, cerveza, productos químicos a grane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468360" y="4941720"/>
            <a:ext cx="867564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c1c1c"/>
                </a:solidFill>
                <a:latin typeface="Tahoma"/>
              </a:rPr>
              <a:t>En ambos casos las máquinas se disponen en línea, una tras otra. Equipo especializados, poca flexibilidad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c1c1c"/>
                </a:solidFill>
                <a:latin typeface="Tahoma"/>
              </a:rPr>
              <a:t>Productos Masivo, estandarizado, barato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c1c1c"/>
                </a:solidFill>
                <a:latin typeface="Tahoma"/>
              </a:rPr>
              <a:t>Alta inversión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c1c1c"/>
                </a:solidFill>
                <a:latin typeface="Tahoma"/>
              </a:rPr>
              <a:t>Costo Operacional bajo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642960" y="285840"/>
            <a:ext cx="7772400" cy="85716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ipos Procesos Produ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5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E94B-7F20-42CE-AA57-6F8D4D98D8B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7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4"/>
          <p:cNvSpPr/>
          <p:nvPr/>
        </p:nvSpPr>
        <p:spPr>
          <a:xfrm>
            <a:off x="1332000" y="836640"/>
            <a:ext cx="72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ydian BT"/>
              </a:rPr>
              <a:t>PRODUCT-PROCESS MATRIX </a:t>
            </a:r>
            <a:r>
              <a:rPr b="1" lang="en-US" sz="2000" spc="-1" strike="noStrike">
                <a:solidFill>
                  <a:srgbClr val="000000"/>
                </a:solidFill>
                <a:latin typeface="Lydian BT"/>
              </a:rPr>
              <a:t>(Figure 4.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2209680" y="2298600"/>
            <a:ext cx="6153120" cy="437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3505320" y="1536840"/>
            <a:ext cx="1295280" cy="75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Low volume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low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standardiz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Oval 13"/>
          <p:cNvSpPr/>
          <p:nvPr/>
        </p:nvSpPr>
        <p:spPr>
          <a:xfrm>
            <a:off x="3657600" y="3137040"/>
            <a:ext cx="990720" cy="955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Print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Oval 14"/>
          <p:cNvSpPr/>
          <p:nvPr/>
        </p:nvSpPr>
        <p:spPr>
          <a:xfrm>
            <a:off x="4800600" y="3975120"/>
            <a:ext cx="1066680" cy="957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Heav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Equip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Oval 15"/>
          <p:cNvSpPr/>
          <p:nvPr/>
        </p:nvSpPr>
        <p:spPr>
          <a:xfrm>
            <a:off x="6019920" y="4660920"/>
            <a:ext cx="1035000" cy="95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Aut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assembl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Oval 16"/>
          <p:cNvSpPr/>
          <p:nvPr/>
        </p:nvSpPr>
        <p:spPr>
          <a:xfrm>
            <a:off x="7162920" y="5575320"/>
            <a:ext cx="990360" cy="95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Sug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Refine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21"/>
          <p:cNvSpPr/>
          <p:nvPr/>
        </p:nvSpPr>
        <p:spPr>
          <a:xfrm>
            <a:off x="4800600" y="1536840"/>
            <a:ext cx="1066680" cy="75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ow volume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Multi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22"/>
          <p:cNvSpPr/>
          <p:nvPr/>
        </p:nvSpPr>
        <p:spPr>
          <a:xfrm>
            <a:off x="5867280" y="1536840"/>
            <a:ext cx="1206720" cy="75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igher volu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few maj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23"/>
          <p:cNvSpPr/>
          <p:nvPr/>
        </p:nvSpPr>
        <p:spPr>
          <a:xfrm>
            <a:off x="7086600" y="1536840"/>
            <a:ext cx="14479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High volume, hig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standardization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commodity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25"/>
          <p:cNvSpPr/>
          <p:nvPr/>
        </p:nvSpPr>
        <p:spPr>
          <a:xfrm>
            <a:off x="4572000" y="3898800"/>
            <a:ext cx="414360" cy="273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26"/>
          <p:cNvSpPr/>
          <p:nvPr/>
        </p:nvSpPr>
        <p:spPr>
          <a:xfrm>
            <a:off x="5791320" y="4660920"/>
            <a:ext cx="338040" cy="272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27"/>
          <p:cNvSpPr/>
          <p:nvPr/>
        </p:nvSpPr>
        <p:spPr>
          <a:xfrm>
            <a:off x="6934320" y="5499000"/>
            <a:ext cx="360360" cy="27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6" name="Group 47"/>
          <p:cNvGrpSpPr/>
          <p:nvPr/>
        </p:nvGrpSpPr>
        <p:grpSpPr>
          <a:xfrm>
            <a:off x="914400" y="3137040"/>
            <a:ext cx="1314000" cy="3504600"/>
            <a:chOff x="914400" y="3137040"/>
            <a:chExt cx="1314000" cy="3504600"/>
          </a:xfrm>
        </p:grpSpPr>
        <p:sp>
          <p:nvSpPr>
            <p:cNvPr id="167" name="Rectangle 30"/>
            <p:cNvSpPr/>
            <p:nvPr/>
          </p:nvSpPr>
          <p:spPr>
            <a:xfrm>
              <a:off x="914400" y="3137040"/>
              <a:ext cx="131400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 BT"/>
                </a:rPr>
                <a:t>Job Shop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Rectangle 41"/>
            <p:cNvSpPr/>
            <p:nvPr/>
          </p:nvSpPr>
          <p:spPr>
            <a:xfrm>
              <a:off x="914400" y="4012920"/>
              <a:ext cx="1314000" cy="876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 BT"/>
                </a:rPr>
                <a:t>Batch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Rectangle 42"/>
            <p:cNvSpPr/>
            <p:nvPr/>
          </p:nvSpPr>
          <p:spPr>
            <a:xfrm>
              <a:off x="914400" y="4889880"/>
              <a:ext cx="131400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 BT"/>
                </a:rPr>
                <a:t>Assembl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 BT"/>
                </a:rPr>
                <a:t>lin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Rectangle 43"/>
            <p:cNvSpPr/>
            <p:nvPr/>
          </p:nvSpPr>
          <p:spPr>
            <a:xfrm>
              <a:off x="914400" y="5765760"/>
              <a:ext cx="131400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 BT"/>
                </a:rPr>
                <a:t>Continuou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1" name="AutoShape 44"/>
          <p:cNvSpPr/>
          <p:nvPr/>
        </p:nvSpPr>
        <p:spPr>
          <a:xfrm>
            <a:off x="2228760" y="5003640"/>
            <a:ext cx="2138400" cy="1638360"/>
          </a:xfrm>
          <a:prstGeom prst="rtTriangl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 BT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Construi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Sobre capac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45"/>
          <p:cNvSpPr/>
          <p:nvPr/>
        </p:nvSpPr>
        <p:spPr>
          <a:xfrm flipH="1" flipV="1">
            <a:off x="6161040" y="2408400"/>
            <a:ext cx="2139840" cy="1776240"/>
          </a:xfrm>
          <a:prstGeom prst="rtTriangl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 BT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Empresa pequeñ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que cre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48"/>
          <p:cNvSpPr/>
          <p:nvPr/>
        </p:nvSpPr>
        <p:spPr>
          <a:xfrm>
            <a:off x="2209680" y="1536840"/>
            <a:ext cx="1295640" cy="75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Unique, one o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a kind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49"/>
          <p:cNvSpPr/>
          <p:nvPr/>
        </p:nvSpPr>
        <p:spPr>
          <a:xfrm>
            <a:off x="914400" y="2298600"/>
            <a:ext cx="1295280" cy="83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Oval 50"/>
          <p:cNvSpPr/>
          <p:nvPr/>
        </p:nvSpPr>
        <p:spPr>
          <a:xfrm>
            <a:off x="2362320" y="2451240"/>
            <a:ext cx="990360" cy="8794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Build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Line 51"/>
          <p:cNvSpPr/>
          <p:nvPr/>
        </p:nvSpPr>
        <p:spPr>
          <a:xfrm>
            <a:off x="3276720" y="3060720"/>
            <a:ext cx="414360" cy="272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7" name="28 Conector recto de flecha"/>
          <p:cNvCxnSpPr/>
          <p:nvPr/>
        </p:nvCxnSpPr>
        <p:spPr>
          <a:xfrm>
            <a:off x="3492000" y="6021360"/>
            <a:ext cx="8643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8" name="30 Conector recto de flecha"/>
          <p:cNvCxnSpPr/>
          <p:nvPr/>
        </p:nvCxnSpPr>
        <p:spPr>
          <a:xfrm flipH="1">
            <a:off x="7380000" y="2709720"/>
            <a:ext cx="21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DB47-18C3-4689-B0B2-BCF3F599C6B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Producto-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rpret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 masiv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tandariza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proceso en lí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 cambio de producto esta ligado a un cambio de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atrasa el avance en los procesos aumentan los costos, si se adelanta se pierde flexi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conveniente moverse sobre la diag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Wolf</cp:lastModifiedBy>
  <cp:lastPrinted>2001-04-12T20:51:56Z</cp:lastPrinted>
  <dcterms:modified xsi:type="dcterms:W3CDTF">2010-08-17T13:14:14Z</dcterms:modified>
  <cp:revision>195</cp:revision>
  <dc:subject/>
  <dc:title>Comercio Electrónico</dc:title>
</cp:coreProperties>
</file>