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5E30-095A-429F-85D2-43D531CB4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F7DDA-2D92-483A-9304-49229F60C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67E8-FCC9-4BFF-BC1A-44DC355EA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327F-370F-4C86-B9DB-D5FB16365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D4601-E47A-4C2A-AA13-7CDA2D39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64457-173E-4E0C-AEFD-4512D0B5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B0F89-07FD-4A24-A5DA-D4A5CB5F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BD47C-7FD1-4F98-8B1D-BC99F42A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F62BF-1AEF-4934-A7F5-D346DBEC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3CF7E-6CF7-425A-9A26-D426575C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908D4-6A56-4BD5-AE9D-8ADB3D16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795C7-5D79-4341-94A9-7BF40B340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9F549-6BB8-4F35-9664-60C03872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71C2B-A5B1-4076-B1A0-4AB8920F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5F077-0621-49CF-A8A0-AE58560A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706A9-7612-41B4-B3C3-DD6D673C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99184-D1D9-43B4-A3F9-DB9C3507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9DCCF-4ABD-4996-9535-F946A6745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F897B-15B9-4E4D-A7EF-A921EFDA0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EBFD8-BCDA-4E25-80D8-D7CAB2F64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4AFC-AAC3-4FAB-BA45-6BE810939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4D495-4BF3-498E-BC59-28F015E74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7F10A-431F-4C7A-87B2-F9FBF3725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FA326-BFCE-433E-AD69-18A053D2F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4912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B360-D6FB-4A85-815C-51CE1C334B9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DD3F-F53E-464D-B532-1F3BE6E8841A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3733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itulo : Selección del Proceso Produ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601D-E0CE-46FA-A2DB-72DD0F83E77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3840" y="1341360"/>
            <a:ext cx="90201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EEB1-C5F8-439D-89A4-38B2F633279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BF39-068C-4E29-8270-A1F73436BE5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AF11-360D-4B10-BCDB-06DC3FA93A5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65240" y="1125360"/>
            <a:ext cx="85104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D3DF-644E-483E-9F03-A757F7815A8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C83E-B16F-4BA6-931C-56A558A6B3E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FE1E-C986-4F8C-B3CE-2635617603A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0A84-FE9E-44B7-A609-1992C274D34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F560-EC58-47FA-869F-A7D1305FB3B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B213-AB78-4A84-B348-0A4A0BECA1B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3AD1-600B-4DD8-8408-C1613ED94B2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10CA-F1A6-463A-9950-CFFE9AF6617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40E9-AAD1-4C82-B8FF-1E4798B7BE9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   =&gt; Col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16E2-3D70-4364-AC74-91AC8CAEFF3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A717-933D-4854-8BE9-A08E5131364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7D96-9454-4913-938E-62DAE5EC908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3952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84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30574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059280" y="27082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MIT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2992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6372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LUJO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2411280" y="3860640"/>
            <a:ext cx="129708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484360" y="4149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4140360" y="3860640"/>
            <a:ext cx="136836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4427640" y="4149720"/>
            <a:ext cx="12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21"/>
          <p:cNvSpPr/>
          <p:nvPr/>
        </p:nvSpPr>
        <p:spPr>
          <a:xfrm flipH="1">
            <a:off x="320328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3851280" y="3357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5857920" y="3860640"/>
            <a:ext cx="129708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867280" y="3933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ÍNEAS DE ENSAM-BL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586640" y="3860640"/>
            <a:ext cx="136836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7572240" y="414972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TINU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27"/>
          <p:cNvSpPr/>
          <p:nvPr/>
        </p:nvSpPr>
        <p:spPr>
          <a:xfrm flipH="1">
            <a:off x="664956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7297560" y="3357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755640" y="5589720"/>
            <a:ext cx="8137440" cy="934920"/>
          </a:xfrm>
          <a:prstGeom prst="leftRightArrow">
            <a:avLst>
              <a:gd name="adj1" fmla="val 50000"/>
              <a:gd name="adj2" fmla="val 1732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3132000" y="587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olúmenes de produ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1476360" y="5877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1476360" y="5877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738036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2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D000-8658-42C4-BBA0-731575C8214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2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ahoma"/>
              </a:rPr>
              <a:t>Proye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bricación de productos únicos o exclu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a o muy pocas un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vidades que deben llevarse a  cabo en un lapso de tiempo  y en secu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: técnicas de administración y proyectos (PERT – CP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eríodos de fabricación largos y altos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mplo: Construcción casas,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ahoma"/>
              </a:rPr>
              <a:t>Procesos intermit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ca cantidad de productos con mucha varie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tiliza las mismas instalaciones para la producción de distintos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quipos y trabajos similares se agrupan en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producto pasa por distintos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ividen en dos tipos: talleres y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A469-F352-442F-B524-89D01F7F090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6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Procesos intermitentes tipo ta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fabrica una cantidad pequeña de un produc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racterísticas del producto se ajustan a las exigencias d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n procesos muy flex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lote de producto puede hacerse una sola v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4956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Procesos intermitentes por lo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producen lotes de productos una y otra v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cliente elige entre una amplia variedad de productos, pero no es a med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r lo general los lotes son más grandes que en los talle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lote pasa por distintos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9640" y="5013360"/>
            <a:ext cx="8388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En ambos casos la programación de la producción es complej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Indicados en donde hay poca estandarización y volúmenes de producción  no muy al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Requiere especialización de ope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Ejemplos: Garaje, Imprent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75E1-6A7F-4E18-80B2-D187706E74B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468360" y="1628640"/>
            <a:ext cx="770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Tahoma"/>
              </a:rPr>
              <a:t>Procesos de flujo lin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cuencia de operaciones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bricación de grandes volúme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co productos diferentes (procesos poco flexi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lto grado de automatización (los empleados sólo tienen que aprender un número reducido de operaciones sencill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ay dos tipos: líneas de ensamblaje y procesos continu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6" descr="j0336844"/>
          <p:cNvPicPr/>
          <p:nvPr/>
        </p:nvPicPr>
        <p:blipFill>
          <a:blip r:embed="rId1"/>
          <a:stretch/>
        </p:blipFill>
        <p:spPr>
          <a:xfrm>
            <a:off x="1692360" y="4653000"/>
            <a:ext cx="1944720" cy="187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j0281149"/>
          <p:cNvPicPr/>
          <p:nvPr/>
        </p:nvPicPr>
        <p:blipFill>
          <a:blip r:embed="rId2"/>
          <a:stretch/>
        </p:blipFill>
        <p:spPr>
          <a:xfrm>
            <a:off x="5003640" y="4581360"/>
            <a:ext cx="2267280" cy="17654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6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91E8-4AB0-45BA-ABEC-BA081707B22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68360" y="1600200"/>
            <a:ext cx="403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Líneas de ensambl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fabrican productos discret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abricación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on más eficientes que los procesos intermit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ductos técnicamente homogéne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ca variedad de productos. El cliente participa po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j.: Juguetes, circuitos impre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648320" y="1557360"/>
            <a:ext cx="44956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Procesos continu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empre se ejecutan las mismas operaciones, en las mismas máquinas, para la obtención del mismo produc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y estandarización y controles de calidad efectivo.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veces los productos no son discre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j.: Petróleo, cerveza, productos químicos a gr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68360" y="4941720"/>
            <a:ext cx="867564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En ambos casos las máquinas se disponen en línea, una tras otra. Equipo especializados, poca flexibilida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Productos Masivo, estandarizado, barat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Alta inversió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Costo Operacional baj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4670-7AA8-4C48-81DC-FA6CF38DEA1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4"/>
          <p:cNvSpPr/>
          <p:nvPr/>
        </p:nvSpPr>
        <p:spPr>
          <a:xfrm>
            <a:off x="1332000" y="836640"/>
            <a:ext cx="72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ydian BT"/>
              </a:rPr>
              <a:t>PRODUCT-PROCESS MATRIX </a:t>
            </a:r>
            <a:r>
              <a:rPr b="1" lang="en-US" sz="2000" spc="-1" strike="noStrike">
                <a:solidFill>
                  <a:srgbClr val="000000"/>
                </a:solidFill>
                <a:latin typeface="Lydian BT"/>
              </a:rPr>
              <a:t>(Figure 4.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209680" y="2298600"/>
            <a:ext cx="6153120" cy="437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505320" y="1536840"/>
            <a:ext cx="129528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Low volume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l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standardiz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3657600" y="3137040"/>
            <a:ext cx="990720" cy="955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Prin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4800600" y="3975120"/>
            <a:ext cx="1066680" cy="957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Hea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6019920" y="4660920"/>
            <a:ext cx="1035000" cy="95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Au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assembl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7162920" y="5575320"/>
            <a:ext cx="990360" cy="95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Sug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Refin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4800600" y="1536840"/>
            <a:ext cx="106668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ow volum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5867280" y="1536840"/>
            <a:ext cx="120672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gher volu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few maj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7086600" y="1536840"/>
            <a:ext cx="14479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High volume, hig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standardization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commodity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25"/>
          <p:cNvSpPr/>
          <p:nvPr/>
        </p:nvSpPr>
        <p:spPr>
          <a:xfrm>
            <a:off x="4572000" y="3898800"/>
            <a:ext cx="414360" cy="27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5791320" y="4660920"/>
            <a:ext cx="33804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6934320" y="5499000"/>
            <a:ext cx="360360" cy="27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Group 47"/>
          <p:cNvGrpSpPr/>
          <p:nvPr/>
        </p:nvGrpSpPr>
        <p:grpSpPr>
          <a:xfrm>
            <a:off x="914400" y="3137040"/>
            <a:ext cx="1314000" cy="3504600"/>
            <a:chOff x="914400" y="3137040"/>
            <a:chExt cx="1314000" cy="3504600"/>
          </a:xfrm>
        </p:grpSpPr>
        <p:sp>
          <p:nvSpPr>
            <p:cNvPr id="167" name="Rectangle 30"/>
            <p:cNvSpPr/>
            <p:nvPr/>
          </p:nvSpPr>
          <p:spPr>
            <a:xfrm>
              <a:off x="914400" y="313704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Job Sho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41"/>
            <p:cNvSpPr/>
            <p:nvPr/>
          </p:nvSpPr>
          <p:spPr>
            <a:xfrm>
              <a:off x="914400" y="4012920"/>
              <a:ext cx="1314000" cy="87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Batch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914400" y="488988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lin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Rectangle 43"/>
            <p:cNvSpPr/>
            <p:nvPr/>
          </p:nvSpPr>
          <p:spPr>
            <a:xfrm>
              <a:off x="914400" y="576576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Continuou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1" name="AutoShape 44"/>
          <p:cNvSpPr/>
          <p:nvPr/>
        </p:nvSpPr>
        <p:spPr>
          <a:xfrm>
            <a:off x="2228760" y="5003640"/>
            <a:ext cx="2138400" cy="163836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 BT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Constru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Sobre capac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45"/>
          <p:cNvSpPr/>
          <p:nvPr/>
        </p:nvSpPr>
        <p:spPr>
          <a:xfrm flipH="1" flipV="1">
            <a:off x="6161040" y="2408400"/>
            <a:ext cx="2139840" cy="177624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 BT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Empresa pequeñ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que cre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8"/>
          <p:cNvSpPr/>
          <p:nvPr/>
        </p:nvSpPr>
        <p:spPr>
          <a:xfrm>
            <a:off x="2209680" y="1536840"/>
            <a:ext cx="129564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Unique, one 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a ki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49"/>
          <p:cNvSpPr/>
          <p:nvPr/>
        </p:nvSpPr>
        <p:spPr>
          <a:xfrm>
            <a:off x="914400" y="2298600"/>
            <a:ext cx="1295280" cy="8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2362320" y="2451240"/>
            <a:ext cx="990360" cy="8794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51"/>
          <p:cNvSpPr/>
          <p:nvPr/>
        </p:nvSpPr>
        <p:spPr>
          <a:xfrm>
            <a:off x="3276720" y="3060720"/>
            <a:ext cx="41436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7" name="28 Conector recto de flecha"/>
          <p:cNvCxnSpPr/>
          <p:nvPr/>
        </p:nvCxnSpPr>
        <p:spPr>
          <a:xfrm>
            <a:off x="3492000" y="6021360"/>
            <a:ext cx="864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30 Conector recto de flecha"/>
          <p:cNvCxnSpPr/>
          <p:nvPr/>
        </p:nvCxnSpPr>
        <p:spPr>
          <a:xfrm flipH="1">
            <a:off x="7380000" y="270972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36EE-3CBD-45D7-B606-3E041CFC7FC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Wolf</cp:lastModifiedBy>
  <cp:lastPrinted>2001-04-12T20:51:56Z</cp:lastPrinted>
  <dcterms:modified xsi:type="dcterms:W3CDTF">2010-08-17T13:14:14Z</dcterms:modified>
  <cp:revision>195</cp:revision>
  <dc:subject/>
  <dc:title>Comercio Electrónico</dc:title>
</cp:coreProperties>
</file>