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4A3C0-004B-4E60-8D5B-68A7D2081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A5AB-8475-458C-AEAD-4D5A6C60E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417F-119C-4781-8E92-1971CE32D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E00D-0EC1-4361-9CBB-153BCF8F8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9BE4F-20A4-44E9-A5CA-19BE92E4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E6144-3556-4421-9A16-C69780C7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3AA65-F708-4A65-82D1-C71E34F9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6AF5B-86B7-4873-9ACA-6CB153B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E2FAB-36A5-4355-9BE2-4A0B2B30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DF7FF-1D5F-4692-8B71-414DDA90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B0185-998B-4E72-A5FF-7835B7D3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B1C9-6069-47B5-9735-A30243C46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F40CA-586D-4D4E-B459-3EEE835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C5427-FD47-41CC-8EA3-2D618C6C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FE8B8-485E-4E2D-A5C1-151D858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B499B-3656-470F-9FC5-2B963CEE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C32C4-E8D0-472C-8152-FB1BB2E0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6ABF-339F-4B66-AF62-CF51DC48C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1491-CAAA-45EC-B988-367F83C79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BF62-3424-4F29-98C5-318492AAC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515F-8D6B-42F8-AA26-CCBF1F1AF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3F5B-4364-4C40-9C7B-3695CC705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3A11-3315-4EBF-9EE0-CA46E7A1F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19A1-6067-4052-B931-DDE401663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D663-2343-4889-81C6-AB7263C0B6B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9924-F74D-4DCE-92D0-0417715B4D2F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3733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itulo : Selección del Proceso Produc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D875-FD23-4E4F-BB30-3A656BC7FFE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9020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F627-B25B-4B12-88F1-22CDCA76243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B49-16FB-4D2B-96F1-8AED4FA804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1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2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E643-C0C2-4904-BC87-214394C74D4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65240" y="1125360"/>
            <a:ext cx="85104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43E1-B231-4C0F-B340-ECCC4F6A261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F359-3662-40E8-96E1-D5C004397D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6C2-71E1-48E7-8CF2-8540B064696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EDE-26D8-4E9D-A0C1-31AF64D4BAA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4061-EAFA-478E-923F-A7C0AAEC3C9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906C-FE58-40CD-890B-27DF7575E1C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525-3B71-4701-96A7-31B1E7418A1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66A-917B-478F-896A-C1D8F529C19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F116-6C9F-4139-87B0-9291CF05F6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   =&gt; Col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488F-F4F4-4B33-8EBE-8996DC733F0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0333-C0C3-4F61-9EE1-7790DE2DBD3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7AE3-7578-472B-9354-BC2DA274A00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395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0574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59280" y="270828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MI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299280" y="2421000"/>
            <a:ext cx="2016000" cy="93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72360" y="2708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LUJO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411280" y="3860640"/>
            <a:ext cx="129708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484360" y="414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4140360" y="3860640"/>
            <a:ext cx="1368360" cy="936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427640" y="4149720"/>
            <a:ext cx="12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21"/>
          <p:cNvSpPr/>
          <p:nvPr/>
        </p:nvSpPr>
        <p:spPr>
          <a:xfrm flipH="1">
            <a:off x="320328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385128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5857920" y="3860640"/>
            <a:ext cx="12970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867280" y="393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ÍNEAS DE ENSAM-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586640" y="3860640"/>
            <a:ext cx="136836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7572240" y="41497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TINU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664956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297560" y="3357720"/>
            <a:ext cx="6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5589720"/>
            <a:ext cx="8137440" cy="934920"/>
          </a:xfrm>
          <a:prstGeom prst="leftRightArrow">
            <a:avLst>
              <a:gd name="adj1" fmla="val 50000"/>
              <a:gd name="adj2" fmla="val 1732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3132000" y="587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olúmenes de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1476360" y="587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1476360" y="5877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738036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2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DE21-A409-4DD3-986D-4C548B278EF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2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4997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y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productos únicos o exclu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a o muy pocas un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vidades que deben llevarse a  cabo en un lapso de tiempo  y en secu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rol: técnicas de administración y proyectos (PERT – CP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íodos de fabricación largos y altos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: Construcción casas,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ahoma"/>
              </a:rPr>
              <a:t>Procesos intermit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a cantidad de productos con mucha varie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tiliza las mismas instalaciones para la producción de distintos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quipos y trabajos similares se agrupan en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producto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ividen en dos tipos: talleres y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D14F-E76E-470F-8921-4241AC04AD7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6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tipo ta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fabrica una cantidad pequeña de un product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aracterísticas del producto se ajustan a las exigencias d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n procesos muy flex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de producto puede hacerse una sol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Procesos intermitentes por lo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producen lotes de productos una y otra v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cliente elige entre una amplia variedad de productos, pero no es a med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lo general los lotes son más grandes que en los talle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 lote pasa por distintos centros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9640" y="5013360"/>
            <a:ext cx="8388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n ambos casos la programación de la producción es complej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Indicados en donde hay poca estandarización y volúmenes de producción  no muy al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Requiere especialización de ope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Tahoma"/>
              </a:rPr>
              <a:t>Ejemplos: Garaje, Impren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90F2-356C-4B45-AC70-899D8851461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468360" y="1628640"/>
            <a:ext cx="770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ahoma"/>
              </a:rPr>
              <a:t>Procesos de fluj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cuencia de operaciones lin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abricación de grandes volúme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co productos diferentes (procesos poco flexi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lto grado de automatización (los empleados sólo tienen que aprender un número reducido de operaciones sencil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Hay dos tipos: líneas de ensamblaje y procesos continu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j0336844"/>
          <p:cNvPicPr/>
          <p:nvPr/>
        </p:nvPicPr>
        <p:blipFill>
          <a:blip r:embed="rId1"/>
          <a:stretch/>
        </p:blipFill>
        <p:spPr>
          <a:xfrm>
            <a:off x="1692360" y="465300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j0281149"/>
          <p:cNvPicPr/>
          <p:nvPr/>
        </p:nvPicPr>
        <p:blipFill>
          <a:blip r:embed="rId2"/>
          <a:stretch/>
        </p:blipFill>
        <p:spPr>
          <a:xfrm>
            <a:off x="5003640" y="4581360"/>
            <a:ext cx="2267280" cy="176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642960" y="35712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6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8A63-9524-4204-BA8D-1FFE23F473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6836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Líneas de ensambla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fabrican productos discret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bricación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on más eficientes que los procesos intermi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uctos técnicamente homogéne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ca variedad de productos. El cliente participa po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Juguetes, circuitos impres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557360"/>
            <a:ext cx="44956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Tahoma"/>
              </a:rPr>
              <a:t>Procesos continu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empre se ejecutan las mismas operaciones, en las mismas máquinas, para la obtención del mismo produc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y estandarización y controles de calidad efectivo.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 veces los productos no son discre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j.: Petróleo, cerveza, productos químicos a gr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68360" y="4941720"/>
            <a:ext cx="867564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En ambos casos las máquinas se disponen en línea, una tras otra. Equipo especializados, poca flexibilida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Productos Masivo, estandarizado, barat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Alta inversió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1c1c1c"/>
                </a:solidFill>
                <a:latin typeface="Tahoma"/>
              </a:rPr>
              <a:t>Costo Operacional baj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42960" y="285840"/>
            <a:ext cx="7772400" cy="857160"/>
          </a:xfrm>
          <a:prstGeom prst="rect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Tipos Procesos Productiv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49A3-BBEC-4CFB-8345-F81493ABA6B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7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4"/>
          <p:cNvSpPr/>
          <p:nvPr/>
        </p:nvSpPr>
        <p:spPr>
          <a:xfrm>
            <a:off x="1332000" y="836640"/>
            <a:ext cx="72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 BT"/>
              </a:rPr>
              <a:t>PRODUCT-PROCESS MATRIX </a:t>
            </a:r>
            <a:r>
              <a:rPr b="1" lang="en-US" sz="2000" spc="-1" strike="noStrike">
                <a:solidFill>
                  <a:srgbClr val="000000"/>
                </a:solidFill>
                <a:latin typeface="Lydian BT"/>
              </a:rPr>
              <a:t>(Figure 4.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209680" y="2298600"/>
            <a:ext cx="6153120" cy="43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505320" y="1536840"/>
            <a:ext cx="12952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volume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l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3657600" y="3137040"/>
            <a:ext cx="990720" cy="955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in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4800600" y="3975120"/>
            <a:ext cx="1066680" cy="957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Hea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6019920" y="4660920"/>
            <a:ext cx="103500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ut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7162920" y="5575320"/>
            <a:ext cx="990360" cy="95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ug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Refin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4800600" y="1536840"/>
            <a:ext cx="106668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w volume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5867280" y="1536840"/>
            <a:ext cx="120672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few maj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086600" y="1536840"/>
            <a:ext cx="14479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High volume, hig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standardization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commodit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4572000" y="3898800"/>
            <a:ext cx="414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791320" y="4660920"/>
            <a:ext cx="33804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6934320" y="5499000"/>
            <a:ext cx="36036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47"/>
          <p:cNvGrpSpPr/>
          <p:nvPr/>
        </p:nvGrpSpPr>
        <p:grpSpPr>
          <a:xfrm>
            <a:off x="914400" y="3137040"/>
            <a:ext cx="1314000" cy="3504600"/>
            <a:chOff x="914400" y="3137040"/>
            <a:chExt cx="1314000" cy="3504600"/>
          </a:xfrm>
        </p:grpSpPr>
        <p:sp>
          <p:nvSpPr>
            <p:cNvPr id="167" name="Rectangle 30"/>
            <p:cNvSpPr/>
            <p:nvPr/>
          </p:nvSpPr>
          <p:spPr>
            <a:xfrm>
              <a:off x="914400" y="313704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Job Sho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1"/>
            <p:cNvSpPr/>
            <p:nvPr/>
          </p:nvSpPr>
          <p:spPr>
            <a:xfrm>
              <a:off x="914400" y="4012920"/>
              <a:ext cx="1314000" cy="87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Batch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914400" y="488988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Assembl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lin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43"/>
            <p:cNvSpPr/>
            <p:nvPr/>
          </p:nvSpPr>
          <p:spPr>
            <a:xfrm>
              <a:off x="914400" y="5765760"/>
              <a:ext cx="1314000" cy="87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 BT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1" name="AutoShape 44"/>
          <p:cNvSpPr/>
          <p:nvPr/>
        </p:nvSpPr>
        <p:spPr>
          <a:xfrm>
            <a:off x="2228760" y="5003640"/>
            <a:ext cx="2138400" cy="163836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Construi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Sobre capac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45"/>
          <p:cNvSpPr/>
          <p:nvPr/>
        </p:nvSpPr>
        <p:spPr>
          <a:xfrm flipH="1" flipV="1">
            <a:off x="6161040" y="2408400"/>
            <a:ext cx="2139840" cy="1776240"/>
          </a:xfrm>
          <a:prstGeom prst="rtTriangl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 BT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Empresa pequeñ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que cre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8"/>
          <p:cNvSpPr/>
          <p:nvPr/>
        </p:nvSpPr>
        <p:spPr>
          <a:xfrm>
            <a:off x="2209680" y="1536840"/>
            <a:ext cx="1295640" cy="75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Unique, one 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a ki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ydian BT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914400" y="2298600"/>
            <a:ext cx="1295280" cy="83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2362320" y="2451240"/>
            <a:ext cx="990360" cy="8794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ydian BT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51"/>
          <p:cNvSpPr/>
          <p:nvPr/>
        </p:nvSpPr>
        <p:spPr>
          <a:xfrm>
            <a:off x="3276720" y="3060720"/>
            <a:ext cx="414360" cy="272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7" name="28 Conector recto de flecha"/>
          <p:cNvCxnSpPr/>
          <p:nvPr/>
        </p:nvCxnSpPr>
        <p:spPr>
          <a:xfrm>
            <a:off x="3492000" y="6021360"/>
            <a:ext cx="864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30 Conector recto de flecha"/>
          <p:cNvCxnSpPr/>
          <p:nvPr/>
        </p:nvCxnSpPr>
        <p:spPr>
          <a:xfrm flipH="1">
            <a:off x="7380000" y="2709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Marcador de pie de página"/>
          <p:cNvSpPr/>
          <p:nvPr/>
        </p:nvSpPr>
        <p:spPr>
          <a:xfrm rot="21562800">
            <a:off x="474948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: Selección Proceso Productivo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1833-DE01-4E56-BD61-130858AF506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Wolf</cp:lastModifiedBy>
  <cp:lastPrinted>2001-04-12T20:51:56Z</cp:lastPrinted>
  <dcterms:modified xsi:type="dcterms:W3CDTF">2010-08-17T13:14:14Z</dcterms:modified>
  <cp:revision>195</cp:revision>
  <dc:subject/>
  <dc:title>Comercio Electrónico</dc:title>
</cp:coreProperties>
</file>