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780840" y="1320480"/>
            <a:ext cx="4089240" cy="30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hdr"/>
          </p:nvPr>
        </p:nvSpPr>
        <p:spPr>
          <a:xfrm>
            <a:off x="63000" y="9303840"/>
            <a:ext cx="3549960" cy="3430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232920" y="-360"/>
            <a:ext cx="2846520" cy="3445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  <a:defRPr b="0" lang="en-US" sz="9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4296960" y="-360"/>
            <a:ext cx="3019320" cy="3445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  <a:defRPr b="0" lang="en-US" sz="9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stern" descr=""/>
          <p:cNvPicPr/>
          <p:nvPr/>
        </p:nvPicPr>
        <p:blipFill>
          <a:blip r:embed="rId2"/>
          <a:stretch/>
        </p:blipFill>
        <p:spPr>
          <a:xfrm>
            <a:off x="6046920" y="9228240"/>
            <a:ext cx="1209600" cy="311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../slides/slide11.xml"/><Relationship Id="rId3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../slides/slide13.xml"/><Relationship Id="rId3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../slides/slide15.xml"/><Relationship Id="rId3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../slides/slide17.xml"/><Relationship Id="rId3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" Target="../slides/slide18.xml"/><Relationship Id="rId4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" Target="../slides/slide20.xml"/><Relationship Id="rId4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../slides/slide5.xml"/><Relationship Id="rId3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../slides/slide7.xml"/><Relationship Id="rId3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../slides/slide9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455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456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00" name="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601" name="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29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630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58" name="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659" name="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686" name="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87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688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2670120" y="132084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15" name="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716" name="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2" name="" descr=""/>
          <p:cNvPicPr/>
          <p:nvPr/>
        </p:nvPicPr>
        <p:blipFill>
          <a:blip r:embed="rId2"/>
          <a:stretch/>
        </p:blipFill>
        <p:spPr>
          <a:xfrm>
            <a:off x="2670120" y="5473800"/>
            <a:ext cx="4140360" cy="306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" descr=""/>
          <p:cNvPicPr/>
          <p:nvPr/>
        </p:nvPicPr>
        <p:blipFill>
          <a:blip r:embed="rId1"/>
          <a:stretch/>
        </p:blipFill>
        <p:spPr>
          <a:xfrm>
            <a:off x="762120" y="132084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44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745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1" name="" descr=""/>
          <p:cNvPicPr/>
          <p:nvPr/>
        </p:nvPicPr>
        <p:blipFill>
          <a:blip r:embed="rId2"/>
          <a:stretch/>
        </p:blipFill>
        <p:spPr>
          <a:xfrm>
            <a:off x="762120" y="5473800"/>
            <a:ext cx="4132080" cy="306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484" name="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485" name="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13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514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42" name="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543" name="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71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572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419F-A1DA-4810-8B2C-133896DF9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C5BE-C762-45C9-A59A-A65B3F63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5F95-B724-48CE-B5EC-E8B81E643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9D33-6141-4C8E-B246-0882C59F0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E54F-748D-4CD7-A03C-37B7531B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4E30-60CE-4C62-8595-0C13CD2B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B9C6-4627-4616-A6A3-05D0F63F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2267-A09A-423A-A28E-E21DEDA4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9B7E-8684-4734-BA42-3B83D9A3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7C92-A95C-46D9-B964-3E16019E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E676-0254-4E8D-928B-6CD3D46D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DC19-1B86-4280-B388-96816659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0362-3294-491B-BBC7-AB699E575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477120"/>
            <a:ext cx="5257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Palatino Linotype"/>
              </a:rPr>
              <a:t>Análisis de Proces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981840" y="6299280"/>
            <a:ext cx="216216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59520"/>
            <a:ext cx="7772400" cy="16916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17175e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s-CL" sz="5400" spc="-1" strike="noStrike">
                <a:solidFill>
                  <a:srgbClr val="ffffff"/>
                </a:solidFill>
                <a:latin typeface="Georgia"/>
              </a:rPr>
              <a:t>Análisis de Procesos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792468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17520" y="152280"/>
            <a:ext cx="6845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onceptos &amp; Defini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0120" y="107964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iempo de Ciclo</a:t>
            </a:r>
            <a:r>
              <a:rPr b="0" lang="es-CL" sz="2400" spc="-1" strike="noStrike">
                <a:solidFill>
                  <a:srgbClr val="3333cc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Tiempo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Garamond"/>
              </a:rPr>
              <a:t>promedio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entre la producción de dos unidades  consecutivas en un procesos que produce continu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Capacidad</a:t>
            </a:r>
            <a:r>
              <a:rPr b="0" lang="es-CL" sz="2400" spc="-1" strike="noStrike">
                <a:solidFill>
                  <a:srgbClr val="3333cc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Producción 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Garamond"/>
              </a:rPr>
              <a:t>promedio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por unidad de tiempo cuando el proceso produce continu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Utilización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Producción / Capac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iempo de Flujo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= Tiempo que una unidad pasa en el sistema (incluyendo tiempos de espe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19600" y="3022560"/>
            <a:ext cx="5661000" cy="520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Garamond"/>
              </a:rPr>
              <a:t>Capacidad = 1/ (Tiempo de Cic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1680" y="5019840"/>
            <a:ext cx="8702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Garamond"/>
              </a:rPr>
              <a:t>Observa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Las medidas tiempo de ciclo, capacidad, utilización, tiempo de flujo pueden aplicarse a cada proceso o al sistema comple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Tiempo de Flujo de un proceso no coincide necesariamente con Tiempo de Ciclo. Porqué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17520" y="152280"/>
            <a:ext cx="6616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Mas Conceptos &amp; Defini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1130400"/>
            <a:ext cx="85345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Proceso en Batc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Varias unidades son procesada simultáneamente. El número de unidades procesadas simultáneamente se conoce como 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amaño de Lote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Batch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Cuello de Botella (CB)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Operación/Recurso que limita la produccion total de un proceso: usualmente es la operación/recurso con menor capac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Capacidad del Sistema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Capacidad del 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iempo de Ciclo del Sistema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Tiempo de Ciclo del C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iempo Ocios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Tiempo durante el cual una operación/recursos no está producie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82800" y="2438280"/>
            <a:ext cx="7375680" cy="520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Garamond"/>
              </a:rPr>
              <a:t>Tiempo de Flujo = Tiempo de Ciclo </a:t>
            </a:r>
            <a:r>
              <a:rPr b="0" lang="es-CL" sz="24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lang="es-CL" sz="2800" spc="-1" strike="noStrike">
                <a:solidFill>
                  <a:srgbClr val="3333cc"/>
                </a:solidFill>
                <a:latin typeface="Garamond"/>
              </a:rPr>
              <a:t> B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8160" y="152280"/>
            <a:ext cx="8521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Análisis de Proceso con un Hor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43080" y="1270080"/>
          <a:ext cx="8420040" cy="4700520"/>
        </p:xfrm>
        <a:graphic>
          <a:graphicData uri="http://schemas.openxmlformats.org/drawingml/2006/table">
            <a:tbl>
              <a:tblPr/>
              <a:tblGrid>
                <a:gridCol w="1126800"/>
                <a:gridCol w="1019160"/>
                <a:gridCol w="1320840"/>
                <a:gridCol w="1219320"/>
                <a:gridCol w="1066680"/>
                <a:gridCol w="1295640"/>
                <a:gridCol w="1371600"/>
              </a:tblGrid>
              <a:tr h="578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Proces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Tamaño Orden = 1 d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Tamaño Orden = 2 d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den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de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ezcla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ac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or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fr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ini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ini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mpa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trega y Pa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</a:t>
                      </a: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n/h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</a:t>
                      </a: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n/h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n/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1066680" y="59436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Georgia"/>
              </a:rPr>
              <a:t>Ver transparencias que  siguen con la discusión de estos val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69800" y="152280"/>
            <a:ext cx="56768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arta Gant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92120" y="1171440"/>
            <a:ext cx="842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anto tiempo toma producir 1 dz. con un solo horno? 2 dzs? 3 dz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609560" y="5102280"/>
            <a:ext cx="6791400" cy="680040"/>
            <a:chOff x="1609560" y="5102280"/>
            <a:chExt cx="6791400" cy="680040"/>
          </a:xfrm>
        </p:grpSpPr>
        <p:sp>
          <p:nvSpPr>
            <p:cNvPr id="188" name=""/>
            <p:cNvSpPr/>
            <p:nvPr/>
          </p:nvSpPr>
          <p:spPr>
            <a:xfrm>
              <a:off x="1609560" y="5416560"/>
              <a:ext cx="38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19280" y="511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57960" y="51022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34320" y="511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400960" y="511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72000" y="54165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9000" y="54165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01320" y="538344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1</a:t>
              </a:r>
              <a:r>
                <a:rPr b="0" lang="es-CL" sz="2000" spc="-1" strike="noStrike" baseline="30000">
                  <a:solidFill>
                    <a:srgbClr val="990033"/>
                  </a:solidFill>
                  <a:latin typeface="Times New Roman"/>
                </a:rPr>
                <a:t>ra</a:t>
              </a: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  d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057480" y="5121360"/>
              <a:ext cx="82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imes New Roman"/>
                </a:rPr>
                <a:t>26 m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96000" y="5381640"/>
              <a:ext cx="81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2</a:t>
              </a:r>
              <a:r>
                <a:rPr b="0" lang="es-CL" sz="2000" spc="-1" strike="noStrike" baseline="30000">
                  <a:solidFill>
                    <a:srgbClr val="990033"/>
                  </a:solidFill>
                  <a:latin typeface="Times New Roman"/>
                </a:rPr>
                <a:t>da</a:t>
              </a: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  d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818320" y="5119920"/>
              <a:ext cx="82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imes New Roman"/>
                </a:rPr>
                <a:t>10 m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90720" y="537372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3</a:t>
              </a:r>
              <a:r>
                <a:rPr b="0" lang="es-CL" sz="2000" spc="-1" strike="noStrike" baseline="30000">
                  <a:solidFill>
                    <a:srgbClr val="990033"/>
                  </a:solidFill>
                  <a:latin typeface="Times New Roman"/>
                </a:rPr>
                <a:t>ra</a:t>
              </a: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  d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13760" y="5112000"/>
              <a:ext cx="82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imes New Roman"/>
                </a:rPr>
                <a:t>10 m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493200" y="5970600"/>
            <a:ext cx="636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Qué pasa con otros recursos como Bandejas y Trabaj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46680" y="2301840"/>
            <a:ext cx="8670240" cy="2822760"/>
            <a:chOff x="346680" y="2301840"/>
            <a:chExt cx="8670240" cy="2822760"/>
          </a:xfrm>
        </p:grpSpPr>
        <p:sp>
          <p:nvSpPr>
            <p:cNvPr id="203" name=""/>
            <p:cNvSpPr/>
            <p:nvPr/>
          </p:nvSpPr>
          <p:spPr>
            <a:xfrm>
              <a:off x="431640" y="3124080"/>
              <a:ext cx="8574120" cy="98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1640" y="3521160"/>
              <a:ext cx="8574120" cy="9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31640" y="3919680"/>
              <a:ext cx="8574120" cy="96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31640" y="4316400"/>
              <a:ext cx="8574120" cy="9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31640" y="4713120"/>
              <a:ext cx="8574120" cy="98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6320" y="2913120"/>
              <a:ext cx="703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Proces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55360" y="2936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50560" y="2936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44320" y="2936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639520" y="2936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933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888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822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7784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7124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6680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6020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5576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4916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447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381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336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4270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2264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1604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30980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0500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89876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1943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4877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7832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46680" y="3273480"/>
              <a:ext cx="1038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         </a:t>
              </a: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Mezcl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5920" y="3670200"/>
              <a:ext cx="523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993300"/>
                  </a:solidFill>
                  <a:latin typeface="Arial"/>
                </a:rPr>
                <a:t>Hor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0120" y="4068720"/>
              <a:ext cx="72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Enfri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03440" y="4465800"/>
              <a:ext cx="80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Empaq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2320" y="4863960"/>
              <a:ext cx="1000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Ent. &amp; Pa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54040" y="2708280"/>
              <a:ext cx="54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minut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775520" y="2301840"/>
              <a:ext cx="5624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800000"/>
                  </a:solidFill>
                  <a:latin typeface="Arial"/>
                </a:rPr>
                <a:t>Carta Gantt Chart con un Horno (Orden = 1 d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303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30320" y="29084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2237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22372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5192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19280" y="29084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126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1268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0824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08240" y="29084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0164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40164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69720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9720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99060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99060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28616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28616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7956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7956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8751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7512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685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6852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640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6408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7574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75748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05304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5304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34644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4644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64200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64200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3540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3540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2916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2916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52436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52436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8181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81812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1133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11332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4070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40708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7022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70228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45680" y="321300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45680" y="3213000"/>
              <a:ext cx="1182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45680" y="351468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45680" y="3514680"/>
              <a:ext cx="1182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45680" y="361152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45680" y="3611520"/>
              <a:ext cx="1182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45680" y="391176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5680" y="3911760"/>
              <a:ext cx="118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45680" y="400860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45680" y="4008600"/>
              <a:ext cx="118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45680" y="430992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45680" y="4309920"/>
              <a:ext cx="11829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45680" y="440532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5680" y="4405320"/>
              <a:ext cx="1182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5680" y="470700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5680" y="4707000"/>
              <a:ext cx="1182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5680" y="480384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5680" y="4803840"/>
              <a:ext cx="1182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19040" y="2881440"/>
              <a:ext cx="26640" cy="2243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28640" y="2908440"/>
              <a:ext cx="28440" cy="2216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9303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930320" y="3138480"/>
              <a:ext cx="1404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237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22372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5192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519280" y="3138480"/>
              <a:ext cx="1404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8126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1268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10824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108240" y="3138480"/>
              <a:ext cx="1404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40164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0164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9720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69720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99060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99060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28616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8616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57956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57956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8751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87512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1685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6852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640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46408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574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75748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05304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05304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34644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4644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64200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64200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3540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3540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22916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2916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436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52436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8181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81812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1133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11332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4070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40708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7022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70228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989920" y="2908440"/>
              <a:ext cx="27000" cy="2216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45680" y="2881440"/>
              <a:ext cx="857124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45680" y="3110040"/>
              <a:ext cx="85712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57080" y="321300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657080" y="3213000"/>
              <a:ext cx="7332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57080" y="351468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657080" y="3514680"/>
              <a:ext cx="7332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57080" y="361152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57080" y="3611520"/>
              <a:ext cx="73328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57080" y="391176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57080" y="3911760"/>
              <a:ext cx="733284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657080" y="400860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657080" y="4008600"/>
              <a:ext cx="733284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57080" y="430992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57080" y="4309920"/>
              <a:ext cx="733284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657080" y="440532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57080" y="4405320"/>
              <a:ext cx="7332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657080" y="470700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657080" y="4707000"/>
              <a:ext cx="7332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57080" y="480384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657080" y="4803840"/>
              <a:ext cx="73328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5680" y="5097600"/>
              <a:ext cx="857124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2828880" y="3600360"/>
            <a:ext cx="1449000" cy="337320"/>
            <a:chOff x="2828880" y="3600360"/>
            <a:chExt cx="1449000" cy="337320"/>
          </a:xfrm>
        </p:grpSpPr>
        <p:sp>
          <p:nvSpPr>
            <p:cNvPr id="380" name=""/>
            <p:cNvSpPr/>
            <p:nvPr/>
          </p:nvSpPr>
          <p:spPr>
            <a:xfrm>
              <a:off x="2828880" y="3622680"/>
              <a:ext cx="1449000" cy="285840"/>
            </a:xfrm>
            <a:custGeom>
              <a:avLst/>
              <a:gdLst/>
              <a:ahLst/>
              <a:rect l="l" t="t" r="r" b="b"/>
              <a:pathLst>
                <a:path w="547" h="184">
                  <a:moveTo>
                    <a:pt x="0" y="1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547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854800" y="3600360"/>
              <a:ext cx="139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4282920" y="4000680"/>
            <a:ext cx="744840" cy="337320"/>
            <a:chOff x="4282920" y="4000680"/>
            <a:chExt cx="744840" cy="337320"/>
          </a:xfrm>
        </p:grpSpPr>
        <p:sp>
          <p:nvSpPr>
            <p:cNvPr id="383" name=""/>
            <p:cNvSpPr/>
            <p:nvPr/>
          </p:nvSpPr>
          <p:spPr>
            <a:xfrm>
              <a:off x="4282920" y="4022640"/>
              <a:ext cx="744840" cy="285480"/>
            </a:xfrm>
            <a:custGeom>
              <a:avLst/>
              <a:gdLst/>
              <a:ahLst/>
              <a:rect l="l" t="t" r="r" b="b"/>
              <a:pathLst>
                <a:path w="547" h="184">
                  <a:moveTo>
                    <a:pt x="0" y="1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547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96240" y="4000680"/>
              <a:ext cx="7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5018040" y="4397400"/>
            <a:ext cx="316080" cy="337320"/>
            <a:chOff x="5018040" y="4397400"/>
            <a:chExt cx="316080" cy="337320"/>
          </a:xfrm>
        </p:grpSpPr>
        <p:sp>
          <p:nvSpPr>
            <p:cNvPr id="386" name=""/>
            <p:cNvSpPr/>
            <p:nvPr/>
          </p:nvSpPr>
          <p:spPr>
            <a:xfrm>
              <a:off x="5018040" y="4419720"/>
              <a:ext cx="316080" cy="285840"/>
            </a:xfrm>
            <a:custGeom>
              <a:avLst/>
              <a:gdLst/>
              <a:ahLst/>
              <a:rect l="l" t="t" r="r" b="b"/>
              <a:pathLst>
                <a:path w="547" h="184">
                  <a:moveTo>
                    <a:pt x="0" y="1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547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023440" y="4397400"/>
              <a:ext cx="30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5251320" y="4772160"/>
            <a:ext cx="244440" cy="368280"/>
            <a:chOff x="5251320" y="4772160"/>
            <a:chExt cx="244440" cy="368280"/>
          </a:xfrm>
        </p:grpSpPr>
        <p:sp>
          <p:nvSpPr>
            <p:cNvPr id="389" name=""/>
            <p:cNvSpPr/>
            <p:nvPr/>
          </p:nvSpPr>
          <p:spPr>
            <a:xfrm>
              <a:off x="5326200" y="4809960"/>
              <a:ext cx="136440" cy="291600"/>
            </a:xfrm>
            <a:custGeom>
              <a:avLst/>
              <a:gdLst/>
              <a:ahLst/>
              <a:rect l="l" t="t" r="r" b="b"/>
              <a:pathLst>
                <a:path w="86" h="184">
                  <a:moveTo>
                    <a:pt x="2" y="184"/>
                  </a:moveTo>
                  <a:lnTo>
                    <a:pt x="0" y="0"/>
                  </a:lnTo>
                  <a:lnTo>
                    <a:pt x="86" y="0"/>
                  </a:lnTo>
                  <a:lnTo>
                    <a:pt x="85" y="183"/>
                  </a:lnTo>
                  <a:lnTo>
                    <a:pt x="2" y="18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251320" y="4772160"/>
              <a:ext cx="2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3119400" y="3206880"/>
            <a:ext cx="3890880" cy="1935000"/>
            <a:chOff x="3119400" y="3206880"/>
            <a:chExt cx="3890880" cy="1935000"/>
          </a:xfrm>
        </p:grpSpPr>
        <p:grpSp>
          <p:nvGrpSpPr>
            <p:cNvPr id="392" name=""/>
            <p:cNvGrpSpPr/>
            <p:nvPr/>
          </p:nvGrpSpPr>
          <p:grpSpPr>
            <a:xfrm>
              <a:off x="3119400" y="3206880"/>
              <a:ext cx="1163520" cy="337320"/>
              <a:chOff x="3119400" y="3206880"/>
              <a:chExt cx="1163520" cy="337320"/>
            </a:xfrm>
          </p:grpSpPr>
          <p:sp>
            <p:nvSpPr>
              <p:cNvPr id="393" name=""/>
              <p:cNvSpPr/>
              <p:nvPr/>
            </p:nvSpPr>
            <p:spPr>
              <a:xfrm>
                <a:off x="3119400" y="3229200"/>
                <a:ext cx="1163520" cy="29196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146400" y="3206880"/>
                <a:ext cx="1123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4299120" y="3597480"/>
              <a:ext cx="1449360" cy="337320"/>
              <a:chOff x="4299120" y="3597480"/>
              <a:chExt cx="1449360" cy="337320"/>
            </a:xfrm>
          </p:grpSpPr>
          <p:sp>
            <p:nvSpPr>
              <p:cNvPr id="396" name=""/>
              <p:cNvSpPr/>
              <p:nvPr/>
            </p:nvSpPr>
            <p:spPr>
              <a:xfrm>
                <a:off x="4299120" y="3619800"/>
                <a:ext cx="1449360" cy="28548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324320" y="3597480"/>
                <a:ext cx="1400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5761080" y="3997440"/>
              <a:ext cx="744480" cy="337320"/>
              <a:chOff x="5761080" y="3997440"/>
              <a:chExt cx="744480" cy="337320"/>
            </a:xfrm>
          </p:grpSpPr>
          <p:sp>
            <p:nvSpPr>
              <p:cNvPr id="399" name=""/>
              <p:cNvSpPr/>
              <p:nvPr/>
            </p:nvSpPr>
            <p:spPr>
              <a:xfrm>
                <a:off x="5761080" y="4019760"/>
                <a:ext cx="744480" cy="28584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773680" y="3997440"/>
                <a:ext cx="719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6494400" y="4399200"/>
              <a:ext cx="316080" cy="337320"/>
              <a:chOff x="6494400" y="4399200"/>
              <a:chExt cx="316080" cy="337320"/>
            </a:xfrm>
          </p:grpSpPr>
          <p:sp>
            <p:nvSpPr>
              <p:cNvPr id="402" name=""/>
              <p:cNvSpPr/>
              <p:nvPr/>
            </p:nvSpPr>
            <p:spPr>
              <a:xfrm>
                <a:off x="6494400" y="4421160"/>
                <a:ext cx="316080" cy="28584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500880" y="4399200"/>
                <a:ext cx="30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6719760" y="4773600"/>
              <a:ext cx="290520" cy="368280"/>
              <a:chOff x="6719760" y="4773600"/>
              <a:chExt cx="290520" cy="368280"/>
            </a:xfrm>
          </p:grpSpPr>
          <p:sp>
            <p:nvSpPr>
              <p:cNvPr id="405" name=""/>
              <p:cNvSpPr/>
              <p:nvPr/>
            </p:nvSpPr>
            <p:spPr>
              <a:xfrm>
                <a:off x="6794640" y="4811760"/>
                <a:ext cx="136440" cy="292320"/>
              </a:xfrm>
              <a:custGeom>
                <a:avLst/>
                <a:gdLst/>
                <a:ahLst/>
                <a:rect l="l" t="t" r="r" b="b"/>
                <a:pathLst>
                  <a:path w="86" h="184">
                    <a:moveTo>
                      <a:pt x="2" y="184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85" y="183"/>
                    </a:lnTo>
                    <a:lnTo>
                      <a:pt x="2" y="18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719760" y="4773600"/>
                <a:ext cx="29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7" name=""/>
          <p:cNvGrpSpPr/>
          <p:nvPr/>
        </p:nvGrpSpPr>
        <p:grpSpPr>
          <a:xfrm>
            <a:off x="4591080" y="3206880"/>
            <a:ext cx="3890880" cy="1935000"/>
            <a:chOff x="4591080" y="3206880"/>
            <a:chExt cx="3890880" cy="1935000"/>
          </a:xfrm>
        </p:grpSpPr>
        <p:grpSp>
          <p:nvGrpSpPr>
            <p:cNvPr id="408" name=""/>
            <p:cNvGrpSpPr/>
            <p:nvPr/>
          </p:nvGrpSpPr>
          <p:grpSpPr>
            <a:xfrm>
              <a:off x="4591080" y="3206880"/>
              <a:ext cx="1163520" cy="337320"/>
              <a:chOff x="4591080" y="3206880"/>
              <a:chExt cx="1163520" cy="337320"/>
            </a:xfrm>
          </p:grpSpPr>
          <p:sp>
            <p:nvSpPr>
              <p:cNvPr id="409" name=""/>
              <p:cNvSpPr/>
              <p:nvPr/>
            </p:nvSpPr>
            <p:spPr>
              <a:xfrm>
                <a:off x="4591080" y="3229200"/>
                <a:ext cx="1163520" cy="29196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618080" y="3206880"/>
                <a:ext cx="1123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5770440" y="3597480"/>
              <a:ext cx="1449360" cy="337320"/>
              <a:chOff x="5770440" y="3597480"/>
              <a:chExt cx="1449360" cy="337320"/>
            </a:xfrm>
          </p:grpSpPr>
          <p:sp>
            <p:nvSpPr>
              <p:cNvPr id="412" name=""/>
              <p:cNvSpPr/>
              <p:nvPr/>
            </p:nvSpPr>
            <p:spPr>
              <a:xfrm>
                <a:off x="5770440" y="3619800"/>
                <a:ext cx="1449360" cy="28548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796000" y="3597480"/>
                <a:ext cx="1400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7232760" y="3997440"/>
              <a:ext cx="744480" cy="337320"/>
              <a:chOff x="7232760" y="3997440"/>
              <a:chExt cx="744480" cy="337320"/>
            </a:xfrm>
          </p:grpSpPr>
          <p:sp>
            <p:nvSpPr>
              <p:cNvPr id="415" name=""/>
              <p:cNvSpPr/>
              <p:nvPr/>
            </p:nvSpPr>
            <p:spPr>
              <a:xfrm>
                <a:off x="7232760" y="4019760"/>
                <a:ext cx="744480" cy="28584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245360" y="3997440"/>
                <a:ext cx="719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7966080" y="4399200"/>
              <a:ext cx="316080" cy="337320"/>
              <a:chOff x="7966080" y="4399200"/>
              <a:chExt cx="316080" cy="337320"/>
            </a:xfrm>
          </p:grpSpPr>
          <p:sp>
            <p:nvSpPr>
              <p:cNvPr id="418" name=""/>
              <p:cNvSpPr/>
              <p:nvPr/>
            </p:nvSpPr>
            <p:spPr>
              <a:xfrm>
                <a:off x="7966080" y="4421160"/>
                <a:ext cx="316080" cy="28584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972560" y="4399200"/>
                <a:ext cx="30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8191440" y="4773600"/>
              <a:ext cx="290520" cy="368280"/>
              <a:chOff x="8191440" y="4773600"/>
              <a:chExt cx="290520" cy="368280"/>
            </a:xfrm>
          </p:grpSpPr>
          <p:sp>
            <p:nvSpPr>
              <p:cNvPr id="421" name=""/>
              <p:cNvSpPr/>
              <p:nvPr/>
            </p:nvSpPr>
            <p:spPr>
              <a:xfrm>
                <a:off x="8265960" y="4811760"/>
                <a:ext cx="136800" cy="292320"/>
              </a:xfrm>
              <a:custGeom>
                <a:avLst/>
                <a:gdLst/>
                <a:ahLst/>
                <a:rect l="l" t="t" r="r" b="b"/>
                <a:pathLst>
                  <a:path w="86" h="184">
                    <a:moveTo>
                      <a:pt x="2" y="184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85" y="183"/>
                    </a:lnTo>
                    <a:lnTo>
                      <a:pt x="2" y="184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191440" y="4773600"/>
                <a:ext cx="29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3" name=""/>
          <p:cNvGrpSpPr/>
          <p:nvPr/>
        </p:nvGrpSpPr>
        <p:grpSpPr>
          <a:xfrm>
            <a:off x="1649520" y="3206880"/>
            <a:ext cx="1163160" cy="337320"/>
            <a:chOff x="1649520" y="3206880"/>
            <a:chExt cx="1163160" cy="337320"/>
          </a:xfrm>
        </p:grpSpPr>
        <p:sp>
          <p:nvSpPr>
            <p:cNvPr id="424" name=""/>
            <p:cNvSpPr/>
            <p:nvPr/>
          </p:nvSpPr>
          <p:spPr>
            <a:xfrm>
              <a:off x="1649520" y="3229200"/>
              <a:ext cx="1163160" cy="291960"/>
            </a:xfrm>
            <a:custGeom>
              <a:avLst/>
              <a:gdLst/>
              <a:ahLst/>
              <a:rect l="l" t="t" r="r" b="b"/>
              <a:pathLst>
                <a:path w="547" h="184">
                  <a:moveTo>
                    <a:pt x="0" y="1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547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77240" y="3206880"/>
              <a:ext cx="112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-114480" y="152280"/>
            <a:ext cx="3569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2120" y="1400040"/>
            <a:ext cx="824544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ántas ordenes de 1 dz. Puede procesar Kristen en una hor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ómo cambia la capacidad del proceso “Mezcla y Vaciado” si el tamaño de las ordenes aumenta de 1dz a 2 dzs y a 3 dz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ómo cambia la capacidad del proceso enter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507960" y="152280"/>
            <a:ext cx="8331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Análisis de Proceso con dos Horn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428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304920" y="1359000"/>
          <a:ext cx="8458200" cy="4333680"/>
        </p:xfrm>
        <a:graphic>
          <a:graphicData uri="http://schemas.openxmlformats.org/drawingml/2006/table">
            <a:tbl>
              <a:tblPr/>
              <a:tblGrid>
                <a:gridCol w="1066680"/>
                <a:gridCol w="747720"/>
                <a:gridCol w="851040"/>
                <a:gridCol w="849240"/>
                <a:gridCol w="771480"/>
                <a:gridCol w="851040"/>
                <a:gridCol w="849240"/>
                <a:gridCol w="772920"/>
                <a:gridCol w="849240"/>
                <a:gridCol w="849600"/>
              </a:tblGrid>
              <a:tr h="57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Proce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rden = 1 d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rden = 2 d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rden = 3 d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 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 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 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ezc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or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fr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mpa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trega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-114480" y="152280"/>
            <a:ext cx="3569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92120" y="1400040"/>
            <a:ext cx="8245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ál es el efecto de agregar un horno mas en la capacidad del sistema (para distintos tamaños de orden)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ál es la capacidad del sistema si Kristen trabaja sola? Asuma que hay un solo horno y las ordenes son por 1dz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-114480" y="152280"/>
            <a:ext cx="3569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2120" y="1400040"/>
            <a:ext cx="8245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ál es la utilización de cada proceso? Asuma que hay 1 horno y las ordenes son por 1 dz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419040" y="152280"/>
            <a:ext cx="84963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Formas de Aumentar la Capaci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17560" y="1108080"/>
            <a:ext cx="78552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jorando la carga de trabajo en los 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bajando eficientement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bajando mas ráp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Haciendo el trabajo correcto la primera ve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igiendo el mix de productos adecu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viendo trabajo del CB a otras estaciones que no son C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 incluso a 3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r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partes (outsourc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r la disponibilidad del 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bajando horas ext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ndo la escala (inversiones de capit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ndo el tamaño del batch (economías de esca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iminando desperdicios (producción ajust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152280" y="1219320"/>
            <a:ext cx="6553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uál es el margen asociado a ordenes de distinto tamaño? Asuma el trabajo cuesta $10/hr, los costos variables (insumos) son de $0.7/dz y el precio de venta es $3/d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1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Trabajo = 12 min.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sto = $0.70 Insumos +$10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12/60 Trabajo = $2.70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Margen = $0.30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2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Trabajo = 8.5 min.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sto = $0.70 Insumos +$10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8.5/60 Trabajo = $2.12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Margen = $0.88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3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Trabajo = 7.33 min.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sto = $0.70 Insumos +$10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7.33/60 Trabajo = $1.92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Margen = $1.08/dz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que hemos ignorado el tiempo ocioso del trabajo. Cuál sería el margen si no ignoramos el tiempo ocios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81080" y="152280"/>
            <a:ext cx="5381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 Adic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6781680" y="1981080"/>
          <a:ext cx="2186280" cy="192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1981080"/>
                    <a:ext cx="2186280" cy="19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4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4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09480" y="152280"/>
            <a:ext cx="2743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onteni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247760"/>
            <a:ext cx="8686800" cy="55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Análisis de Proces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Garamond"/>
              </a:rPr>
              <a:t>Medidas de Desempeño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: Capacidad, Tiempo de Ciclo, Tiempos de Flujos, Cuellos de  Botell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Garamond"/>
              </a:rPr>
              <a:t>Productividad y Eficiencia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: Como los cuellos de botella afectan la capacidad y los retornos de un sistema de produc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Garamond"/>
              </a:rPr>
              <a:t>Efectos  de los Tiempos de Setup y  Tamaños del Lote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Discusión del caso “Kristen’s Cookie Company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Producción Agregada y Sistemas MR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57200" y="11080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33520" y="1095480"/>
            <a:ext cx="80769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uál es el mayor descuento que Kristen podría hacer para incentivar ordenes de 2dz en lugar de 1dz? Asuma que hay dos hor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a capacidad del sistema aumenta con el tamaño de la orden. Es decir, ordenes por 2dz liberan tiempo del CB que se puede usar para generar mas ingres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1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Se requieren 8 min del CB para producir 1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argen por min. del CB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($0.30 dz.)/ (8 min./dz.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3880" indent="-447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 $0.0375/m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2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Se requieren 5 min del CB para producir 1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argen por min.del CB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($0.88 dz.)/ (5 min./dz.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3880" indent="-447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 $0.176/m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escuento Maxi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Margen adicional generado al procesar ordenes de 2 dz. En lugar de ordenes de 1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$(0.176-0.0375) × 10min = $1.385 por orden de 2 d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990033"/>
                </a:solidFill>
                <a:latin typeface="Times New Roman"/>
              </a:rPr>
              <a:t>Concepto: MONETARIZAR EL CUELLO DE BOTE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152280"/>
            <a:ext cx="5381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 Adic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52280" y="114480"/>
            <a:ext cx="2895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Resum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agram de Flu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parar procesos en secuencia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r recursos asociados con cada a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rta Gan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uy útil para la gestión de recursos y su schedu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didas de Desempeño: Capacidad, Tiempo de Ciclo, Tiempo de Flujo, Cuellos de Bot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pecial énfasis en manejar correctamente el CB ya que determina la capacidad d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netarizar el CB, i.e., calculando el margen generado por unidad de tiempo en el C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39680"/>
            <a:ext cx="4267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 Cent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55680" y="1955880"/>
            <a:ext cx="8533800" cy="4275360"/>
            <a:chOff x="355680" y="1955880"/>
            <a:chExt cx="8533800" cy="4275360"/>
          </a:xfrm>
        </p:grpSpPr>
        <p:sp>
          <p:nvSpPr>
            <p:cNvPr id="58" name=""/>
            <p:cNvSpPr/>
            <p:nvPr/>
          </p:nvSpPr>
          <p:spPr>
            <a:xfrm>
              <a:off x="3098880" y="2876400"/>
              <a:ext cx="251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Vent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3098880" y="3333600"/>
              <a:ext cx="2514600" cy="1450080"/>
              <a:chOff x="3098880" y="3333600"/>
              <a:chExt cx="2514600" cy="1450080"/>
            </a:xfrm>
          </p:grpSpPr>
          <p:sp>
            <p:nvSpPr>
              <p:cNvPr id="60" name=""/>
              <p:cNvSpPr/>
              <p:nvPr/>
            </p:nvSpPr>
            <p:spPr>
              <a:xfrm>
                <a:off x="3098880" y="4019040"/>
                <a:ext cx="2514600" cy="764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000" spc="-1" strike="noStrike">
                    <a:solidFill>
                      <a:srgbClr val="000000"/>
                    </a:solidFill>
                    <a:latin typeface="Arial"/>
                  </a:rPr>
                  <a:t>Tiempos de Entrega</a:t>
                </a:r>
                <a:r>
                  <a:rPr b="0" lang="es-CL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CL" sz="2000" spc="-1" strike="noStrike">
                    <a:solidFill>
                      <a:srgbClr val="000000"/>
                    </a:solidFill>
                    <a:latin typeface="Arial"/>
                  </a:rPr>
                  <a:t>(actual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V="1">
                <a:off x="4318200" y="333360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355680" y="3108960"/>
              <a:ext cx="2743200" cy="1369440"/>
              <a:chOff x="355680" y="3108960"/>
              <a:chExt cx="2743200" cy="1369440"/>
            </a:xfrm>
          </p:grpSpPr>
          <p:sp>
            <p:nvSpPr>
              <p:cNvPr id="63" name=""/>
              <p:cNvSpPr/>
              <p:nvPr/>
            </p:nvSpPr>
            <p:spPr>
              <a:xfrm>
                <a:off x="355680" y="4018680"/>
                <a:ext cx="121932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400" spc="-1" strike="noStrike">
                    <a:solidFill>
                      <a:srgbClr val="000000"/>
                    </a:solidFill>
                    <a:latin typeface="Arial"/>
                  </a:rPr>
                  <a:t>Preci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4" name=""/>
              <p:cNvCxnSpPr>
                <a:stCxn id="63" idx="0"/>
                <a:endCxn id="58" idx="1"/>
              </p:cNvCxnSpPr>
              <p:nvPr/>
            </p:nvCxnSpPr>
            <p:spPr>
              <a:xfrm flipH="1" flipV="1" rot="5400000">
                <a:off x="1577160" y="2496600"/>
                <a:ext cx="909720" cy="21344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65" name=""/>
            <p:cNvGrpSpPr/>
            <p:nvPr/>
          </p:nvGrpSpPr>
          <p:grpSpPr>
            <a:xfrm>
              <a:off x="1727280" y="3108960"/>
              <a:ext cx="1942920" cy="2756520"/>
              <a:chOff x="1727280" y="3108960"/>
              <a:chExt cx="1942920" cy="2756520"/>
            </a:xfrm>
          </p:grpSpPr>
          <p:sp>
            <p:nvSpPr>
              <p:cNvPr id="66" name=""/>
              <p:cNvSpPr/>
              <p:nvPr/>
            </p:nvSpPr>
            <p:spPr>
              <a:xfrm>
                <a:off x="1727280" y="5466600"/>
                <a:ext cx="15235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000" spc="-1" strike="noStrike">
                    <a:solidFill>
                      <a:srgbClr val="990033"/>
                    </a:solidFill>
                    <a:latin typeface="Arial"/>
                  </a:rPr>
                  <a:t>Capacida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7" name=""/>
              <p:cNvCxnSpPr>
                <a:stCxn id="66" idx="0"/>
                <a:endCxn id="58" idx="1"/>
              </p:cNvCxnSpPr>
              <p:nvPr/>
            </p:nvCxnSpPr>
            <p:spPr>
              <a:xfrm flipH="1" flipV="1" rot="5400000">
                <a:off x="1614960" y="3983040"/>
                <a:ext cx="2357640" cy="6098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8" name=""/>
              <p:cNvCxnSpPr>
                <a:stCxn id="66" idx="3"/>
              </p:cNvCxnSpPr>
              <p:nvPr/>
            </p:nvCxnSpPr>
            <p:spPr>
              <a:xfrm flipV="1">
                <a:off x="3250800" y="4856760"/>
                <a:ext cx="419760" cy="84312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69" name=""/>
            <p:cNvGrpSpPr/>
            <p:nvPr/>
          </p:nvGrpSpPr>
          <p:grpSpPr>
            <a:xfrm>
              <a:off x="4013280" y="4857480"/>
              <a:ext cx="2057400" cy="1008000"/>
              <a:chOff x="4013280" y="4857480"/>
              <a:chExt cx="2057400" cy="1008000"/>
            </a:xfrm>
          </p:grpSpPr>
          <p:sp>
            <p:nvSpPr>
              <p:cNvPr id="70" name=""/>
              <p:cNvSpPr/>
              <p:nvPr/>
            </p:nvSpPr>
            <p:spPr>
              <a:xfrm>
                <a:off x="4013280" y="5466600"/>
                <a:ext cx="20574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000" spc="-1" strike="noStrike">
                    <a:solidFill>
                      <a:srgbClr val="000000"/>
                    </a:solidFill>
                    <a:latin typeface="Arial"/>
                  </a:rPr>
                  <a:t>Tiempo de Fluj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V="1">
                <a:off x="4851360" y="4857480"/>
                <a:ext cx="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5613120" y="3109320"/>
              <a:ext cx="3276360" cy="3121920"/>
              <a:chOff x="5613120" y="3109320"/>
              <a:chExt cx="3276360" cy="312192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5613120" y="3109320"/>
                <a:ext cx="3276360" cy="1772280"/>
                <a:chOff x="5613120" y="3109320"/>
                <a:chExt cx="3276360" cy="17722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6375240" y="4019040"/>
                  <a:ext cx="2514240" cy="862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</a:rPr>
                    <a:t>Tiempos de Entreg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</a:rPr>
                    <a:t>(confiabilidad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75" name=""/>
                <p:cNvCxnSpPr>
                  <a:stCxn id="74" idx="0"/>
                  <a:endCxn id="58" idx="3"/>
                </p:cNvCxnSpPr>
                <p:nvPr/>
              </p:nvCxnSpPr>
              <p:spPr>
                <a:xfrm flipV="1" rot="16200000">
                  <a:off x="6167880" y="2554200"/>
                  <a:ext cx="910080" cy="201960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76" name=""/>
              <p:cNvGrpSpPr/>
              <p:nvPr/>
            </p:nvGrpSpPr>
            <p:grpSpPr>
              <a:xfrm>
                <a:off x="6679800" y="4856760"/>
                <a:ext cx="2133360" cy="1374480"/>
                <a:chOff x="6679800" y="4856760"/>
                <a:chExt cx="2133360" cy="13744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6679800" y="5466600"/>
                  <a:ext cx="2133360" cy="764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Times New Roman"/>
                    </a:rPr>
                    <a:t>Tiempos Entrega</a:t>
                  </a:r>
                  <a:r>
                    <a:rPr b="1" lang="es-CL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s-CL" sz="20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</a:rPr>
                    <a:t>Promesa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 flipV="1">
                  <a:off x="7746480" y="4856760"/>
                  <a:ext cx="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" name=""/>
            <p:cNvGrpSpPr/>
            <p:nvPr/>
          </p:nvGrpSpPr>
          <p:grpSpPr>
            <a:xfrm>
              <a:off x="964800" y="1955880"/>
              <a:ext cx="4191480" cy="2062800"/>
              <a:chOff x="964800" y="1955880"/>
              <a:chExt cx="4191480" cy="206280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3479760" y="1955880"/>
                <a:ext cx="1676520" cy="913320"/>
                <a:chOff x="3479760" y="1955880"/>
                <a:chExt cx="1676520" cy="91332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3479760" y="1955880"/>
                  <a:ext cx="1676520" cy="459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>
                      <a:solidFill>
                        <a:srgbClr val="990033"/>
                      </a:solidFill>
                      <a:latin typeface="Arial"/>
                    </a:rPr>
                    <a:t>Retorno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 flipV="1">
                  <a:off x="4318200" y="2412360"/>
                  <a:ext cx="0" cy="45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83" name=""/>
              <p:cNvCxnSpPr>
                <a:stCxn id="63" idx="0"/>
                <a:endCxn id="81" idx="1"/>
              </p:cNvCxnSpPr>
              <p:nvPr/>
            </p:nvCxnSpPr>
            <p:spPr>
              <a:xfrm flipH="1" flipV="1" rot="5400000">
                <a:off x="1307160" y="1846080"/>
                <a:ext cx="1830600" cy="251532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84" name=""/>
            <p:cNvSpPr/>
            <p:nvPr/>
          </p:nvSpPr>
          <p:spPr>
            <a:xfrm>
              <a:off x="3657600" y="5702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-335520" y="1181160"/>
            <a:ext cx="10053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0033"/>
                </a:solidFill>
                <a:latin typeface="Garamond"/>
              </a:rPr>
              <a:t>Como podemos estimar la rentabilidad  de una operació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2286000"/>
            <a:ext cx="2514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Arial"/>
              </a:rPr>
              <a:t>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971800" y="2743200"/>
            <a:ext cx="2514600" cy="1145160"/>
            <a:chOff x="2971800" y="2743200"/>
            <a:chExt cx="2514600" cy="1145160"/>
          </a:xfrm>
        </p:grpSpPr>
        <p:sp>
          <p:nvSpPr>
            <p:cNvPr id="89" name=""/>
            <p:cNvSpPr/>
            <p:nvPr/>
          </p:nvSpPr>
          <p:spPr>
            <a:xfrm>
              <a:off x="2971800" y="3428640"/>
              <a:ext cx="251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990033"/>
                  </a:solidFill>
                  <a:latin typeface="Arial"/>
                </a:rPr>
                <a:t>Trabaj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4191120" y="274320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28600" y="2518920"/>
            <a:ext cx="2743200" cy="1308600"/>
            <a:chOff x="228600" y="2518920"/>
            <a:chExt cx="2743200" cy="1308600"/>
          </a:xfrm>
        </p:grpSpPr>
        <p:sp>
          <p:nvSpPr>
            <p:cNvPr id="92" name=""/>
            <p:cNvSpPr/>
            <p:nvPr/>
          </p:nvSpPr>
          <p:spPr>
            <a:xfrm>
              <a:off x="228600" y="3428640"/>
              <a:ext cx="14479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Materia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" name=""/>
            <p:cNvCxnSpPr>
              <a:stCxn id="92" idx="0"/>
              <a:endCxn id="87" idx="1"/>
            </p:cNvCxnSpPr>
            <p:nvPr/>
          </p:nvCxnSpPr>
          <p:spPr>
            <a:xfrm flipH="1" flipV="1" rot="5400000">
              <a:off x="1506960" y="1963800"/>
              <a:ext cx="910080" cy="2019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4" name=""/>
          <p:cNvGrpSpPr/>
          <p:nvPr/>
        </p:nvGrpSpPr>
        <p:grpSpPr>
          <a:xfrm>
            <a:off x="5485680" y="2518920"/>
            <a:ext cx="3277440" cy="1925640"/>
            <a:chOff x="5485680" y="2518920"/>
            <a:chExt cx="3277440" cy="1925640"/>
          </a:xfrm>
        </p:grpSpPr>
        <p:sp>
          <p:nvSpPr>
            <p:cNvPr id="95" name=""/>
            <p:cNvSpPr/>
            <p:nvPr/>
          </p:nvSpPr>
          <p:spPr>
            <a:xfrm>
              <a:off x="6248520" y="3428640"/>
              <a:ext cx="2514600" cy="1015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990033"/>
                  </a:solidFill>
                  <a:latin typeface="Arial"/>
                </a:rPr>
                <a:t>Inversiones 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990033"/>
                  </a:solidFill>
                  <a:latin typeface="Arial"/>
                </a:rPr>
                <a:t>Capi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6" name=""/>
            <p:cNvCxnSpPr>
              <a:stCxn id="95" idx="0"/>
              <a:endCxn id="87" idx="3"/>
            </p:cNvCxnSpPr>
            <p:nvPr/>
          </p:nvCxnSpPr>
          <p:spPr>
            <a:xfrm flipV="1" rot="16200000">
              <a:off x="6040800" y="1963800"/>
              <a:ext cx="910080" cy="2019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7" name=""/>
          <p:cNvSpPr/>
          <p:nvPr/>
        </p:nvSpPr>
        <p:spPr>
          <a:xfrm>
            <a:off x="304920" y="139680"/>
            <a:ext cx="4267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 Cent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-335520" y="1181160"/>
            <a:ext cx="10053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0033"/>
                </a:solidFill>
                <a:latin typeface="Garamond"/>
              </a:rPr>
              <a:t>Como podemos estimar la rentabilidad  de una operació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4520"/>
            <a:ext cx="7772400" cy="19191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17175e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KRISTEN’S COOKIES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870280" y="2763720"/>
          <a:ext cx="3009960" cy="23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0280" y="2763720"/>
                    <a:ext cx="3009960" cy="23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152280"/>
            <a:ext cx="5943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Definición de un Proce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3797280"/>
            <a:ext cx="83059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En Kristen’s cookies, en el proceso del horno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0666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990033"/>
                </a:solidFill>
                <a:latin typeface="Times New Roman"/>
              </a:rPr>
              <a:t>Un proceso consiste de inputs, outputs, recursos y transformaciones. Los recursos transforman los inputs en outpu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4711680"/>
            <a:ext cx="7010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En una Aerolín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457344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Inpu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masa,   </a:t>
            </a: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Outpu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galletas cocidas,    </a:t>
            </a: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Recurso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Kristen, Horno, Bande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46200" y="5923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5321160"/>
            <a:ext cx="685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Inpu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personas/equipaje un punto de orige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Outpu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personas/equipaje un punto de destin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Recurso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aviones, pilotos, azafatas, aeropuerto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2120760"/>
            <a:ext cx="281952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ces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ns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81080" y="25779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15000" y="25779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91240" y="23274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565320" y="23115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191120" y="303516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04600" y="341640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152280"/>
            <a:ext cx="8369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Definición de un Diagrama de Flujo de Proc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7680" y="1108080"/>
            <a:ext cx="839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Un diagram de flujos comprende un conjunto de procesos unidos en una secuencia appropiad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2362320"/>
            <a:ext cx="14479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ces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2362320"/>
            <a:ext cx="14479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ces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2590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2590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09080" y="1676520"/>
            <a:ext cx="11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5760" y="3100320"/>
            <a:ext cx="5369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s-CL" sz="2200" spc="-1" strike="noStrike">
                <a:solidFill>
                  <a:srgbClr val="990033"/>
                </a:solidFill>
                <a:latin typeface="Times New Roman"/>
              </a:rPr>
              <a:t>Como dividir una operación en proceso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3506760"/>
            <a:ext cx="868680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ólo inputs y outputs se mueven a lo largo de las flechas. Recursos están fijos. Por ello, todo set de recursos usados en forma conjunta define un proce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r ejemplo, en Kristen’s Cookies, “Mezclar Masa” y “Vaciarla en la Bandeja” are son un mismo procesos ya que comparten el recipiente donde se mezc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escomponer los procesos de esta manera, donde sólo inputs y outputs se mueven entre procesos permite “romper” una operación complejas en partes mas sencillas que pueden analizarse en forma independien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r ejemplo, podemos analizar “Mezcla y Vaciado” en forma separada del Horno, el empaque o el pa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517920" y="2259720"/>
            <a:ext cx="1447920" cy="8384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17520" y="152280"/>
            <a:ext cx="8521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Inputs, Outputs y Recurs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308240"/>
          <a:ext cx="8229600" cy="4319280"/>
        </p:xfrm>
        <a:graphic>
          <a:graphicData uri="http://schemas.openxmlformats.org/drawingml/2006/table">
            <a:tbl>
              <a:tblPr/>
              <a:tblGrid>
                <a:gridCol w="1828800"/>
                <a:gridCol w="2286000"/>
                <a:gridCol w="2057400"/>
                <a:gridCol w="205740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Proce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In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ut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Recurs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cla y Vac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redi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a en Bande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sador, Recipiente, Bandeja, Kris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cción/Horn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a en Bande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 Cali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iga, Horno, Bande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fr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 Cali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 Frí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pacio de la Coc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a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, Caja, Cor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 Empac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i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epción de Pago y Entre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n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iga, Caja Registrado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365040" y="5637240"/>
            <a:ext cx="832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xcepto por Kristen, su amiga y las bandejas ninguno otro recursos es compartido por dos o mas procesos. Asumiremos un numero ilimitado de bandejas, espacio ilimitado para enfriar en la cocina y tiempo ilimitado para Kristen y su amiga. De esta forma podemos analizar cada proceso por separa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17520" y="152280"/>
            <a:ext cx="8521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Kristen’s Cookies: Diagrama de Fluj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7200" y="1371600"/>
            <a:ext cx="121896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Recep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5560" y="203040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mputador (0 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71720" y="173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502000" y="1459800"/>
            <a:ext cx="647640" cy="5461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25800" y="173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86120" y="1397160"/>
            <a:ext cx="399888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Lavar Recipiente, Mezclar Ma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Vaciar en Bande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30400" y="2055960"/>
            <a:ext cx="398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Kristen (Setup = 6 min, Operación = 2 min/d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ote = hasta 3 dz por recip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85000" y="173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470800" y="1752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8153280" y="2590200"/>
            <a:ext cx="648000" cy="5461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470800" y="311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784640" y="3581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60920" y="3255840"/>
            <a:ext cx="306216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Carga, ajuste del Timer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Co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27400" y="3914640"/>
            <a:ext cx="441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miga (Setup = 1 min, Operación = 9 min/dz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ote = 1 dz. por hor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746520" y="3581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55800" y="3233880"/>
            <a:ext cx="96372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Des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15400" y="389268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miga (0 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133720" y="3581280"/>
            <a:ext cx="622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97000" y="3233880"/>
            <a:ext cx="93672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Enfri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50280" y="387972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(5 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635040" y="3581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2440" y="3581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91960" y="4177440"/>
            <a:ext cx="648000" cy="5461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2440" y="5334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01920" y="4986360"/>
            <a:ext cx="121896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Empa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01040" y="564516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miga (2 min/d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730600" y="5334120"/>
            <a:ext cx="711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289320" y="5054040"/>
            <a:ext cx="647640" cy="5461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97280" y="5334120"/>
            <a:ext cx="711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65520" y="4952880"/>
            <a:ext cx="1771920" cy="7192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Entrega y 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31760" y="565776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miga (1 min/d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337440" y="5321160"/>
            <a:ext cx="711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7162920" y="4772160"/>
          <a:ext cx="1384200" cy="109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4772160"/>
                    <a:ext cx="138420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1T18:26:37Z</dcterms:created>
  <dc:creator>Rene Caldentey</dc:creator>
  <dc:description/>
  <dc:language>en-US</dc:language>
  <cp:lastModifiedBy>Rene Caldentey</cp:lastModifiedBy>
  <dcterms:modified xsi:type="dcterms:W3CDTF">2008-06-17T12:57:09Z</dcterms:modified>
  <cp:revision>98</cp:revision>
  <dc:subject/>
  <dc:title>KRISTEN’S COOKIES</dc:title>
</cp:coreProperties>
</file>