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E77-83A9-4805-AE5C-42EC0AA1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657-3A38-4B2A-8353-5BEA8B36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E26-15F8-42D0-B28A-BEDD4EE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C89-C5FC-45EA-9AE4-309E0807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A0AD-1161-4348-A6BE-2B62EB07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482-B707-4603-AE4B-14A9C370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59C-CA68-4E45-BA58-B7303DD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4EB-3929-44A6-91B6-CBE38E44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EEE4-84B1-47D1-9863-8349951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3FF-AF4A-4B3C-8167-8160E20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73FD-061B-49D8-B730-11BDE11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08F-3E25-4314-BA9A-02352D6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7FC-D982-4A47-9CC3-4289A24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629B-7653-4BBA-A5B1-FE517EC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0150-55C6-461C-9DDA-63DE7052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7C66-CCFA-4957-B82A-F9351B1F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9F51-5F58-476D-B7AD-3E61F0B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598E-C4F6-4A79-AA4C-388E048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CFBE-F8AC-4252-82CC-EBE38DA6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9341-9AC5-4143-A13D-721D5DB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B1E9-7366-41DF-98CB-77DAA8E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1BC7-6965-4043-94F6-814FEBFC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633-4BD8-470D-8A2E-4D8ACD7D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581D-0A0F-479F-8E8D-BF93865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79A7-F348-48F2-8B66-B12C91F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4AAB-D1A6-4046-A454-EE69AA7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26A8-83AC-488D-9C01-A4A522E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67BA-DB5E-408B-BC50-94F85014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2DFA-5E7A-48D8-AE1C-C49BC1F5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0502-FD25-4A78-AE84-F277A52A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39B8-A902-4A50-BDE1-01CF51A3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9A2F-88C8-40E7-87FD-8C9F5347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6C4B-C02E-4EC5-A844-6A1B576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E9C-5C78-4536-8A70-0885225E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D92C-4450-4AF4-8FF4-58D8559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63D5-25A0-4357-BFF8-C90191B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B80B-2766-4D3B-9F25-50452CF7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9DF5-6025-4FA6-B599-F907B33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F194-1F1E-481A-A204-B8DF8AC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3D72-CF34-4DEC-BBCF-3FE6B61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4514-4545-46BC-B1C0-39C7538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F8E6-1CC9-4658-B775-3F3C0C1B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BB10-556E-419D-96B7-F079066A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060F-469D-4465-847A-6FF29F8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F8E-9516-421C-A267-80F0593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AE7E-8BFC-4A36-BAC5-C383259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9031-5A32-4A35-A390-E4EDF2D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7027-2D37-4824-97C3-3FBC7A9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25B6-7611-4E3F-8E3F-9014189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9E0F-3EF9-4BB3-935C-EF737FD7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932E-B83D-4D23-B667-FFEF80F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DA05-C216-4BB4-9155-BA5C19B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E6AE-4324-4F02-A46E-85A4513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23B42-FB91-4BFE-A396-38CDBD06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7ECE3-1C83-4F2B-8740-23515ABF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219-3F15-4CF1-B344-BDA69B56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04E7A-CB3B-4BD5-9188-FC09678F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00C-6627-4A67-92A3-FDA2466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558-0189-441B-B34B-9EEA5FA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D51-568A-41CB-AD53-B8A1FFC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7268-E412-4561-9EE2-9A76BD54E17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5739-8613-4926-BEFF-89BEDDE4ED4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33C-51E3-4A64-BD83-44E949436AA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601-B1CF-485C-BCE5-7BAA8AC321F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3468-1007-440C-9951-F1B145371A5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d2533c"/>
                </a:solidFill>
                <a:latin typeface="Arial"/>
              </a:rPr>
              <a:t>BENDERS’ DECOMPOSITION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7576e"/>
                </a:solidFill>
                <a:latin typeface="Arial"/>
              </a:rPr>
              <a:t>Alvaro Echeverrí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jemplo numéric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Programación en Ga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Algoritm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4" name="3 Rectángulo" descr=""/>
          <p:cNvPicPr/>
          <p:nvPr/>
        </p:nvPicPr>
        <p:blipFill>
          <a:blip r:embed="rId1"/>
          <a:stretch/>
        </p:blipFill>
        <p:spPr>
          <a:xfrm>
            <a:off x="1133640" y="1457280"/>
            <a:ext cx="7181640" cy="487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2" descr=""/>
          <p:cNvPicPr/>
          <p:nvPr/>
        </p:nvPicPr>
        <p:blipFill>
          <a:blip r:embed="rId2"/>
          <a:stretch/>
        </p:blipFill>
        <p:spPr>
          <a:xfrm>
            <a:off x="6732720" y="3068640"/>
            <a:ext cx="149544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3" descr=""/>
          <p:cNvPicPr/>
          <p:nvPr/>
        </p:nvPicPr>
        <p:blipFill>
          <a:blip r:embed="rId3"/>
          <a:stretch/>
        </p:blipFill>
        <p:spPr>
          <a:xfrm>
            <a:off x="3492360" y="3933720"/>
            <a:ext cx="210528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4" descr=""/>
          <p:cNvPicPr/>
          <p:nvPr/>
        </p:nvPicPr>
        <p:blipFill>
          <a:blip r:embed="rId4"/>
          <a:stretch/>
        </p:blipFill>
        <p:spPr>
          <a:xfrm>
            <a:off x="4211640" y="4506840"/>
            <a:ext cx="2495520" cy="3621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" descr=""/>
          <p:cNvPicPr/>
          <p:nvPr/>
        </p:nvPicPr>
        <p:blipFill>
          <a:blip r:embed="rId5"/>
          <a:stretch/>
        </p:blipFill>
        <p:spPr>
          <a:xfrm>
            <a:off x="3851280" y="5084640"/>
            <a:ext cx="1523880" cy="31428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6" descr=""/>
          <p:cNvPicPr/>
          <p:nvPr/>
        </p:nvPicPr>
        <p:blipFill>
          <a:blip r:embed="rId6"/>
          <a:stretch/>
        </p:blipFill>
        <p:spPr>
          <a:xfrm>
            <a:off x="4751280" y="5373720"/>
            <a:ext cx="2667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Problema 1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Un campo cuenta con 500 hectáreas disponibles para plantar 3 productos diferentes: trigo, choclo y betarrag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Datos inicial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l precio venta de betarraga será 36 (si demanda T≥6000) o 10(si demanda T≤6000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87280" y="3213000"/>
          <a:ext cx="6985080" cy="2225880"/>
        </p:xfrm>
        <a:graphic>
          <a:graphicData uri="http://schemas.openxmlformats.org/drawingml/2006/table">
            <a:tbl>
              <a:tblPr/>
              <a:tblGrid>
                <a:gridCol w="2305080"/>
                <a:gridCol w="1187640"/>
                <a:gridCol w="1746360"/>
                <a:gridCol w="174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/áre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ndimiento (T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sto plantar ($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Vent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emanda(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compr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Escenarios estocásticos</a:t>
            </a: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20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d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lt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Baj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0:51Z</dcterms:created>
  <dc:creator>Alvaro Echeverria Solis</dc:creator>
  <dc:description/>
  <dc:language>en-US</dc:language>
  <cp:lastModifiedBy>Alvaro Echeverria Solis</cp:lastModifiedBy>
  <dcterms:modified xsi:type="dcterms:W3CDTF">2010-10-06T16:45:50Z</dcterms:modified>
  <cp:revision>5</cp:revision>
  <dc:subject/>
  <dc:title>Presentación de PowerPoint</dc:title>
</cp:coreProperties>
</file>