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C4F-FAE9-4AD8-AB1F-796B111F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F9B-02D8-4786-977A-3AA8882C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A75-5E19-4A5B-B149-8367092F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35D-3873-4569-AA93-6594B1A9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4B4-EA11-437A-90BF-7DC0C678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EE7F-0686-49F2-AC00-E0335343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A7E5-1EDA-497C-B15B-400CD834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AFE0-28E8-4EFF-9356-9DA0D6E1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92DB-6CEF-4BCA-9E60-B5AD725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49BC-7DB8-4871-B80C-02817F69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95FF-2FF2-4F77-A591-8DE6A79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0DF-B3DB-467F-9196-C94A695F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2FE7-6516-4810-B883-7DB59F8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176F-C719-4FA9-9E27-7B9485E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D6C1-7972-448C-A170-D360E6E6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0B6D-D5FD-4876-811F-DC2F650F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D828-D805-495C-8A36-48791884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C9C4-ABDF-4273-B0CB-7BC443B0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EB52-C838-4C38-9143-5C07A608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039A-E40C-41AC-9B55-CE558B2D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609A-BD17-40CE-ABFB-A8808A17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A39A-75D9-4315-9CDE-D8C01022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42B-CCE5-47FC-B504-EE1B6673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78BE-1FBD-4E23-B711-E1FB810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BCC6-BD58-4E0C-986F-F44AF043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C072-F42C-431E-BBE1-071E73B4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A51A-DA96-4EEE-961A-04726DF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FBD7-E457-4420-9BC2-C4AB0A54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DEFA-A1B2-4B46-869D-2770BC9A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5390-E261-4CF0-9324-7CE257AA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0BEC-A79A-4905-9103-05BD8C87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F6B7-4550-4B39-A4A8-3C2F262C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53318-7C14-4110-912E-B8BA8C7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547-947E-4A73-98DA-8EB725A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F22EC-5C80-4181-A88B-A6729ED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30A4-DC41-4DA8-BE7B-2F799BAC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B5F0-9F7D-4B39-86AB-D6A673D7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54F64-5BA8-4F9E-8414-0814DD3E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714E-6945-40A5-9041-5AD234B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2396-4290-430D-8DD7-F4CC9A28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5290-5850-455B-8428-31B1067A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02DE1-EE8A-4FF1-931D-179EE9A2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4AD6-8042-40F2-A2ED-26D4584F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BEA1-0EDD-4FE9-8266-7EB006F3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F0C-4C3E-4F3B-9865-B0F26D5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A2210-F916-4449-8A81-CA1D763E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9A7E-BCD9-4D39-AED4-8D40A8BA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431D-ED48-4E16-8BF9-0D1D4D12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089A-5CE6-4A47-B10E-D402212E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4373-B9E5-44F5-9955-B11A8A6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83D80-A7CA-44AD-9FF3-FD9DDF4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730C-3C7B-4FD4-B50F-C838A577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545C1-5CF5-460D-8980-F374FEB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EE9C-9014-4938-84FE-C6D9A4B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68D5-8E28-4B9C-8E9B-EB3AC438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E93-8A70-4B56-A81C-320F22CB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79F6-8010-44A6-B08F-1F06E10F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331-7CBE-42A3-ADB7-0871C4CC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C79-4066-4F65-9F29-8CCFFBCF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50E-7BB9-4273-A34C-B7B0DF9A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204-09A6-486C-B670-982B9A8A28A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287-736D-421F-A80D-F740D38003B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E10-D746-4887-ACD5-EEB49F3ABE6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3DAC-3C8D-4584-8AE9-5CC63F4922F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A3F-FE97-4FA9-960B-26B7CBC1134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d2533c"/>
                </a:solidFill>
                <a:latin typeface="Arial"/>
              </a:rPr>
              <a:t>BENDERS’ DECOMPOSITION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7576e"/>
                </a:solidFill>
                <a:latin typeface="Arial"/>
              </a:rPr>
              <a:t>Alvaro Echeverrí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Ejemplo numéric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Programación en Ga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Algoritmo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4" name="3 Rectángulo" descr=""/>
          <p:cNvPicPr/>
          <p:nvPr/>
        </p:nvPicPr>
        <p:blipFill>
          <a:blip r:embed="rId1"/>
          <a:stretch/>
        </p:blipFill>
        <p:spPr>
          <a:xfrm>
            <a:off x="1133640" y="1457280"/>
            <a:ext cx="7181640" cy="487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2" descr=""/>
          <p:cNvPicPr/>
          <p:nvPr/>
        </p:nvPicPr>
        <p:blipFill>
          <a:blip r:embed="rId2"/>
          <a:stretch/>
        </p:blipFill>
        <p:spPr>
          <a:xfrm>
            <a:off x="6732720" y="3068640"/>
            <a:ext cx="1495440" cy="37152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3" descr=""/>
          <p:cNvPicPr/>
          <p:nvPr/>
        </p:nvPicPr>
        <p:blipFill>
          <a:blip r:embed="rId3"/>
          <a:stretch/>
        </p:blipFill>
        <p:spPr>
          <a:xfrm>
            <a:off x="3492360" y="3933720"/>
            <a:ext cx="2105280" cy="34308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4" descr=""/>
          <p:cNvPicPr/>
          <p:nvPr/>
        </p:nvPicPr>
        <p:blipFill>
          <a:blip r:embed="rId4"/>
          <a:stretch/>
        </p:blipFill>
        <p:spPr>
          <a:xfrm>
            <a:off x="4211640" y="4506840"/>
            <a:ext cx="2495520" cy="36216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" descr=""/>
          <p:cNvPicPr/>
          <p:nvPr/>
        </p:nvPicPr>
        <p:blipFill>
          <a:blip r:embed="rId5"/>
          <a:stretch/>
        </p:blipFill>
        <p:spPr>
          <a:xfrm>
            <a:off x="3851280" y="5084640"/>
            <a:ext cx="1523880" cy="31428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6" descr=""/>
          <p:cNvPicPr/>
          <p:nvPr/>
        </p:nvPicPr>
        <p:blipFill>
          <a:blip r:embed="rId6"/>
          <a:stretch/>
        </p:blipFill>
        <p:spPr>
          <a:xfrm>
            <a:off x="4751280" y="5373720"/>
            <a:ext cx="2667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Problema 1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Un campo cuenta con 500 hectáreas disponibles para plantar 3 productos diferentes: trigo, choclo y betarrag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Datos iniciale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34"/>
                </a:solidFill>
                <a:latin typeface="Arial"/>
              </a:rPr>
              <a:t>El precio venta de betarraga será 36 (si demanda T≥6000) o 10(si demanda T≤6000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87280" y="3213000"/>
          <a:ext cx="6985080" cy="2225880"/>
        </p:xfrm>
        <a:graphic>
          <a:graphicData uri="http://schemas.openxmlformats.org/drawingml/2006/table">
            <a:tbl>
              <a:tblPr/>
              <a:tblGrid>
                <a:gridCol w="2305080"/>
                <a:gridCol w="1187640"/>
                <a:gridCol w="1746360"/>
                <a:gridCol w="174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n/áre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l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rrag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Rendimiento (T/A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Costo plantar ($/A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cio Venta ($/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Demanda(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Precio compra ($/T)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Escenarios estocásticos</a:t>
            </a:r>
            <a:r>
              <a:rPr b="0" lang="es-CL" sz="4000" spc="-1" strike="noStrike">
                <a:solidFill>
                  <a:srgbClr val="d2533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220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l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rrag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d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Alt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,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Baj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3:10:51Z</dcterms:created>
  <dc:creator>Alvaro Echeverria Solis</dc:creator>
  <dc:description/>
  <dc:language>en-US</dc:language>
  <cp:lastModifiedBy>Alvaro Echeverria Solis</cp:lastModifiedBy>
  <dcterms:modified xsi:type="dcterms:W3CDTF">2010-10-06T16:45:50Z</dcterms:modified>
  <cp:revision>5</cp:revision>
  <dc:subject/>
  <dc:title>Presentación de PowerPoint</dc:title>
</cp:coreProperties>
</file>