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5C2-C369-4FA4-ACA9-4D86898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3C2-C1EC-48CD-B5DF-2268D54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028-8264-4BD4-A2F4-D947E417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733-59A6-409E-B133-1B14DF4F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3ED-904F-416A-9EF6-CA425B7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E81-4722-4A85-80EA-8F33DB89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1D3-1522-4A7D-8518-181FEDD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C491-5066-4E4F-9E57-3870B5B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339-70F7-4E31-A651-2D6CF9E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DC7A-ED58-4AB7-8D7B-C7EC301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B6C-B83C-4E60-B09A-EEFB4D2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1B8-31DA-4256-93DB-31CFF01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E3CA-9BA5-47F9-8FBD-D5C8B9DA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689-A6DC-4610-8C83-61028FD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909-8C41-4F1D-9F75-13FD26A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9B88-F505-4020-BF86-E79C0B3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F381-CF70-4CD3-8179-4B9BCAE5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9638-8284-425D-9663-DAD91AC6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E95C-910D-4D63-8536-04530ECC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C838-4690-41F9-BDDB-C830799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EAC9-06FE-421F-9435-B94DA49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C289-C0FF-43A0-9903-561DB69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14E-C042-489B-A44B-E9DE0072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7442-A487-4496-8CEC-F34936F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52D73-4763-4994-AB8F-74E064F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D379-2FA6-4426-BC82-8A7E971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FF42-2379-46AC-B687-E95BFD9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F325-0500-4215-996C-7720E6A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F15E-5023-4485-AE4E-AD273759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C53F-1AF1-43F1-B335-18C83DE4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2496-A26A-42DF-8A54-63FDDAC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1F18-AC97-440A-B6DD-E871281C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EFA1-BDCB-4EA2-9F5F-3D626EB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378-82AE-4747-ADEA-882AFC55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854B-9A16-45C8-BE3B-4443C32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FCC5-A1DD-45B0-8DBB-6EBDE462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B3C9-12E3-41C4-AE2D-A6566D6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DACE-939E-44F6-AC58-EFEA691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8644-F844-47F3-BD50-37DC26E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636B-AF6A-42B7-BE2E-76B7D6E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4064-167B-4B1F-BC76-E5AA649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C37D-477F-4395-9E9D-0A5E6B1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0923-515B-43A4-A012-73931524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E12A-945A-4EC1-987A-B2F325CA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3B0-1795-41A9-A36C-EB56FBA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BAF9-6113-4750-B54C-29B6CAD7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69C8-1A4E-4C3C-B431-857C5ED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5F89-6B6F-471B-8D1A-6A91BFE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2F33-EF38-4B57-93E8-A38AF18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E2BF-DB9B-473D-A08D-3A6BC7E7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83F4-68C6-4FEB-ACDF-1478039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6F1E-C259-482E-911C-88672BF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FBEFC-48DB-47D4-A281-A129CF4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63E9-63D4-4568-A681-4E8E30DB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1A5E-B05F-46C4-A9CC-E7D9A72D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5DC-4B42-49E2-ABB1-C60E4A8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1A27-D760-4803-9354-D00E07D3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4A1-DE96-4CBE-B325-48CB23A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39A-62C8-4C58-AC9F-794195D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D14-2A8F-4D9E-BC07-554169F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82C-BA9E-4133-BB0A-EDE9776FEAA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0CA-66E1-4871-922F-8052E4C61A5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14A-F214-4521-A316-CE5D4EECF0D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FA5-7947-4C2B-92DB-0CC2A869F2E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E92-DACF-4BF4-B919-320497A27E9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d2533c"/>
                </a:solidFill>
                <a:latin typeface="Arial"/>
              </a:rPr>
              <a:t>BENDERS’ DECOMPOSITION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7576e"/>
                </a:solidFill>
                <a:latin typeface="Arial"/>
              </a:rPr>
              <a:t>Alvaro Echeverrí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jemplo numéric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Programación en Ga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Algoritm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4" name="3 Rectángulo" descr=""/>
          <p:cNvPicPr/>
          <p:nvPr/>
        </p:nvPicPr>
        <p:blipFill>
          <a:blip r:embed="rId1"/>
          <a:stretch/>
        </p:blipFill>
        <p:spPr>
          <a:xfrm>
            <a:off x="1133640" y="1457280"/>
            <a:ext cx="7181640" cy="487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2" descr=""/>
          <p:cNvPicPr/>
          <p:nvPr/>
        </p:nvPicPr>
        <p:blipFill>
          <a:blip r:embed="rId2"/>
          <a:stretch/>
        </p:blipFill>
        <p:spPr>
          <a:xfrm>
            <a:off x="6732720" y="3068640"/>
            <a:ext cx="149544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3" descr=""/>
          <p:cNvPicPr/>
          <p:nvPr/>
        </p:nvPicPr>
        <p:blipFill>
          <a:blip r:embed="rId3"/>
          <a:stretch/>
        </p:blipFill>
        <p:spPr>
          <a:xfrm>
            <a:off x="3492360" y="3933720"/>
            <a:ext cx="210528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4" descr=""/>
          <p:cNvPicPr/>
          <p:nvPr/>
        </p:nvPicPr>
        <p:blipFill>
          <a:blip r:embed="rId4"/>
          <a:stretch/>
        </p:blipFill>
        <p:spPr>
          <a:xfrm>
            <a:off x="4211640" y="4506840"/>
            <a:ext cx="2495520" cy="3621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" descr=""/>
          <p:cNvPicPr/>
          <p:nvPr/>
        </p:nvPicPr>
        <p:blipFill>
          <a:blip r:embed="rId5"/>
          <a:stretch/>
        </p:blipFill>
        <p:spPr>
          <a:xfrm>
            <a:off x="3851280" y="5084640"/>
            <a:ext cx="1523880" cy="31428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6" descr=""/>
          <p:cNvPicPr/>
          <p:nvPr/>
        </p:nvPicPr>
        <p:blipFill>
          <a:blip r:embed="rId6"/>
          <a:stretch/>
        </p:blipFill>
        <p:spPr>
          <a:xfrm>
            <a:off x="4751280" y="5373720"/>
            <a:ext cx="2667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Problema 1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Un campo cuenta con 500 hectáreas disponibles para plantar 3 productos diferentes: trigo, choclo y betarrag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Datos inicial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l precio venta de betarraga será 36 (si demanda T≥6000) o 10(si demanda T≤6000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87280" y="3213000"/>
          <a:ext cx="6985080" cy="2225880"/>
        </p:xfrm>
        <a:graphic>
          <a:graphicData uri="http://schemas.openxmlformats.org/drawingml/2006/table">
            <a:tbl>
              <a:tblPr/>
              <a:tblGrid>
                <a:gridCol w="2305080"/>
                <a:gridCol w="1187640"/>
                <a:gridCol w="1746360"/>
                <a:gridCol w="174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/áre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ndimiento (T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sto plantar ($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Vent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emanda(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compr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Escenarios estocásticos</a:t>
            </a: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20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d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lt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Baj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0:51Z</dcterms:created>
  <dc:creator>Alvaro Echeverria Solis</dc:creator>
  <dc:description/>
  <dc:language>en-US</dc:language>
  <cp:lastModifiedBy>Alvaro Echeverria Solis</cp:lastModifiedBy>
  <dcterms:modified xsi:type="dcterms:W3CDTF">2010-10-06T16:45:50Z</dcterms:modified>
  <cp:revision>5</cp:revision>
  <dc:subject/>
  <dc:title>Presentación de PowerPoint</dc:title>
</cp:coreProperties>
</file>